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16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6280"/>
            <a:ext cx="82216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62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2562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22096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22096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62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42562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4256280"/>
            <a:ext cx="2647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680"/>
            <a:ext cx="8221680" cy="39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168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184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2209680"/>
            <a:ext cx="401184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12840"/>
            <a:ext cx="822168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2209680"/>
            <a:ext cx="401184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62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184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2562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2209680"/>
            <a:ext cx="40118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6280"/>
            <a:ext cx="82216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3240"/>
            <a:ext cx="9137520" cy="6851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2200"/>
            <a:ext cx="9144000" cy="685800"/>
          </a:xfrm>
          <a:prstGeom prst="roundRect">
            <a:avLst>
              <a:gd name="adj" fmla="val 2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553080" y="6248520"/>
            <a:ext cx="2181240" cy="36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16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168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38080"/>
            <a:ext cx="9144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 Black"/>
              </a:rPr>
              <a:t>MODULO V - Regularização Fundiária Sustentável para a Inclusão Territorial</a:t>
            </a:r>
            <a:endParaRPr b="0" lang="en-US" sz="40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94800" y="1289160"/>
            <a:ext cx="77518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Quem promove os 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programas de regularização?</a:t>
            </a:r>
            <a:r>
              <a:rPr b="0" lang="en-GB" sz="32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94800" y="3188880"/>
            <a:ext cx="7751880" cy="23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buição das responsabilidades pela regularização ent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der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unidade organ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or pri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51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Categorias de programas de regularização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95280" y="2251080"/>
            <a:ext cx="835344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rização de interesse soci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onde há direito adquirido (CF 1988, Estatuto  da Cidade, MP 2.220/2001) ou onde o Poder Público promove ação discricionária de reconhecimento do direito social de mora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rização discricionária de situações específica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upações de áreas públicas ou privadas, loteamentos irregulares, loteamentos fechado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762120" y="1295280"/>
            <a:ext cx="784548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0320" y="1349280"/>
            <a:ext cx="87627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O Novo marco legal da Regularização e instrumentos da Regula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8000" y="2781360"/>
            <a:ext cx="903600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2001"/>
              </a:spcBef>
              <a:buClr>
                <a:srgbClr val="000000"/>
              </a:buClr>
              <a:buSzPct val="200000"/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utonomia política, administrativa e tributária dos Municípios e Função Social da Propriedade Urbana e Rural – Constituição Federal de 19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spcBef>
                <a:spcPts val="2001"/>
              </a:spcBef>
              <a:buClr>
                <a:srgbClr val="000000"/>
              </a:buClr>
              <a:buSzPct val="200000"/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ireito Social à Moradia – Constituição Federal de 1988 (Emenda Constitucional 26/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spcBef>
                <a:spcPts val="2001"/>
              </a:spcBef>
              <a:buClr>
                <a:srgbClr val="000000"/>
              </a:buClr>
              <a:buSzPct val="200000"/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Estatuto da Cidade (Lei 10257 de 2001) + Medida provisória 2.220 de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79280" y="2060640"/>
            <a:ext cx="8713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pítulo I - Diretrizes Gerais, Art. 2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IV - regularização fundiária e urbanização de áreas ocupadas por população de baixa renda mediante o estabelecimento de normas especiais de urbanização, uso e ocupação do solo e edificação, consideradas a situação sócio-econômica da população e as normas ambien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30320" y="1241280"/>
            <a:ext cx="87627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 Black"/>
              </a:rPr>
              <a:t>Estatuto da C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52280" y="2349360"/>
            <a:ext cx="88934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25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idos no Estatuto da C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onas Especiais de Interesse Social (ZEI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capião especial de imóvel urbano (individual e coletiva)  Art. 9º a 14º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reito de Superfície (pode ser usado também nas áreas rurai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instrumentos de regularização fundiária previstos no Estatuto da Cidade podem ser combinados com outros instrumentos, por exemplo, ZEIS e Operações Urbanas Consorci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ido na Medida Provisória 2.220/0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cessão de uso especial para fins de moradia (individual e coletiv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rização de u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92160" y="1247760"/>
            <a:ext cx="88009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 Black"/>
              </a:rPr>
              <a:t>Instrumentos de Regularização Fundiá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52280" y="2349360"/>
            <a:ext cx="88934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25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tidos em outros diplomas legai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ssão de direito real de uso (Decreto-lei 271/1967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ção compulsór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capião do Código Civil (extraordinári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s.: Todos os instrumentos acima podem ser usados também nas áreas rur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 de imissão da posse mais cessão da posse (Lei Federal 6766/79) – somente em áreas urba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2160" y="1247760"/>
            <a:ext cx="88009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 Black"/>
              </a:rPr>
              <a:t>Instrumentos de Regularização Fundiá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50920" y="2479680"/>
            <a:ext cx="8642160" cy="36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50"/>
              </a:lnSpc>
              <a:spcBef>
                <a:spcPts val="1749"/>
              </a:spcBef>
              <a:buClr>
                <a:srgbClr val="000000"/>
              </a:buClr>
              <a:buFont typeface="Marlett" charset="2"/>
              <a:buChar char="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ma área da cidade é denominada ZEIS quando  fica reservada para moradia de interesse soci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limites da área têm de ser bem demarcados dentro da área urbanizada, no  Plano Diretor ou em lei municipal específic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ei deve conter regras claras para a gestão, urbanização e regularização dos assentamentos informais ocupados pela população de baixa re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0320" y="1295280"/>
            <a:ext cx="87627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 Black"/>
              </a:rPr>
              <a:t>ZEIS: Zonas Especiais de interesse So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04920" y="2133720"/>
            <a:ext cx="853416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50"/>
              </a:lnSpc>
              <a:spcBef>
                <a:spcPts val="913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segurar a permanência das famílias de baixa renda no loca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50"/>
              </a:lnSpc>
              <a:spcBef>
                <a:spcPts val="913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abilizar a regularizar dos assentamentos informais utilizando parâmetros especiais de uso, ocupação e parcelamento do sol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50"/>
              </a:lnSpc>
              <a:spcBef>
                <a:spcPts val="913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acilitar a regularização de áreas encortiçadas, vilas, favelas e loteamentos clandestino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spcBef>
                <a:spcPts val="913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segurar as condições legais para a urbanização da áre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913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ervar terrenos ociosos ou subutilizados para novas moradia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spcBef>
                <a:spcPts val="913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tinar prédios vazios ou subutilizados para moradia popul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0320" y="1312920"/>
            <a:ext cx="87627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 Black"/>
              </a:rPr>
              <a:t>As ZEIS</a:t>
            </a: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 servem pa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250920" y="1916280"/>
            <a:ext cx="88930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rmite a regularização em imóveis particu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quisitos exigid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ver há mais de 5 anos - permitida a soma d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ses sucessivas, desde que não tenha contestação jurídica do proprietári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o para fins de morad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área de até 250m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" y="1349280"/>
            <a:ext cx="82296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725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Usucapião Especial Ur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50920" y="1916280"/>
            <a:ext cx="8893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rmite a regularização em imóveis particu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quisitos exigid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 ocupante não pode ser proprietário de outro imóvel urbano ou rur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usucapião pode ser individual ou coletiva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entença do juiz é o documento que permite o regis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" y="1349280"/>
            <a:ext cx="82296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725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Usucapião Especial Ur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1125360"/>
            <a:ext cx="9142560" cy="1006560"/>
            <a:chOff x="0" y="1125360"/>
            <a:chExt cx="9142560" cy="1006560"/>
          </a:xfrm>
        </p:grpSpPr>
        <p:sp>
          <p:nvSpPr>
            <p:cNvPr id="43" name=""/>
            <p:cNvSpPr/>
            <p:nvPr/>
          </p:nvSpPr>
          <p:spPr>
            <a:xfrm>
              <a:off x="0" y="1125360"/>
              <a:ext cx="9142560" cy="1006560"/>
            </a:xfrm>
            <a:prstGeom prst="roundRect">
              <a:avLst>
                <a:gd name="adj" fmla="val 1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367280"/>
              <a:ext cx="914256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99"/>
                  </a:solidFill>
                  <a:latin typeface="Arial Black"/>
                  <a:ea typeface="Arial Unicode MS"/>
                </a:rPr>
                <a:t>A urbanização excludente das cidades brasileir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08000" y="2060640"/>
            <a:ext cx="8935920" cy="4456440"/>
            <a:chOff x="108000" y="2060640"/>
            <a:chExt cx="8935920" cy="4456440"/>
          </a:xfrm>
        </p:grpSpPr>
        <p:sp>
          <p:nvSpPr>
            <p:cNvPr id="46" name=""/>
            <p:cNvSpPr/>
            <p:nvPr/>
          </p:nvSpPr>
          <p:spPr>
            <a:xfrm>
              <a:off x="108000" y="2060640"/>
              <a:ext cx="8935920" cy="381312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8000" y="2060640"/>
              <a:ext cx="8935920" cy="44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334800" indent="-334800">
                <a:lnSpc>
                  <a:spcPts val="2511"/>
                </a:lnSpc>
                <a:spcBef>
                  <a:spcPts val="700"/>
                </a:spcBef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istoricamente, a urbanização brasileira ocorreu em ritmo acelerado, associada ao êxodo rural e ao modelo de desenvolvimento econômico desigua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4800" indent="-334800">
                <a:lnSpc>
                  <a:spcPts val="2511"/>
                </a:lnSpc>
                <a:spcBef>
                  <a:spcPts val="700"/>
                </a:spcBef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pesar da Lei 6766/79, que regula novos parcelamentos do solo urbano, a expansão dos assentamentos informais é regra geral nas cidades do Brasi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4800" indent="-334800">
                <a:lnSpc>
                  <a:spcPct val="102000"/>
                </a:lnSpc>
                <a:spcBef>
                  <a:spcPts val="700"/>
                </a:spcBef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 urbanização informal aparece tanto na expansão e adensamento das favelas, mocambos, palafitas e loteamentos irregulares e outros assentamentos informais ocupados pela população de baixa renda quanto nos condomínios residenciais de classe média e alta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4800" indent="-334800">
                <a:lnSpc>
                  <a:spcPct val="102000"/>
                </a:lnSpc>
                <a:spcBef>
                  <a:spcPts val="700"/>
                </a:spcBef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s atividades econômicas dos mais pobres também são atingidas – comércio/indústria informal dos micro e pequenos empreendedores popular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457200" y="1349280"/>
            <a:ext cx="82296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725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Usucapião Especial Ur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" y="3063960"/>
            <a:ext cx="8686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 morador de assentamentos informais de baixa rende tem o direito subjetivo de obter a usucapião especial urbana na justiç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79280" y="2158200"/>
            <a:ext cx="878544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8640" indent="-36036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squisa sobre o titular da propriedad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aboração de planta/croquis do imóv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lhimento de provas do tempo da posse: contas de luz, carteira de vacina do posto de saúde, comprovante de matrícula na escola, carnês de pagamento et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aminhamento de toda a documentação recolhida, além da planta de localização do imóvel, para o  Serviço de Assistência Jurídica que for atender os mor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" y="1349280"/>
            <a:ext cx="82296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725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Etapas da usucapião ur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79280" y="2134080"/>
            <a:ext cx="878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8640" indent="-360360">
              <a:lnSpc>
                <a:spcPct val="93000"/>
              </a:lnSpc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paração e ingresso das ações judiciai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ompanhamento das ações em Juíz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erbação de sentenças de usucapião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7200" y="1420920"/>
            <a:ext cx="82296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725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Etapas da usucapião ur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0" y="2296440"/>
            <a:ext cx="9144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8640" indent="-360360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rmite a regularização em imóveis públicos. Requisitos exigi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ver há mais de 5 anos sem oposição até 04 de setembro de 2001 - permitida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ma das posses suces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o predominante para mora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área de até 250m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 ocupante não pode ser proprietário de outro imóvel urbano e r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 algn="just">
              <a:lnSpc>
                <a:spcPct val="100000"/>
              </a:lnSpc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7200" y="1228680"/>
            <a:ext cx="82296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725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Concessão de uso especial para fins de mora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57200" y="1228680"/>
            <a:ext cx="82296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725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Concessão de uso especial para fins de mora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6440" y="3079800"/>
            <a:ext cx="9007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concessão de uso especial para fins de moradia pode ser obtida pelo morador administrativamente junto ao Poder Público e, caso este indefira, pode ser obtido na justiç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2495880"/>
            <a:ext cx="93250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8640" indent="-360360">
              <a:lnSpc>
                <a:spcPct val="93000"/>
              </a:lnSpc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 pedido da Concessão de Uso Especial deve infor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Identificação da área públic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nexistência de oposição jurídica à pos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>
              <a:lnSpc>
                <a:spcPct val="100000"/>
              </a:lnSpc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Descrição da á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 algn="just">
              <a:lnSpc>
                <a:spcPct val="100000"/>
              </a:lnSpc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8640" indent="-360360" algn="just">
              <a:lnSpc>
                <a:spcPct val="100000"/>
              </a:lnSpc>
              <a:tabLst>
                <a:tab algn="l" pos="0"/>
                <a:tab algn="l" pos="72864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7124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" y="1413000"/>
            <a:ext cx="82296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725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Concessão de uso especial para fins de mora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457200" y="1413000"/>
            <a:ext cx="82296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725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Concessão de uso especial para fins de mora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04920" y="3092400"/>
            <a:ext cx="853416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s casos de usucapião ou concessão de uso especial fica assegurada a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istência judiciária gratuit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statuto da Cidade, Artigo 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sses casos fica assegurada a garantia de maior rapidez na solução dessas demandas judiciais, pois o procedimento será sumário, ou seja, será mais rápido. (Estatuto da Cidade, Artigo 1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457200" y="1413000"/>
            <a:ext cx="82296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725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Concessão de direito real de uso (Decreto-Lei 271/196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3090960"/>
            <a:ext cx="85341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oncessão de direito real de uso pode ser individual e cole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Estatuto da Cidade traz a possibilidade do contrato de concessão de direito real de uso ser registrado no cartório de registro geral de imóve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"/>
          <p:cNvGrpSpPr/>
          <p:nvPr/>
        </p:nvGrpSpPr>
        <p:grpSpPr>
          <a:xfrm>
            <a:off x="555120" y="1690560"/>
            <a:ext cx="2981520" cy="4314960"/>
            <a:chOff x="555120" y="1690560"/>
            <a:chExt cx="2981520" cy="4314960"/>
          </a:xfrm>
        </p:grpSpPr>
        <p:sp>
          <p:nvSpPr>
            <p:cNvPr id="662" name=""/>
            <p:cNvSpPr/>
            <p:nvPr/>
          </p:nvSpPr>
          <p:spPr>
            <a:xfrm>
              <a:off x="1577880" y="2405160"/>
              <a:ext cx="1006560" cy="9363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09800" y="3197160"/>
              <a:ext cx="360360" cy="2519280"/>
            </a:xfrm>
            <a:custGeom>
              <a:avLst/>
              <a:gdLst>
                <a:gd name="textAreaLeft" fmla="*/ 360 w 360360"/>
                <a:gd name="textAreaRight" fmla="*/ 360000 w 360360"/>
                <a:gd name="textAreaTop" fmla="*/ 360 h 2519280"/>
                <a:gd name="textAreaBottom" fmla="*/ 2518920 h 2519280"/>
              </a:gdLst>
              <a:ahLst/>
              <a:rect l="textAreaLeft" t="textAreaTop" r="textAreaRight" b="textAreaBottom"/>
              <a:pathLst>
                <a:path w="21600" h="150877">
                  <a:moveTo>
                    <a:pt x="95" y="0"/>
                  </a:moveTo>
                  <a:arcTo wR="95" hR="95" stAng="16200000" swAng="-5400000"/>
                  <a:lnTo>
                    <a:pt x="0" y="150782"/>
                  </a:lnTo>
                  <a:arcTo wR="95" hR="95" stAng="10800000" swAng="-5400000"/>
                  <a:lnTo>
                    <a:pt x="21505" y="150877"/>
                  </a:lnTo>
                  <a:arcTo wR="95" hR="95" stAng="5400000" swAng="-5400000"/>
                  <a:lnTo>
                    <a:pt x="21600" y="95"/>
                  </a:lnTo>
                  <a:arcTo wR="95" hR="95" stAng="0" swAng="-5400000"/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73000" y="1973160"/>
              <a:ext cx="2373480" cy="3741840"/>
            </a:xfrm>
            <a:custGeom>
              <a:avLst/>
              <a:gdLst>
                <a:gd name="textAreaLeft" fmla="*/ 360 w 2373480"/>
                <a:gd name="textAreaRight" fmla="*/ 2373120 w 2373480"/>
                <a:gd name="textAreaTop" fmla="*/ 360 h 3741840"/>
                <a:gd name="textAreaBottom" fmla="*/ 3741480 h 3741840"/>
              </a:gdLst>
              <a:ahLst/>
              <a:rect l="textAreaLeft" t="textAreaTop" r="textAreaRight" b="textAreaBottom"/>
              <a:pathLst>
                <a:path w="21600" h="34051">
                  <a:moveTo>
                    <a:pt x="14" y="0"/>
                  </a:moveTo>
                  <a:arcTo wR="14" hR="14" stAng="16200000" swAng="-5400000"/>
                  <a:lnTo>
                    <a:pt x="0" y="34037"/>
                  </a:lnTo>
                  <a:arcTo wR="14" hR="14" stAng="10800000" swAng="-5400000"/>
                  <a:lnTo>
                    <a:pt x="21586" y="34051"/>
                  </a:lnTo>
                  <a:arcTo wR="14" hR="14" stAng="5400000" swAng="-5400000"/>
                  <a:lnTo>
                    <a:pt x="21600" y="14"/>
                  </a:lnTo>
                  <a:arcTo wR="14" hR="14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8640" y="1973160"/>
              <a:ext cx="1440" cy="374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90840" y="1973160"/>
              <a:ext cx="1800" cy="374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73000" y="5715000"/>
              <a:ext cx="2371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73000" y="5857920"/>
              <a:ext cx="2371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73000" y="1828800"/>
              <a:ext cx="2371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582120" y="5715000"/>
              <a:ext cx="149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3386160" y="5715000"/>
              <a:ext cx="14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582120" y="1973160"/>
              <a:ext cx="149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3386160" y="1973160"/>
              <a:ext cx="149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830160" y="1690560"/>
              <a:ext cx="180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3241800" y="1692000"/>
              <a:ext cx="144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30160" y="5870520"/>
              <a:ext cx="180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1800" y="5872320"/>
              <a:ext cx="144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555120" y="5859360"/>
              <a:ext cx="149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3440" y="5857920"/>
              <a:ext cx="144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3387240" y="5859360"/>
              <a:ext cx="149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86160" y="5873760"/>
              <a:ext cx="144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3387240" y="1846440"/>
              <a:ext cx="149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371760" y="1708200"/>
              <a:ext cx="180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569520" y="1832040"/>
              <a:ext cx="149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731880" y="1692000"/>
              <a:ext cx="144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090880" y="1969920"/>
              <a:ext cx="1440" cy="43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522160" y="1969920"/>
              <a:ext cx="71604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58960" y="1969920"/>
              <a:ext cx="839520" cy="5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855360" y="2898720"/>
              <a:ext cx="716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2511000" y="2886120"/>
              <a:ext cx="716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73000" y="3463920"/>
              <a:ext cx="1028880" cy="1089000"/>
            </a:xfrm>
            <a:custGeom>
              <a:avLst/>
              <a:gdLst>
                <a:gd name="textAreaLeft" fmla="*/ 360 w 1028880"/>
                <a:gd name="textAreaRight" fmla="*/ 1028520 w 102888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2862">
                  <a:moveTo>
                    <a:pt x="33" y="0"/>
                  </a:moveTo>
                  <a:arcTo wR="33" hR="33" stAng="16200000" swAng="-5400000"/>
                  <a:lnTo>
                    <a:pt x="0" y="22829"/>
                  </a:lnTo>
                  <a:arcTo wR="33" hR="33" stAng="10800000" swAng="-5400000"/>
                  <a:lnTo>
                    <a:pt x="21567" y="22862"/>
                  </a:lnTo>
                  <a:arcTo wR="33" hR="33" stAng="5400000" swAng="-5400000"/>
                  <a:lnTo>
                    <a:pt x="21600" y="33"/>
                  </a:lnTo>
                  <a:arcTo wR="33" hR="3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73000" y="5102280"/>
              <a:ext cx="1028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78080" y="3941640"/>
              <a:ext cx="957240" cy="1336680"/>
            </a:xfrm>
            <a:custGeom>
              <a:avLst/>
              <a:gdLst>
                <a:gd name="textAreaLeft" fmla="*/ 360 w 957240"/>
                <a:gd name="textAreaRight" fmla="*/ 956880 w 957240"/>
                <a:gd name="textAreaTop" fmla="*/ 360 h 1336680"/>
                <a:gd name="textAreaBottom" fmla="*/ 1336320 h 1336680"/>
              </a:gdLst>
              <a:ahLst/>
              <a:rect l="textAreaLeft" t="textAreaTop" r="textAreaRight" b="textAreaBottom"/>
              <a:pathLst>
                <a:path w="21600" h="30159">
                  <a:moveTo>
                    <a:pt x="35" y="0"/>
                  </a:moveTo>
                  <a:arcTo wR="35" hR="35" stAng="16200000" swAng="-5400000"/>
                  <a:lnTo>
                    <a:pt x="0" y="30124"/>
                  </a:lnTo>
                  <a:arcTo wR="35" hR="35" stAng="10800000" swAng="-5400000"/>
                  <a:lnTo>
                    <a:pt x="21565" y="30159"/>
                  </a:lnTo>
                  <a:arcTo wR="35" hR="35" stAng="5400000" swAng="-5400000"/>
                  <a:lnTo>
                    <a:pt x="21600" y="35"/>
                  </a:lnTo>
                  <a:arcTo wR="35" hR="35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78080" y="3492360"/>
              <a:ext cx="9572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530520" y="3457440"/>
            <a:ext cx="392040" cy="247680"/>
          </a:xfrm>
          <a:prstGeom prst="roundRect">
            <a:avLst>
              <a:gd name="adj" fmla="val 63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3990960" y="3044880"/>
            <a:ext cx="5178600" cy="1314360"/>
            <a:chOff x="3990960" y="3044880"/>
            <a:chExt cx="5178600" cy="1314360"/>
          </a:xfrm>
        </p:grpSpPr>
        <p:sp>
          <p:nvSpPr>
            <p:cNvPr id="697" name=""/>
            <p:cNvSpPr/>
            <p:nvPr/>
          </p:nvSpPr>
          <p:spPr>
            <a:xfrm>
              <a:off x="3990960" y="3044880"/>
              <a:ext cx="5178600" cy="1314360"/>
            </a:xfrm>
            <a:prstGeom prst="roundRect">
              <a:avLst>
                <a:gd name="adj" fmla="val 12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93840" y="3044880"/>
              <a:ext cx="5172480" cy="1294200"/>
            </a:xfrm>
            <a:prstGeom prst="roundRect">
              <a:avLst>
                <a:gd name="adj" fmla="val 12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OTES COM MAIS DE 250 METROS QUADR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BINAÇÃO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DE CONCESSÃO DE USO ESPE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ARA FINS DE MORADIA E CONCESSÃO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ITO REAL DE USO (caso preencham 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quisitos legai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3532320" y="4759200"/>
            <a:ext cx="392040" cy="247680"/>
          </a:xfrm>
          <a:prstGeom prst="roundRect">
            <a:avLst>
              <a:gd name="adj" fmla="val 6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98480" y="1887480"/>
            <a:ext cx="2511360" cy="3903840"/>
          </a:xfrm>
          <a:custGeom>
            <a:avLst/>
            <a:gdLst>
              <a:gd name="textAreaLeft" fmla="*/ 360 w 2511360"/>
              <a:gd name="textAreaRight" fmla="*/ 2511000 w 2511360"/>
              <a:gd name="textAreaTop" fmla="*/ 360 h 3903840"/>
              <a:gd name="textAreaBottom" fmla="*/ 3903480 h 3903840"/>
            </a:gdLst>
            <a:ahLst/>
            <a:rect l="textAreaLeft" t="textAreaTop" r="textAreaRight" b="textAreaBottom"/>
            <a:pathLst>
              <a:path w="21600" h="33575">
                <a:moveTo>
                  <a:pt x="13" y="0"/>
                </a:moveTo>
                <a:arcTo wR="13" hR="13" stAng="16200000" swAng="-5400000"/>
                <a:lnTo>
                  <a:pt x="0" y="33562"/>
                </a:lnTo>
                <a:arcTo wR="13" hR="13" stAng="10800000" swAng="-5400000"/>
                <a:lnTo>
                  <a:pt x="21587" y="33575"/>
                </a:lnTo>
                <a:arcTo wR="13" hR="13" stAng="5400000" swAng="-5400000"/>
                <a:lnTo>
                  <a:pt x="21600" y="13"/>
                </a:lnTo>
                <a:arcTo wR="13" hR="13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546360" y="2644920"/>
            <a:ext cx="392400" cy="247680"/>
          </a:xfrm>
          <a:prstGeom prst="roundRect">
            <a:avLst>
              <a:gd name="adj" fmla="val 63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992400" y="2603520"/>
            <a:ext cx="3770640" cy="336600"/>
            <a:chOff x="3992400" y="2603520"/>
            <a:chExt cx="3770640" cy="336600"/>
          </a:xfrm>
        </p:grpSpPr>
        <p:sp>
          <p:nvSpPr>
            <p:cNvPr id="703" name=""/>
            <p:cNvSpPr/>
            <p:nvPr/>
          </p:nvSpPr>
          <p:spPr>
            <a:xfrm>
              <a:off x="3992400" y="2603520"/>
              <a:ext cx="377064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994560" y="2603520"/>
              <a:ext cx="3765960" cy="3207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IMITES DA ZEIS EM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ÁREA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3992400" y="4375080"/>
            <a:ext cx="4827600" cy="1314360"/>
            <a:chOff x="3992400" y="4375080"/>
            <a:chExt cx="4827600" cy="1314360"/>
          </a:xfrm>
        </p:grpSpPr>
        <p:sp>
          <p:nvSpPr>
            <p:cNvPr id="706" name=""/>
            <p:cNvSpPr/>
            <p:nvPr/>
          </p:nvSpPr>
          <p:spPr>
            <a:xfrm>
              <a:off x="3992400" y="4375080"/>
              <a:ext cx="4827600" cy="1314360"/>
            </a:xfrm>
            <a:prstGeom prst="roundRect">
              <a:avLst>
                <a:gd name="adj" fmla="val 12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92760" y="4375080"/>
              <a:ext cx="4826520" cy="1294200"/>
            </a:xfrm>
            <a:prstGeom prst="roundRect">
              <a:avLst>
                <a:gd name="adj" fmla="val 12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OTES COM ATÉ 250 METROS QUADR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CESSÃO DE USO ESPECIAL PARA FINS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RADIA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U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CONCESSÃO DE DIREITO RE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E USO (caso preencham os requisitos legai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762120" y="1295280"/>
            <a:ext cx="784548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79280" y="1203480"/>
            <a:ext cx="8780400" cy="1428480"/>
            <a:chOff x="179280" y="1203480"/>
            <a:chExt cx="8780400" cy="1428480"/>
          </a:xfrm>
        </p:grpSpPr>
        <p:sp>
          <p:nvSpPr>
            <p:cNvPr id="710" name=""/>
            <p:cNvSpPr/>
            <p:nvPr/>
          </p:nvSpPr>
          <p:spPr>
            <a:xfrm>
              <a:off x="179280" y="1203480"/>
              <a:ext cx="8780400" cy="1428480"/>
            </a:xfrm>
            <a:prstGeom prst="roundRect">
              <a:avLst>
                <a:gd name="adj" fmla="val 11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9280" y="1385640"/>
              <a:ext cx="8780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 Black"/>
                </a:rPr>
                <a:t>A Regularização Fundiária Sustentável no Plano Diret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395280" y="2827440"/>
            <a:ext cx="8348760" cy="3294360"/>
            <a:chOff x="395280" y="2827440"/>
            <a:chExt cx="8348760" cy="3294360"/>
          </a:xfrm>
        </p:grpSpPr>
        <p:sp>
          <p:nvSpPr>
            <p:cNvPr id="713" name=""/>
            <p:cNvSpPr/>
            <p:nvPr/>
          </p:nvSpPr>
          <p:spPr>
            <a:xfrm>
              <a:off x="395280" y="2827440"/>
              <a:ext cx="8348760" cy="3090600"/>
            </a:xfrm>
            <a:prstGeom prst="roundRect">
              <a:avLst>
                <a:gd name="adj" fmla="val 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5280" y="2827440"/>
              <a:ext cx="8348760" cy="32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4800" indent="-334800">
                <a:lnSpc>
                  <a:spcPts val="3600"/>
                </a:lnSpc>
                <a:buClr>
                  <a:srgbClr val="000000"/>
                </a:buClr>
                <a:buSzPct val="200000"/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emarcação e classificação das ZEIS em assentamentos informais ocupados pela população de baixa renda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4800" indent="-334800">
                <a:lnSpc>
                  <a:spcPts val="3600"/>
                </a:lnSpc>
                <a:buClr>
                  <a:srgbClr val="000000"/>
                </a:buClr>
                <a:buSzPct val="200000"/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efinição dos instrumentos para a regularização fundiária e as regras para sua aplicação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4800" indent="-334800">
                <a:lnSpc>
                  <a:spcPts val="3600"/>
                </a:lnSpc>
                <a:buClr>
                  <a:srgbClr val="000000"/>
                </a:buClr>
                <a:buSzPct val="200000"/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efinição das diretrizes e regras para a urbanização e gestão democrática das ZEI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447920"/>
            <a:ext cx="9140760" cy="1089000"/>
            <a:chOff x="0" y="1447920"/>
            <a:chExt cx="9140760" cy="1089000"/>
          </a:xfrm>
        </p:grpSpPr>
        <p:sp>
          <p:nvSpPr>
            <p:cNvPr id="49" name=""/>
            <p:cNvSpPr/>
            <p:nvPr/>
          </p:nvSpPr>
          <p:spPr>
            <a:xfrm>
              <a:off x="0" y="1447920"/>
              <a:ext cx="9140760" cy="108900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515240"/>
              <a:ext cx="914076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99"/>
                  </a:solidFill>
                  <a:latin typeface="Arial Black"/>
                  <a:ea typeface="Arial Unicode MS"/>
                </a:rPr>
                <a:t>A urbanização excludente </a:t>
              </a:r>
              <a:br>
                <a:rPr sz="2800"/>
              </a:br>
              <a:r>
                <a:rPr b="0" lang="en-GB" sz="2800" spc="-1" strike="noStrike">
                  <a:solidFill>
                    <a:srgbClr val="333399"/>
                  </a:solidFill>
                  <a:latin typeface="Arial Black"/>
                  <a:ea typeface="Arial Unicode MS"/>
                </a:rPr>
                <a:t>das cidades brasileir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04920" y="3048120"/>
            <a:ext cx="8362800" cy="2663640"/>
            <a:chOff x="304920" y="3048120"/>
            <a:chExt cx="8362800" cy="2663640"/>
          </a:xfrm>
        </p:grpSpPr>
        <p:sp>
          <p:nvSpPr>
            <p:cNvPr id="52" name=""/>
            <p:cNvSpPr/>
            <p:nvPr/>
          </p:nvSpPr>
          <p:spPr>
            <a:xfrm>
              <a:off x="304920" y="3048120"/>
              <a:ext cx="8362800" cy="2663640"/>
            </a:xfrm>
            <a:prstGeom prst="roundRect">
              <a:avLst>
                <a:gd name="adj" fmla="val 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3048120"/>
              <a:ext cx="8362800" cy="22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334800" indent="-334800">
                <a:lnSpc>
                  <a:spcPts val="2511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oncentração de oportunidades urbanas em benefício dos grupos sociais com maior poder aquisitivo;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4800" indent="-334800">
                <a:lnSpc>
                  <a:spcPct val="102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4800" indent="-334800">
                <a:lnSpc>
                  <a:spcPct val="102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esigualdade no acesso à infra-estrutura urbana, espaços públicos e equipamentos comunitários de educação, saúde, lazer, cultura, e etc.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"/>
          <p:cNvGrpSpPr/>
          <p:nvPr/>
        </p:nvGrpSpPr>
        <p:grpSpPr>
          <a:xfrm>
            <a:off x="371520" y="1066680"/>
            <a:ext cx="8542440" cy="1576440"/>
            <a:chOff x="371520" y="1066680"/>
            <a:chExt cx="8542440" cy="1576440"/>
          </a:xfrm>
        </p:grpSpPr>
        <p:sp>
          <p:nvSpPr>
            <p:cNvPr id="716" name=""/>
            <p:cNvSpPr/>
            <p:nvPr/>
          </p:nvSpPr>
          <p:spPr>
            <a:xfrm>
              <a:off x="371520" y="1066680"/>
              <a:ext cx="8542440" cy="1576440"/>
            </a:xfrm>
            <a:prstGeom prst="roundRect">
              <a:avLst>
                <a:gd name="adj" fmla="val 9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1520" y="1338480"/>
              <a:ext cx="854244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51480" bIns="514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333399"/>
                  </a:solidFill>
                  <a:latin typeface="Arial Black"/>
                  <a:ea typeface="Arial Unicode MS"/>
                </a:rPr>
                <a:t>A importância do Plano Diretor na prevenção da informalidade</a:t>
              </a:r>
              <a:r>
                <a:rPr b="1" lang="en-GB" sz="3200" spc="-1" strike="noStrike">
                  <a:solidFill>
                    <a:srgbClr val="ff0000"/>
                  </a:solidFill>
                  <a:latin typeface="Arial Black"/>
                  <a:ea typeface="Arial Unicode MS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30320" y="2509920"/>
            <a:ext cx="9010440" cy="4201920"/>
            <a:chOff x="130320" y="2509920"/>
            <a:chExt cx="9010440" cy="4201920"/>
          </a:xfrm>
        </p:grpSpPr>
        <p:sp>
          <p:nvSpPr>
            <p:cNvPr id="719" name=""/>
            <p:cNvSpPr/>
            <p:nvPr/>
          </p:nvSpPr>
          <p:spPr>
            <a:xfrm>
              <a:off x="130320" y="2509920"/>
              <a:ext cx="9010440" cy="420192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30320" y="2509920"/>
              <a:ext cx="901044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51480" bIns="51480" anchor="t">
              <a:spAutoFit/>
            </a:bodyPr>
            <a:p>
              <a:pPr marL="312840" indent="-312840" algn="just">
                <a:lnSpc>
                  <a:spcPct val="93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312840"/>
                  <a:tab algn="l" pos="760320"/>
                  <a:tab algn="l" pos="1209600"/>
                  <a:tab algn="l" pos="1658880"/>
                  <a:tab algn="l" pos="2108160"/>
                  <a:tab algn="l" pos="2557440"/>
                  <a:tab algn="l" pos="3006720"/>
                  <a:tab algn="l" pos="3456000"/>
                  <a:tab algn="l" pos="3905280"/>
                  <a:tab algn="l" pos="4354560"/>
                  <a:tab algn="l" pos="4803840"/>
                  <a:tab algn="l" pos="5253120"/>
                  <a:tab algn="l" pos="5702400"/>
                  <a:tab algn="l" pos="6151680"/>
                  <a:tab algn="l" pos="6600960"/>
                  <a:tab algn="l" pos="7050240"/>
                  <a:tab algn="l" pos="7499520"/>
                  <a:tab algn="l" pos="7948440"/>
                  <a:tab algn="l" pos="8397720"/>
                  <a:tab algn="l" pos="8847000"/>
                  <a:tab algn="l" pos="929628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aior oferta de lotes com serviços, em áreas centrais, em preços acessíveis e quantidade suficientes, produzidos pelo Poder Público, setor privado e cooperativa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840" indent="-312840" algn="just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312840"/>
                  <a:tab algn="l" pos="760320"/>
                  <a:tab algn="l" pos="1209600"/>
                  <a:tab algn="l" pos="1658880"/>
                  <a:tab algn="l" pos="2108160"/>
                  <a:tab algn="l" pos="2557440"/>
                  <a:tab algn="l" pos="3006720"/>
                  <a:tab algn="l" pos="3456000"/>
                  <a:tab algn="l" pos="3905280"/>
                  <a:tab algn="l" pos="4354560"/>
                  <a:tab algn="l" pos="4803840"/>
                  <a:tab algn="l" pos="5253120"/>
                  <a:tab algn="l" pos="5702400"/>
                  <a:tab algn="l" pos="6151680"/>
                  <a:tab algn="l" pos="6600960"/>
                  <a:tab algn="l" pos="7050240"/>
                  <a:tab algn="l" pos="7499520"/>
                  <a:tab algn="l" pos="7948440"/>
                  <a:tab algn="l" pos="8397720"/>
                  <a:tab algn="l" pos="8847000"/>
                  <a:tab algn="l" pos="929628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olíticas de requalificação de áreas centrais e de ocupação de vazios urbanos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840" indent="-312840" algn="just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312840"/>
                  <a:tab algn="l" pos="760320"/>
                  <a:tab algn="l" pos="1209600"/>
                  <a:tab algn="l" pos="1658880"/>
                  <a:tab algn="l" pos="2108160"/>
                  <a:tab algn="l" pos="2557440"/>
                  <a:tab algn="l" pos="3006720"/>
                  <a:tab algn="l" pos="3456000"/>
                  <a:tab algn="l" pos="3905280"/>
                  <a:tab algn="l" pos="4354560"/>
                  <a:tab algn="l" pos="4803840"/>
                  <a:tab algn="l" pos="5253120"/>
                  <a:tab algn="l" pos="5702400"/>
                  <a:tab algn="l" pos="6151680"/>
                  <a:tab algn="l" pos="6600960"/>
                  <a:tab algn="l" pos="7050240"/>
                  <a:tab algn="l" pos="7499520"/>
                  <a:tab algn="l" pos="7948440"/>
                  <a:tab algn="l" pos="8397720"/>
                  <a:tab algn="l" pos="8847000"/>
                  <a:tab algn="l" pos="929628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ecanismos de crédito e financiamento - relação com a gestão social da valorização imobiliária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762120" y="1295280"/>
            <a:ext cx="784548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324000" y="981000"/>
            <a:ext cx="8562960" cy="1427400"/>
            <a:chOff x="324000" y="981000"/>
            <a:chExt cx="8562960" cy="1427400"/>
          </a:xfrm>
        </p:grpSpPr>
        <p:sp>
          <p:nvSpPr>
            <p:cNvPr id="723" name=""/>
            <p:cNvSpPr/>
            <p:nvPr/>
          </p:nvSpPr>
          <p:spPr>
            <a:xfrm>
              <a:off x="324000" y="981000"/>
              <a:ext cx="8562960" cy="1427400"/>
            </a:xfrm>
            <a:prstGeom prst="roundRect">
              <a:avLst>
                <a:gd name="adj" fmla="val 11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4000" y="1160280"/>
              <a:ext cx="8562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 Black"/>
                </a:rPr>
                <a:t>Passo a passo da Regularização Fundiária Sustentá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179280" y="2205000"/>
            <a:ext cx="88855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ºetapa: Levantamentos nos assentamentos inform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tuação fundiár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ções topográfic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áreas de ris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-estruturas existent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portes públicos existent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tema viá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islação vige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dastro dos imóve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dastro sócio-economico dos morado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ções de urbanização projetadas e ex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762120" y="1295280"/>
            <a:ext cx="784548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324000" y="987480"/>
            <a:ext cx="8562960" cy="1427040"/>
            <a:chOff x="324000" y="987480"/>
            <a:chExt cx="8562960" cy="1427040"/>
          </a:xfrm>
        </p:grpSpPr>
        <p:sp>
          <p:nvSpPr>
            <p:cNvPr id="728" name=""/>
            <p:cNvSpPr/>
            <p:nvPr/>
          </p:nvSpPr>
          <p:spPr>
            <a:xfrm>
              <a:off x="324000" y="987480"/>
              <a:ext cx="8562960" cy="1427040"/>
            </a:xfrm>
            <a:prstGeom prst="roundRect">
              <a:avLst>
                <a:gd name="adj" fmla="val 11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24000" y="1166400"/>
              <a:ext cx="8562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 Black"/>
                </a:rPr>
                <a:t>Passo a passo da Regularização Fundiária Sustentá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179280" y="2529000"/>
            <a:ext cx="8885520" cy="29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ºetapa: Diagnóstico e Pro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álise das irregularidades fundiárias existentes a partir dos levantamentos realiza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ção dos instrumentos para a solução da irregularidade fundiár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aboração de projeto urbanístico, parcelamento, infra-estrutura básica e complementares quando necessá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aboração de planos de remoção quando necessá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762120" y="1295280"/>
            <a:ext cx="784548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324000" y="1052640"/>
            <a:ext cx="8562960" cy="1427040"/>
            <a:chOff x="324000" y="1052640"/>
            <a:chExt cx="8562960" cy="1427040"/>
          </a:xfrm>
        </p:grpSpPr>
        <p:sp>
          <p:nvSpPr>
            <p:cNvPr id="733" name=""/>
            <p:cNvSpPr/>
            <p:nvPr/>
          </p:nvSpPr>
          <p:spPr>
            <a:xfrm>
              <a:off x="324000" y="1052640"/>
              <a:ext cx="8562960" cy="1427040"/>
            </a:xfrm>
            <a:prstGeom prst="roundRect">
              <a:avLst>
                <a:gd name="adj" fmla="val 11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4000" y="1231560"/>
              <a:ext cx="8562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 Black"/>
                </a:rPr>
                <a:t>Passo a passo da Regularização Fundiária Sustentá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152280" y="2514600"/>
            <a:ext cx="87598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ºetapa: Ações administrativas e jurídicas pertinentes a regularização em área pública ou privada até a t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ÁREAS PÚBLICAS: CDRU, Concessão de Uso Especial para Fins de Moradia, Direito de Superfície, Registro de Auto Imissão na Posse + Cessão da Pos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ÁREAS PRIVADAS: Desapropriação, Usucapião, Usucapião Especial Urbano, Regularização Ex-Off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762120" y="1295280"/>
            <a:ext cx="784548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324000" y="987480"/>
            <a:ext cx="8562960" cy="1427040"/>
            <a:chOff x="324000" y="987480"/>
            <a:chExt cx="8562960" cy="1427040"/>
          </a:xfrm>
        </p:grpSpPr>
        <p:sp>
          <p:nvSpPr>
            <p:cNvPr id="738" name=""/>
            <p:cNvSpPr/>
            <p:nvPr/>
          </p:nvSpPr>
          <p:spPr>
            <a:xfrm>
              <a:off x="324000" y="987480"/>
              <a:ext cx="8562960" cy="1427040"/>
            </a:xfrm>
            <a:prstGeom prst="roundRect">
              <a:avLst>
                <a:gd name="adj" fmla="val 11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24000" y="1166400"/>
              <a:ext cx="8562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 Black"/>
                </a:rPr>
                <a:t>Passo a passo da Regularização Fundiária Sustentá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79280" y="2806560"/>
            <a:ext cx="8885520" cy="35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Regularizaçã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 officio: Procedimentos em que a Prefeitura susbtitui o parcelador faltoso e implementa ações de regularização fundiá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s depósitos das prestações são feitos em conta bancária (aberta sob decisão judicial) enquanto o loteamento estiver ir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ção civil no Ministério Público: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para obrigar o loteador a realizar obras e regularizar o lotea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95280"/>
            <a:ext cx="784548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324000" y="1130400"/>
            <a:ext cx="8564400" cy="1217520"/>
            <a:chOff x="324000" y="1130400"/>
            <a:chExt cx="8564400" cy="1217520"/>
          </a:xfrm>
        </p:grpSpPr>
        <p:sp>
          <p:nvSpPr>
            <p:cNvPr id="743" name=""/>
            <p:cNvSpPr/>
            <p:nvPr/>
          </p:nvSpPr>
          <p:spPr>
            <a:xfrm>
              <a:off x="324000" y="1130400"/>
              <a:ext cx="8564400" cy="121752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24000" y="1206360"/>
              <a:ext cx="8564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 Black"/>
                </a:rPr>
                <a:t>Passo a passo da Regularização Fundiária Sustentá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108000" y="2276640"/>
            <a:ext cx="88851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****IMPORTANTE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OS OPERADORES DE DIREITO DEVEM PARTICIPAR DESDE O INÍCIO DO 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S LEIS DEVEM SER SIMPLIFICADAS E SEM EXIG~ENCIAS DESCAB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ODAS AS AÇÕES DE REGULARIZAÇÃO FUNDIÁRIA DEVEM LEVAR AO REGISTRO DOS INSTRUMENTOS CONTRATUAIS NO CARTÓRIO DE REGISTRO DE IMÓVE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LEI FEDERAL 10.931/2004 – GRATUIDADE DO PRIMEIRO REGISTRO DA REGULARIZAÇÃO PROMOVIDA PELO PODER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119160" y="2289240"/>
            <a:ext cx="894564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06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º Etapa: Monitor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amento e controle social a partir do cronograma de ações e ob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elho Gestor (quando necessário) com a participação da comunidade envolvida no processo de regularização fundiária (nas Z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BS: A participação da comunidade deve ocorrer em todas as etapas do proces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324000" y="981000"/>
            <a:ext cx="8562960" cy="1427400"/>
            <a:chOff x="324000" y="981000"/>
            <a:chExt cx="8562960" cy="1427400"/>
          </a:xfrm>
        </p:grpSpPr>
        <p:sp>
          <p:nvSpPr>
            <p:cNvPr id="748" name=""/>
            <p:cNvSpPr/>
            <p:nvPr/>
          </p:nvSpPr>
          <p:spPr>
            <a:xfrm>
              <a:off x="324000" y="981000"/>
              <a:ext cx="8562960" cy="1427400"/>
            </a:xfrm>
            <a:prstGeom prst="roundRect">
              <a:avLst>
                <a:gd name="adj" fmla="val 11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4000" y="1160280"/>
              <a:ext cx="8562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 Black"/>
                </a:rPr>
                <a:t>Passo a passo da Regularização Fundiária Sustentá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426960" y="1076400"/>
            <a:ext cx="82296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725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Impactos da Regularização Fundiá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79280" y="2249640"/>
            <a:ext cx="8802720" cy="3758760"/>
            <a:chOff x="179280" y="2249640"/>
            <a:chExt cx="8802720" cy="3758760"/>
          </a:xfrm>
        </p:grpSpPr>
        <p:sp>
          <p:nvSpPr>
            <p:cNvPr id="752" name=""/>
            <p:cNvSpPr/>
            <p:nvPr/>
          </p:nvSpPr>
          <p:spPr>
            <a:xfrm>
              <a:off x="179280" y="2249640"/>
              <a:ext cx="8802720" cy="3700440"/>
            </a:xfrm>
            <a:prstGeom prst="roundRect">
              <a:avLst>
                <a:gd name="adj" fmla="val 42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79280" y="2249640"/>
              <a:ext cx="8802720" cy="37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013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MELHORIA DA QUALIDADE DE VIDA DOS MORAD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1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AQUISIÇÃO DE SEGURANÇA NA POSSE DA MORAD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1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MAIOR INTEGRAÇÃO URBANA COM O ENTORNO E INGRESSO NO MUNDO DA “LEGALIDADE URBANA”, GER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1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SENTIMENTO DE CIDADANIA E PERTENC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1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DILUIÇÃO DO ESTIGMA NEG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1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ELEVAÇÃO DO NÍVEL DE ORGANIZAÇÃO INTERNA DA COMUN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VALORIZAÇÃO SIGNIFICATIVA DOS IMÓVEIS, PODENDO IMPLICAR EM SUBSTITUIÇÃO PARCIAL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POPUL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395280" y="1349280"/>
            <a:ext cx="8424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725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Sustentabilidade Econô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2666880"/>
            <a:ext cx="9144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05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INTERVENÇÃO INTEGRADA TEM UM CUSTO ALTO E DIFÍCILMENTE CONSEGUE SER BANCADA EM GRANDE ESCALA PELO ORÇAMENTO MUNICIP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5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IDEAL EM TERMOS DE SUSTENTABILIDADE ECONÔMICA É  A   CONJUGAÇÃO DE RECUR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66680" y="2419200"/>
            <a:ext cx="8555040" cy="4435920"/>
            <a:chOff x="166680" y="2419200"/>
            <a:chExt cx="8555040" cy="4435920"/>
          </a:xfrm>
        </p:grpSpPr>
        <p:sp>
          <p:nvSpPr>
            <p:cNvPr id="55" name=""/>
            <p:cNvSpPr/>
            <p:nvPr/>
          </p:nvSpPr>
          <p:spPr>
            <a:xfrm>
              <a:off x="289080" y="2421000"/>
              <a:ext cx="8432640" cy="4405320"/>
            </a:xfrm>
            <a:prstGeom prst="roundRect">
              <a:avLst>
                <a:gd name="adj" fmla="val 3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9720" y="2471760"/>
              <a:ext cx="8080560" cy="3295800"/>
            </a:xfrm>
            <a:prstGeom prst="roundRect">
              <a:avLst>
                <a:gd name="adj" fmla="val 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9720" y="5765760"/>
              <a:ext cx="8080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9720" y="4665600"/>
              <a:ext cx="8080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9720" y="4121280"/>
              <a:ext cx="8080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9720" y="3571920"/>
              <a:ext cx="8080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9720" y="3021120"/>
              <a:ext cx="8080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9720" y="2471760"/>
              <a:ext cx="8080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5480" y="5214960"/>
              <a:ext cx="250920" cy="77760"/>
            </a:xfrm>
            <a:prstGeom prst="roundRect">
              <a:avLst>
                <a:gd name="adj" fmla="val 2083"/>
              </a:avLst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44760" y="4376880"/>
              <a:ext cx="250920" cy="839520"/>
            </a:xfrm>
            <a:custGeom>
              <a:avLst/>
              <a:gdLst>
                <a:gd name="textAreaLeft" fmla="*/ 360 w 250920"/>
                <a:gd name="textAreaRight" fmla="*/ 250560 w 250920"/>
                <a:gd name="textAreaTop" fmla="*/ 360 h 839520"/>
                <a:gd name="textAreaBottom" fmla="*/ 839160 h 839520"/>
              </a:gdLst>
              <a:ahLst/>
              <a:rect l="textAreaLeft" t="textAreaTop" r="textAreaRight" b="textAreaBottom"/>
              <a:pathLst>
                <a:path w="21600" h="72196">
                  <a:moveTo>
                    <a:pt x="136" y="0"/>
                  </a:moveTo>
                  <a:arcTo wR="136" hR="136" stAng="16200000" swAng="-5400000"/>
                  <a:lnTo>
                    <a:pt x="0" y="72060"/>
                  </a:lnTo>
                  <a:arcTo wR="136" hR="136" stAng="10800000" swAng="-5400000"/>
                  <a:lnTo>
                    <a:pt x="21464" y="72196"/>
                  </a:lnTo>
                  <a:arcTo wR="136" hR="136" stAng="5400000" swAng="-5400000"/>
                  <a:lnTo>
                    <a:pt x="21600" y="136"/>
                  </a:lnTo>
                  <a:arcTo wR="136" hR="136" stAng="0" swAng="-5400000"/>
                  <a:close/>
                </a:path>
              </a:pathLst>
            </a:cu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64040" y="3121200"/>
              <a:ext cx="250920" cy="2095200"/>
            </a:xfrm>
            <a:custGeom>
              <a:avLst/>
              <a:gdLst>
                <a:gd name="textAreaLeft" fmla="*/ 360 w 250920"/>
                <a:gd name="textAreaRight" fmla="*/ 250560 w 250920"/>
                <a:gd name="textAreaTop" fmla="*/ 360 h 2095200"/>
                <a:gd name="textAreaBottom" fmla="*/ 2094840 h 2095200"/>
              </a:gdLst>
              <a:ahLst/>
              <a:rect l="textAreaLeft" t="textAreaTop" r="textAreaRight" b="textAreaBottom"/>
              <a:pathLst>
                <a:path w="21600" h="180134">
                  <a:moveTo>
                    <a:pt x="136" y="0"/>
                  </a:moveTo>
                  <a:arcTo wR="136" hR="136" stAng="16200000" swAng="-5400000"/>
                  <a:lnTo>
                    <a:pt x="0" y="179998"/>
                  </a:lnTo>
                  <a:arcTo wR="136" hR="136" stAng="10800000" swAng="-5400000"/>
                  <a:lnTo>
                    <a:pt x="21464" y="180134"/>
                  </a:lnTo>
                  <a:arcTo wR="136" hR="136" stAng="5400000" swAng="-5400000"/>
                  <a:lnTo>
                    <a:pt x="21600" y="136"/>
                  </a:lnTo>
                  <a:arcTo wR="136" hR="136" stAng="0" swAng="-5400000"/>
                  <a:close/>
                </a:path>
              </a:pathLst>
            </a:cu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64240" y="3672000"/>
              <a:ext cx="249120" cy="1544400"/>
            </a:xfrm>
            <a:custGeom>
              <a:avLst/>
              <a:gdLst>
                <a:gd name="textAreaLeft" fmla="*/ 360 w 249120"/>
                <a:gd name="textAreaRight" fmla="*/ 248760 w 249120"/>
                <a:gd name="textAreaTop" fmla="*/ 360 h 1544400"/>
                <a:gd name="textAreaBottom" fmla="*/ 1544040 h 1544400"/>
              </a:gdLst>
              <a:ahLst/>
              <a:rect l="textAreaLeft" t="textAreaTop" r="textAreaRight" b="textAreaBottom"/>
              <a:pathLst>
                <a:path w="21600" h="133745">
                  <a:moveTo>
                    <a:pt x="138" y="0"/>
                  </a:moveTo>
                  <a:arcTo wR="138" hR="138" stAng="16200000" swAng="-5400000"/>
                  <a:lnTo>
                    <a:pt x="0" y="133607"/>
                  </a:lnTo>
                  <a:arcTo wR="138" hR="138" stAng="10800000" swAng="-5400000"/>
                  <a:lnTo>
                    <a:pt x="21462" y="133745"/>
                  </a:lnTo>
                  <a:arcTo wR="138" hR="138" stAng="5400000" swAng="-5400000"/>
                  <a:lnTo>
                    <a:pt x="21600" y="138"/>
                  </a:lnTo>
                  <a:arcTo wR="138" hR="138" stAng="0" swAng="-5400000"/>
                  <a:close/>
                </a:path>
              </a:pathLst>
            </a:cu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84960" y="4940280"/>
              <a:ext cx="249480" cy="277920"/>
            </a:xfrm>
            <a:custGeom>
              <a:avLst/>
              <a:gdLst>
                <a:gd name="textAreaLeft" fmla="*/ 360 w 249480"/>
                <a:gd name="textAreaRight" fmla="*/ 249120 w 249480"/>
                <a:gd name="textAreaTop" fmla="*/ 360 h 277920"/>
                <a:gd name="textAreaBottom" fmla="*/ 277560 h 277920"/>
              </a:gdLst>
              <a:ahLst/>
              <a:rect l="textAreaLeft" t="textAreaTop" r="textAreaRight" b="textAreaBottom"/>
              <a:pathLst>
                <a:path w="21600" h="24059">
                  <a:moveTo>
                    <a:pt x="138" y="0"/>
                  </a:moveTo>
                  <a:arcTo wR="138" hR="138" stAng="16200000" swAng="-5400000"/>
                  <a:lnTo>
                    <a:pt x="0" y="23921"/>
                  </a:lnTo>
                  <a:arcTo wR="138" hR="138" stAng="10800000" swAng="-5400000"/>
                  <a:lnTo>
                    <a:pt x="21462" y="24059"/>
                  </a:lnTo>
                  <a:arcTo wR="138" hR="138" stAng="5400000" swAng="-5400000"/>
                  <a:lnTo>
                    <a:pt x="21600" y="138"/>
                  </a:lnTo>
                  <a:arcTo wR="138" hR="138" stAng="0" swAng="-5400000"/>
                  <a:close/>
                </a:path>
              </a:pathLst>
            </a:cu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74600" y="5148360"/>
              <a:ext cx="249480" cy="68040"/>
            </a:xfrm>
            <a:prstGeom prst="roundRect">
              <a:avLst>
                <a:gd name="adj" fmla="val 238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95680" y="5037120"/>
              <a:ext cx="249120" cy="179280"/>
            </a:xfrm>
            <a:prstGeom prst="roundRect">
              <a:avLst>
                <a:gd name="adj" fmla="val 889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14960" y="4840200"/>
              <a:ext cx="249120" cy="373320"/>
            </a:xfrm>
            <a:custGeom>
              <a:avLst/>
              <a:gdLst>
                <a:gd name="textAreaLeft" fmla="*/ 360 w 249120"/>
                <a:gd name="textAreaRight" fmla="*/ 248760 w 249120"/>
                <a:gd name="textAreaTop" fmla="*/ 360 h 373320"/>
                <a:gd name="textAreaBottom" fmla="*/ 372960 h 373320"/>
              </a:gdLst>
              <a:ahLst/>
              <a:rect l="textAreaLeft" t="textAreaTop" r="textAreaRight" b="textAreaBottom"/>
              <a:pathLst>
                <a:path w="21600" h="32353">
                  <a:moveTo>
                    <a:pt x="138" y="0"/>
                  </a:moveTo>
                  <a:arcTo wR="138" hR="138" stAng="16200000" swAng="-5400000"/>
                  <a:lnTo>
                    <a:pt x="0" y="32215"/>
                  </a:lnTo>
                  <a:arcTo wR="138" hR="138" stAng="10800000" swAng="-5400000"/>
                  <a:lnTo>
                    <a:pt x="21462" y="32353"/>
                  </a:lnTo>
                  <a:arcTo wR="138" hR="138" stAng="5400000" swAng="-5400000"/>
                  <a:lnTo>
                    <a:pt x="21600" y="138"/>
                  </a:lnTo>
                  <a:arcTo wR="138" hR="138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13360" y="4545000"/>
              <a:ext cx="250920" cy="673200"/>
            </a:xfrm>
            <a:custGeom>
              <a:avLst/>
              <a:gdLst>
                <a:gd name="textAreaLeft" fmla="*/ 360 w 250920"/>
                <a:gd name="textAreaRight" fmla="*/ 250560 w 250920"/>
                <a:gd name="textAreaTop" fmla="*/ 360 h 673200"/>
                <a:gd name="textAreaBottom" fmla="*/ 672840 h 673200"/>
              </a:gdLst>
              <a:ahLst/>
              <a:rect l="textAreaLeft" t="textAreaTop" r="textAreaRight" b="textAreaBottom"/>
              <a:pathLst>
                <a:path w="21600" h="57899">
                  <a:moveTo>
                    <a:pt x="136" y="0"/>
                  </a:moveTo>
                  <a:arcTo wR="136" hR="136" stAng="16200000" swAng="-5400000"/>
                  <a:lnTo>
                    <a:pt x="0" y="57763"/>
                  </a:lnTo>
                  <a:arcTo wR="136" hR="136" stAng="10800000" swAng="-5400000"/>
                  <a:lnTo>
                    <a:pt x="21464" y="57899"/>
                  </a:lnTo>
                  <a:arcTo wR="136" hR="136" stAng="5400000" swAng="-5400000"/>
                  <a:lnTo>
                    <a:pt x="21600" y="136"/>
                  </a:lnTo>
                  <a:arcTo wR="136" hR="136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32640" y="5110200"/>
              <a:ext cx="250920" cy="108000"/>
            </a:xfrm>
            <a:prstGeom prst="roundRect">
              <a:avLst>
                <a:gd name="adj" fmla="val 1468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24080" y="5000760"/>
              <a:ext cx="250560" cy="215640"/>
            </a:xfrm>
            <a:prstGeom prst="roundRect">
              <a:avLst>
                <a:gd name="adj" fmla="val 731"/>
              </a:avLst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43360" y="4735440"/>
              <a:ext cx="250560" cy="480960"/>
            </a:xfrm>
            <a:custGeom>
              <a:avLst/>
              <a:gdLst>
                <a:gd name="textAreaLeft" fmla="*/ 360 w 250560"/>
                <a:gd name="textAreaRight" fmla="*/ 250200 w 250560"/>
                <a:gd name="textAreaTop" fmla="*/ 360 h 480960"/>
                <a:gd name="textAreaBottom" fmla="*/ 480600 h 480960"/>
              </a:gdLst>
              <a:ahLst/>
              <a:rect l="textAreaLeft" t="textAreaTop" r="textAreaRight" b="textAreaBottom"/>
              <a:pathLst>
                <a:path w="21600" h="41434">
                  <a:moveTo>
                    <a:pt x="136" y="0"/>
                  </a:moveTo>
                  <a:arcTo wR="136" hR="136" stAng="16200000" swAng="-5400000"/>
                  <a:lnTo>
                    <a:pt x="0" y="41298"/>
                  </a:lnTo>
                  <a:arcTo wR="136" hR="136" stAng="10800000" swAng="-5400000"/>
                  <a:lnTo>
                    <a:pt x="21464" y="41434"/>
                  </a:lnTo>
                  <a:arcTo wR="136" hR="136" stAng="5400000" swAng="-5400000"/>
                  <a:lnTo>
                    <a:pt x="21600" y="136"/>
                  </a:lnTo>
                  <a:arcTo wR="136" hR="136" stAng="0" swAng="-5400000"/>
                  <a:close/>
                </a:path>
              </a:pathLst>
            </a:cu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52920" y="4346640"/>
              <a:ext cx="247680" cy="871560"/>
            </a:xfrm>
            <a:custGeom>
              <a:avLst/>
              <a:gdLst>
                <a:gd name="textAreaLeft" fmla="*/ 360 w 247680"/>
                <a:gd name="textAreaRight" fmla="*/ 247320 w 247680"/>
                <a:gd name="textAreaTop" fmla="*/ 360 h 871560"/>
                <a:gd name="textAreaBottom" fmla="*/ 871200 h 871560"/>
              </a:gdLst>
              <a:ahLst/>
              <a:rect l="textAreaLeft" t="textAreaTop" r="textAreaRight" b="textAreaBottom"/>
              <a:pathLst>
                <a:path w="21600" h="75929">
                  <a:moveTo>
                    <a:pt x="138" y="0"/>
                  </a:moveTo>
                  <a:arcTo wR="138" hR="138" stAng="16200000" swAng="-5400000"/>
                  <a:lnTo>
                    <a:pt x="0" y="75791"/>
                  </a:lnTo>
                  <a:arcTo wR="138" hR="138" stAng="10800000" swAng="-5400000"/>
                  <a:lnTo>
                    <a:pt x="21462" y="75929"/>
                  </a:lnTo>
                  <a:arcTo wR="138" hR="138" stAng="5400000" swAng="-5400000"/>
                  <a:lnTo>
                    <a:pt x="21600" y="138"/>
                  </a:lnTo>
                  <a:arcTo wR="138" hR="138" stAng="0" swAng="-5400000"/>
                  <a:close/>
                </a:path>
              </a:pathLst>
            </a:cu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64280" y="4152960"/>
              <a:ext cx="249120" cy="1062000"/>
            </a:xfrm>
            <a:custGeom>
              <a:avLst/>
              <a:gdLst>
                <a:gd name="textAreaLeft" fmla="*/ 360 w 249120"/>
                <a:gd name="textAreaRight" fmla="*/ 248760 w 249120"/>
                <a:gd name="textAreaTop" fmla="*/ 360 h 1062000"/>
                <a:gd name="textAreaBottom" fmla="*/ 1061640 h 1062000"/>
              </a:gdLst>
              <a:ahLst/>
              <a:rect l="textAreaLeft" t="textAreaTop" r="textAreaRight" b="textAreaBottom"/>
              <a:pathLst>
                <a:path w="21600" h="91979">
                  <a:moveTo>
                    <a:pt x="138" y="0"/>
                  </a:moveTo>
                  <a:arcTo wR="138" hR="138" stAng="16200000" swAng="-5400000"/>
                  <a:lnTo>
                    <a:pt x="0" y="91841"/>
                  </a:lnTo>
                  <a:arcTo wR="138" hR="138" stAng="10800000" swAng="-5400000"/>
                  <a:lnTo>
                    <a:pt x="21462" y="91979"/>
                  </a:lnTo>
                  <a:arcTo wR="138" hR="138" stAng="5400000" swAng="-5400000"/>
                  <a:lnTo>
                    <a:pt x="21600" y="138"/>
                  </a:lnTo>
                  <a:arcTo wR="138" hR="138" stAng="0" swAng="-5400000"/>
                  <a:close/>
                </a:path>
              </a:pathLst>
            </a:cu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85000" y="4910040"/>
              <a:ext cx="249480" cy="303480"/>
            </a:xfrm>
            <a:custGeom>
              <a:avLst/>
              <a:gdLst>
                <a:gd name="textAreaLeft" fmla="*/ 360 w 249480"/>
                <a:gd name="textAreaRight" fmla="*/ 249120 w 249480"/>
                <a:gd name="textAreaTop" fmla="*/ 360 h 303480"/>
                <a:gd name="textAreaBottom" fmla="*/ 303120 h 303480"/>
              </a:gdLst>
              <a:ahLst/>
              <a:rect l="textAreaLeft" t="textAreaTop" r="textAreaRight" b="textAreaBottom"/>
              <a:pathLst>
                <a:path w="21600" h="26269">
                  <a:moveTo>
                    <a:pt x="138" y="0"/>
                  </a:moveTo>
                  <a:arcTo wR="138" hR="138" stAng="16200000" swAng="-5400000"/>
                  <a:lnTo>
                    <a:pt x="0" y="26131"/>
                  </a:lnTo>
                  <a:arcTo wR="138" hR="138" stAng="10800000" swAng="-5400000"/>
                  <a:lnTo>
                    <a:pt x="21462" y="26269"/>
                  </a:lnTo>
                  <a:arcTo wR="138" hR="138" stAng="5400000" swAng="-5400000"/>
                  <a:lnTo>
                    <a:pt x="21600" y="138"/>
                  </a:lnTo>
                  <a:arcTo wR="138" hR="138" stAng="0" swAng="-5400000"/>
                  <a:close/>
                </a:path>
              </a:pathLst>
            </a:cu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74640" y="4991040"/>
              <a:ext cx="250920" cy="227160"/>
            </a:xfrm>
            <a:prstGeom prst="roundRect">
              <a:avLst>
                <a:gd name="adj" fmla="val 704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92480" y="4711680"/>
              <a:ext cx="250920" cy="504720"/>
            </a:xfrm>
            <a:custGeom>
              <a:avLst/>
              <a:gdLst>
                <a:gd name="textAreaLeft" fmla="*/ 360 w 250920"/>
                <a:gd name="textAreaRight" fmla="*/ 250560 w 250920"/>
                <a:gd name="textAreaTop" fmla="*/ 360 h 504720"/>
                <a:gd name="textAreaBottom" fmla="*/ 504360 h 504720"/>
              </a:gdLst>
              <a:ahLst/>
              <a:rect l="textAreaLeft" t="textAreaTop" r="textAreaRight" b="textAreaBottom"/>
              <a:pathLst>
                <a:path w="21600" h="43417">
                  <a:moveTo>
                    <a:pt x="136" y="0"/>
                  </a:moveTo>
                  <a:arcTo wR="136" hR="136" stAng="16200000" swAng="-5400000"/>
                  <a:lnTo>
                    <a:pt x="0" y="43281"/>
                  </a:lnTo>
                  <a:arcTo wR="136" hR="136" stAng="10800000" swAng="-5400000"/>
                  <a:lnTo>
                    <a:pt x="21464" y="43417"/>
                  </a:lnTo>
                  <a:arcTo wR="136" hR="136" stAng="5400000" swAng="-5400000"/>
                  <a:lnTo>
                    <a:pt x="21600" y="136"/>
                  </a:lnTo>
                  <a:arcTo wR="136" hR="136" stAng="0" swAng="-5400000"/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00600" y="4362480"/>
              <a:ext cx="250920" cy="853920"/>
            </a:xfrm>
            <a:custGeom>
              <a:avLst/>
              <a:gdLst>
                <a:gd name="textAreaLeft" fmla="*/ 360 w 250920"/>
                <a:gd name="textAreaRight" fmla="*/ 250560 w 250920"/>
                <a:gd name="textAreaTop" fmla="*/ 360 h 853920"/>
                <a:gd name="textAreaBottom" fmla="*/ 853560 h 853920"/>
              </a:gdLst>
              <a:ahLst/>
              <a:rect l="textAreaLeft" t="textAreaTop" r="textAreaRight" b="textAreaBottom"/>
              <a:pathLst>
                <a:path w="21600" h="73434">
                  <a:moveTo>
                    <a:pt x="136" y="0"/>
                  </a:moveTo>
                  <a:arcTo wR="136" hR="136" stAng="16200000" swAng="-5400000"/>
                  <a:lnTo>
                    <a:pt x="0" y="73298"/>
                  </a:lnTo>
                  <a:arcTo wR="136" hR="136" stAng="10800000" swAng="-5400000"/>
                  <a:lnTo>
                    <a:pt x="21464" y="73434"/>
                  </a:lnTo>
                  <a:arcTo wR="136" hR="136" stAng="5400000" swAng="-5400000"/>
                  <a:lnTo>
                    <a:pt x="21600" y="136"/>
                  </a:lnTo>
                  <a:arcTo wR="136" hR="136" stAng="0" swAng="-5400000"/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11960" y="4260960"/>
              <a:ext cx="250920" cy="955440"/>
            </a:xfrm>
            <a:custGeom>
              <a:avLst/>
              <a:gdLst>
                <a:gd name="textAreaLeft" fmla="*/ 360 w 250920"/>
                <a:gd name="textAreaRight" fmla="*/ 250560 w 250920"/>
                <a:gd name="textAreaTop" fmla="*/ 360 h 955440"/>
                <a:gd name="textAreaBottom" fmla="*/ 955080 h 955440"/>
              </a:gdLst>
              <a:ahLst/>
              <a:rect l="textAreaLeft" t="textAreaTop" r="textAreaRight" b="textAreaBottom"/>
              <a:pathLst>
                <a:path w="21600" h="82160">
                  <a:moveTo>
                    <a:pt x="136" y="0"/>
                  </a:moveTo>
                  <a:arcTo wR="136" hR="136" stAng="16200000" swAng="-5400000"/>
                  <a:lnTo>
                    <a:pt x="0" y="82024"/>
                  </a:lnTo>
                  <a:arcTo wR="136" hR="136" stAng="10800000" swAng="-5400000"/>
                  <a:lnTo>
                    <a:pt x="21464" y="82160"/>
                  </a:lnTo>
                  <a:arcTo wR="136" hR="136" stAng="5400000" swAng="-5400000"/>
                  <a:lnTo>
                    <a:pt x="21600" y="136"/>
                  </a:lnTo>
                  <a:arcTo wR="136" hR="136" stAng="0" swAng="-5400000"/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32680" y="4902120"/>
              <a:ext cx="250920" cy="314280"/>
            </a:xfrm>
            <a:custGeom>
              <a:avLst/>
              <a:gdLst>
                <a:gd name="textAreaLeft" fmla="*/ 360 w 250920"/>
                <a:gd name="textAreaRight" fmla="*/ 250560 w 250920"/>
                <a:gd name="textAreaTop" fmla="*/ 360 h 314280"/>
                <a:gd name="textAreaBottom" fmla="*/ 313920 h 314280"/>
              </a:gdLst>
              <a:ahLst/>
              <a:rect l="textAreaLeft" t="textAreaTop" r="textAreaRight" b="textAreaBottom"/>
              <a:pathLst>
                <a:path w="21600" h="27046">
                  <a:moveTo>
                    <a:pt x="136" y="0"/>
                  </a:moveTo>
                  <a:arcTo wR="136" hR="136" stAng="16200000" swAng="-5400000"/>
                  <a:lnTo>
                    <a:pt x="0" y="26910"/>
                  </a:lnTo>
                  <a:arcTo wR="136" hR="136" stAng="10800000" swAng="-5400000"/>
                  <a:lnTo>
                    <a:pt x="21464" y="27046"/>
                  </a:lnTo>
                  <a:arcTo wR="136" hR="136" stAng="5400000" swAng="-5400000"/>
                  <a:lnTo>
                    <a:pt x="21600" y="136"/>
                  </a:lnTo>
                  <a:arcTo wR="136" hR="136" stAng="0" swAng="-5400000"/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24120" y="4816440"/>
              <a:ext cx="249120" cy="401760"/>
            </a:xfrm>
            <a:custGeom>
              <a:avLst/>
              <a:gdLst>
                <a:gd name="textAreaLeft" fmla="*/ 360 w 249120"/>
                <a:gd name="textAreaRight" fmla="*/ 248760 w 249120"/>
                <a:gd name="textAreaTop" fmla="*/ 360 h 401760"/>
                <a:gd name="textAreaBottom" fmla="*/ 401400 h 401760"/>
              </a:gdLst>
              <a:ahLst/>
              <a:rect l="textAreaLeft" t="textAreaTop" r="textAreaRight" b="textAreaBottom"/>
              <a:pathLst>
                <a:path w="21600" h="34816">
                  <a:moveTo>
                    <a:pt x="138" y="0"/>
                  </a:moveTo>
                  <a:arcTo wR="138" hR="138" stAng="16200000" swAng="-5400000"/>
                  <a:lnTo>
                    <a:pt x="0" y="34678"/>
                  </a:lnTo>
                  <a:arcTo wR="138" hR="138" stAng="10800000" swAng="-5400000"/>
                  <a:lnTo>
                    <a:pt x="21462" y="34816"/>
                  </a:lnTo>
                  <a:arcTo wR="138" hR="138" stAng="5400000" swAng="-5400000"/>
                  <a:lnTo>
                    <a:pt x="21600" y="138"/>
                  </a:lnTo>
                  <a:arcTo wR="138" hR="138" stAng="0" swAng="-5400000"/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44840" y="4559400"/>
              <a:ext cx="249120" cy="657000"/>
            </a:xfrm>
            <a:custGeom>
              <a:avLst/>
              <a:gdLst>
                <a:gd name="textAreaLeft" fmla="*/ 360 w 249120"/>
                <a:gd name="textAreaRight" fmla="*/ 248760 w 249120"/>
                <a:gd name="textAreaTop" fmla="*/ 360 h 657000"/>
                <a:gd name="textAreaBottom" fmla="*/ 656640 h 657000"/>
              </a:gdLst>
              <a:ahLst/>
              <a:rect l="textAreaLeft" t="textAreaTop" r="textAreaRight" b="textAreaBottom"/>
              <a:pathLst>
                <a:path w="21600" h="56914">
                  <a:moveTo>
                    <a:pt x="138" y="0"/>
                  </a:moveTo>
                  <a:arcTo wR="138" hR="138" stAng="16200000" swAng="-5400000"/>
                  <a:lnTo>
                    <a:pt x="0" y="56776"/>
                  </a:lnTo>
                  <a:arcTo wR="138" hR="138" stAng="10800000" swAng="-5400000"/>
                  <a:lnTo>
                    <a:pt x="21462" y="56914"/>
                  </a:lnTo>
                  <a:arcTo wR="138" hR="138" stAng="5400000" swAng="-5400000"/>
                  <a:lnTo>
                    <a:pt x="21600" y="138"/>
                  </a:lnTo>
                  <a:arcTo wR="138" hR="138" stAng="0" swAng="-5400000"/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1520" y="4251240"/>
              <a:ext cx="249120" cy="965160"/>
            </a:xfrm>
            <a:custGeom>
              <a:avLst/>
              <a:gdLst>
                <a:gd name="textAreaLeft" fmla="*/ 360 w 249120"/>
                <a:gd name="textAreaRight" fmla="*/ 248760 w 249120"/>
                <a:gd name="textAreaTop" fmla="*/ 360 h 965160"/>
                <a:gd name="textAreaBottom" fmla="*/ 964800 h 965160"/>
              </a:gdLst>
              <a:ahLst/>
              <a:rect l="textAreaLeft" t="textAreaTop" r="textAreaRight" b="textAreaBottom"/>
              <a:pathLst>
                <a:path w="21600" h="83595">
                  <a:moveTo>
                    <a:pt x="138" y="0"/>
                  </a:moveTo>
                  <a:arcTo wR="138" hR="138" stAng="16200000" swAng="-5400000"/>
                  <a:lnTo>
                    <a:pt x="0" y="83457"/>
                  </a:lnTo>
                  <a:arcTo wR="138" hR="138" stAng="10800000" swAng="-5400000"/>
                  <a:lnTo>
                    <a:pt x="21462" y="83595"/>
                  </a:lnTo>
                  <a:arcTo wR="138" hR="138" stAng="5400000" swAng="-5400000"/>
                  <a:lnTo>
                    <a:pt x="21600" y="138"/>
                  </a:lnTo>
                  <a:arcTo wR="138" hR="138" stAng="0" swAng="-5400000"/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61080" y="4260960"/>
              <a:ext cx="249480" cy="955440"/>
            </a:xfrm>
            <a:custGeom>
              <a:avLst/>
              <a:gdLst>
                <a:gd name="textAreaLeft" fmla="*/ 360 w 249480"/>
                <a:gd name="textAreaRight" fmla="*/ 249120 w 249480"/>
                <a:gd name="textAreaTop" fmla="*/ 360 h 955440"/>
                <a:gd name="textAreaBottom" fmla="*/ 955080 h 955440"/>
              </a:gdLst>
              <a:ahLst/>
              <a:rect l="textAreaLeft" t="textAreaTop" r="textAreaRight" b="textAreaBottom"/>
              <a:pathLst>
                <a:path w="21600" h="82634">
                  <a:moveTo>
                    <a:pt x="138" y="0"/>
                  </a:moveTo>
                  <a:arcTo wR="138" hR="138" stAng="16200000" swAng="-5400000"/>
                  <a:lnTo>
                    <a:pt x="0" y="82496"/>
                  </a:lnTo>
                  <a:arcTo wR="138" hR="138" stAng="10800000" swAng="-5400000"/>
                  <a:lnTo>
                    <a:pt x="21462" y="82634"/>
                  </a:lnTo>
                  <a:arcTo wR="138" hR="138" stAng="5400000" swAng="-5400000"/>
                  <a:lnTo>
                    <a:pt x="21600" y="138"/>
                  </a:lnTo>
                  <a:arcTo wR="138" hR="138" stAng="0" swAng="-5400000"/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83600" y="4735440"/>
              <a:ext cx="249120" cy="480960"/>
            </a:xfrm>
            <a:custGeom>
              <a:avLst/>
              <a:gdLst>
                <a:gd name="textAreaLeft" fmla="*/ 360 w 249120"/>
                <a:gd name="textAreaRight" fmla="*/ 248760 w 249120"/>
                <a:gd name="textAreaTop" fmla="*/ 360 h 480960"/>
                <a:gd name="textAreaBottom" fmla="*/ 480600 h 480960"/>
              </a:gdLst>
              <a:ahLst/>
              <a:rect l="textAreaLeft" t="textAreaTop" r="textAreaRight" b="textAreaBottom"/>
              <a:pathLst>
                <a:path w="21600" h="41673">
                  <a:moveTo>
                    <a:pt x="138" y="0"/>
                  </a:moveTo>
                  <a:arcTo wR="138" hR="138" stAng="16200000" swAng="-5400000"/>
                  <a:lnTo>
                    <a:pt x="0" y="41535"/>
                  </a:lnTo>
                  <a:arcTo wR="138" hR="138" stAng="10800000" swAng="-5400000"/>
                  <a:lnTo>
                    <a:pt x="21462" y="41673"/>
                  </a:lnTo>
                  <a:arcTo wR="138" hR="138" stAng="5400000" swAng="-5400000"/>
                  <a:lnTo>
                    <a:pt x="21600" y="138"/>
                  </a:lnTo>
                  <a:arcTo wR="138" hR="138" stAng="0" swAng="-5400000"/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9720" y="2471760"/>
              <a:ext cx="1800" cy="329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1280" y="5765760"/>
              <a:ext cx="28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1280" y="5214960"/>
              <a:ext cx="2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1280" y="4665600"/>
              <a:ext cx="28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1280" y="4121280"/>
              <a:ext cx="2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1280" y="3571920"/>
              <a:ext cx="2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1280" y="3021120"/>
              <a:ext cx="2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1280" y="2471760"/>
              <a:ext cx="2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9720" y="5214960"/>
              <a:ext cx="8080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39720" y="5187960"/>
              <a:ext cx="180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262240" y="5187960"/>
              <a:ext cx="144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882960" y="5187960"/>
              <a:ext cx="180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5187960"/>
              <a:ext cx="144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099200" y="5187960"/>
              <a:ext cx="180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8720280" y="5187960"/>
              <a:ext cx="144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349200" y="5711760"/>
              <a:ext cx="263520" cy="131760"/>
              <a:chOff x="349200" y="5711760"/>
              <a:chExt cx="263520" cy="131760"/>
            </a:xfrm>
          </p:grpSpPr>
          <p:sp>
            <p:nvSpPr>
              <p:cNvPr id="104" name=""/>
              <p:cNvSpPr/>
              <p:nvPr/>
            </p:nvSpPr>
            <p:spPr>
              <a:xfrm>
                <a:off x="349200" y="5711760"/>
                <a:ext cx="231840" cy="104760"/>
              </a:xfrm>
              <a:prstGeom prst="roundRect">
                <a:avLst>
                  <a:gd name="adj" fmla="val 151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349200" y="5711760"/>
                <a:ext cx="263520" cy="131760"/>
                <a:chOff x="349200" y="5711760"/>
                <a:chExt cx="263520" cy="131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49200" y="5713560"/>
                  <a:ext cx="212760" cy="88920"/>
                </a:xfrm>
                <a:prstGeom prst="roundRect">
                  <a:avLst>
                    <a:gd name="adj" fmla="val 178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349200" y="5711760"/>
                  <a:ext cx="263520" cy="131760"/>
                  <a:chOff x="349200" y="5711760"/>
                  <a:chExt cx="263520" cy="1317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349200" y="5713560"/>
                    <a:ext cx="200160" cy="77760"/>
                  </a:xfrm>
                  <a:prstGeom prst="roundRect">
                    <a:avLst>
                      <a:gd name="adj" fmla="val 208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349200" y="5711760"/>
                    <a:ext cx="263520" cy="131760"/>
                    <a:chOff x="349200" y="5711760"/>
                    <a:chExt cx="263520" cy="13176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349200" y="5713560"/>
                      <a:ext cx="185760" cy="68040"/>
                    </a:xfrm>
                    <a:prstGeom prst="roundRect">
                      <a:avLst>
                        <a:gd name="adj" fmla="val 238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520" bIns="20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1" name=""/>
                    <p:cNvGrpSpPr/>
                    <p:nvPr/>
                  </p:nvGrpSpPr>
                  <p:grpSpPr>
                    <a:xfrm>
                      <a:off x="349200" y="5711760"/>
                      <a:ext cx="263520" cy="131760"/>
                      <a:chOff x="349200" y="5711760"/>
                      <a:chExt cx="263520" cy="131760"/>
                    </a:xfrm>
                  </p:grpSpPr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349200" y="5713560"/>
                        <a:ext cx="176400" cy="55440"/>
                      </a:xfrm>
                      <a:prstGeom prst="roundRect">
                        <a:avLst>
                          <a:gd name="adj" fmla="val 294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920" bIns="7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3" name=""/>
                      <p:cNvGrpSpPr/>
                      <p:nvPr/>
                    </p:nvGrpSpPr>
                    <p:grpSpPr>
                      <a:xfrm>
                        <a:off x="349200" y="5711760"/>
                        <a:ext cx="263520" cy="131760"/>
                        <a:chOff x="349200" y="5711760"/>
                        <a:chExt cx="263520" cy="131760"/>
                      </a:xfrm>
                    </p:grpSpPr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>
                          <a:off x="349200" y="5713560"/>
                          <a:ext cx="163440" cy="48960"/>
                        </a:xfrm>
                        <a:prstGeom prst="roundRect">
                          <a:avLst>
                            <a:gd name="adj" fmla="val 333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440" bIns="1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15" name=""/>
                        <p:cNvGrpSpPr/>
                        <p:nvPr/>
                      </p:nvGrpSpPr>
                      <p:grpSpPr>
                        <a:xfrm>
                          <a:off x="349200" y="5711760"/>
                          <a:ext cx="263520" cy="131760"/>
                          <a:chOff x="349200" y="5711760"/>
                          <a:chExt cx="263520" cy="131760"/>
                        </a:xfrm>
                      </p:grpSpPr>
                      <p:sp>
                        <p:nvSpPr>
                          <p:cNvPr id="116" name=""/>
                          <p:cNvSpPr/>
                          <p:nvPr/>
                        </p:nvSpPr>
                        <p:spPr>
                          <a:xfrm>
                            <a:off x="349200" y="5713560"/>
                            <a:ext cx="155520" cy="41040"/>
                          </a:xfrm>
                          <a:prstGeom prst="roundRect">
                            <a:avLst>
                              <a:gd name="adj" fmla="val 384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6480" bIns="-6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17" name=""/>
                          <p:cNvGrpSpPr/>
                          <p:nvPr/>
                        </p:nvGrpSpPr>
                        <p:grpSpPr>
                          <a:xfrm>
                            <a:off x="349200" y="5711760"/>
                            <a:ext cx="263520" cy="131760"/>
                            <a:chOff x="349200" y="5711760"/>
                            <a:chExt cx="263520" cy="131760"/>
                          </a:xfrm>
                        </p:grpSpPr>
                        <p:sp>
                          <p:nvSpPr>
                            <p:cNvPr id="118" name=""/>
                            <p:cNvSpPr/>
                            <p:nvPr/>
                          </p:nvSpPr>
                          <p:spPr>
                            <a:xfrm>
                              <a:off x="349200" y="5713560"/>
                              <a:ext cx="147600" cy="34920"/>
                            </a:xfrm>
                            <a:prstGeom prst="roundRect">
                              <a:avLst>
                                <a:gd name="adj" fmla="val 4542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2600" bIns="-126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19" name=""/>
                            <p:cNvGrpSpPr/>
                            <p:nvPr/>
                          </p:nvGrpSpPr>
                          <p:grpSpPr>
                            <a:xfrm>
                              <a:off x="349200" y="5711760"/>
                              <a:ext cx="263520" cy="131760"/>
                              <a:chOff x="349200" y="5711760"/>
                              <a:chExt cx="263520" cy="131760"/>
                            </a:xfrm>
                          </p:grpSpPr>
                          <p:sp>
                            <p:nvSpPr>
                              <p:cNvPr id="120" name=""/>
                              <p:cNvSpPr/>
                              <p:nvPr/>
                            </p:nvSpPr>
                            <p:spPr>
                              <a:xfrm>
                                <a:off x="349200" y="5713560"/>
                                <a:ext cx="139680" cy="31680"/>
                              </a:xfrm>
                              <a:prstGeom prst="roundRect">
                                <a:avLst>
                                  <a:gd name="adj" fmla="val 5000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5840" bIns="-15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21" name=""/>
                              <p:cNvGrpSpPr/>
                              <p:nvPr/>
                            </p:nvGrpSpPr>
                            <p:grpSpPr>
                              <a:xfrm>
                                <a:off x="349200" y="5711760"/>
                                <a:ext cx="263520" cy="131760"/>
                                <a:chOff x="349200" y="5711760"/>
                                <a:chExt cx="263520" cy="131760"/>
                              </a:xfrm>
                            </p:grpSpPr>
                            <p:sp>
                              <p:nvSpPr>
                                <p:cNvPr id="122" name=""/>
                                <p:cNvSpPr/>
                                <p:nvPr/>
                              </p:nvSpPr>
                              <p:spPr>
                                <a:xfrm>
                                  <a:off x="349200" y="5713560"/>
                                  <a:ext cx="135000" cy="2700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0520" bIns="-205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3" name=""/>
                                <p:cNvSpPr/>
                                <p:nvPr/>
                              </p:nvSpPr>
                              <p:spPr>
                                <a:xfrm>
                                  <a:off x="349200" y="5713560"/>
                                  <a:ext cx="133560" cy="2700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0520" bIns="-205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4" name=""/>
                                <p:cNvSpPr/>
                                <p:nvPr/>
                              </p:nvSpPr>
                              <p:spPr>
                                <a:xfrm>
                                  <a:off x="349200" y="5713560"/>
                                  <a:ext cx="133560" cy="2700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0520" bIns="-205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5" name=""/>
                                <p:cNvSpPr/>
                                <p:nvPr/>
                              </p:nvSpPr>
                              <p:spPr>
                                <a:xfrm>
                                  <a:off x="349200" y="5713560"/>
                                  <a:ext cx="133560" cy="23760"/>
                                </a:xfrm>
                                <a:prstGeom prst="roundRect">
                                  <a:avLst>
                                    <a:gd name="adj" fmla="val 7139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3760" bIns="-237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6" name=""/>
                                <p:cNvSpPr/>
                                <p:nvPr/>
                              </p:nvSpPr>
                              <p:spPr>
                                <a:xfrm>
                                  <a:off x="349200" y="5713560"/>
                                  <a:ext cx="133560" cy="23760"/>
                                </a:xfrm>
                                <a:prstGeom prst="roundRect">
                                  <a:avLst>
                                    <a:gd name="adj" fmla="val 7139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3760" bIns="-237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7" name=""/>
                                <p:cNvSpPr/>
                                <p:nvPr/>
                              </p:nvSpPr>
                              <p:spPr>
                                <a:xfrm>
                                  <a:off x="349200" y="5711760"/>
                                  <a:ext cx="263520" cy="130320"/>
                                </a:xfrm>
                                <a:prstGeom prst="roundRect">
                                  <a:avLst>
                                    <a:gd name="adj" fmla="val 731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8" name=""/>
                                <p:cNvSpPr/>
                                <p:nvPr/>
                              </p:nvSpPr>
                              <p:spPr>
                                <a:xfrm>
                                  <a:off x="352440" y="5715000"/>
                                  <a:ext cx="257040" cy="12528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9" name=""/>
                                <p:cNvSpPr/>
                                <p:nvPr/>
                              </p:nvSpPr>
                              <p:spPr>
                                <a:xfrm>
                                  <a:off x="352440" y="5715000"/>
                                  <a:ext cx="257040" cy="12528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30" name=""/>
                                <p:cNvSpPr/>
                                <p:nvPr/>
                              </p:nvSpPr>
                              <p:spPr>
                                <a:xfrm>
                                  <a:off x="349200" y="5715000"/>
                                  <a:ext cx="263520" cy="12852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9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-0,50</a:t>
                                  </a:r>
                                  <a:endParaRPr b="0" lang="en-US" sz="9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grpSp>
          <p:nvGrpSpPr>
            <p:cNvPr id="131" name=""/>
            <p:cNvGrpSpPr/>
            <p:nvPr/>
          </p:nvGrpSpPr>
          <p:grpSpPr>
            <a:xfrm>
              <a:off x="381960" y="5160960"/>
              <a:ext cx="226080" cy="131760"/>
              <a:chOff x="381960" y="5160960"/>
              <a:chExt cx="226080" cy="131760"/>
            </a:xfrm>
          </p:grpSpPr>
          <p:sp>
            <p:nvSpPr>
              <p:cNvPr id="132" name=""/>
              <p:cNvSpPr/>
              <p:nvPr/>
            </p:nvSpPr>
            <p:spPr>
              <a:xfrm>
                <a:off x="382680" y="5162400"/>
                <a:ext cx="195120" cy="104760"/>
              </a:xfrm>
              <a:prstGeom prst="roundRect">
                <a:avLst>
                  <a:gd name="adj" fmla="val 151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381960" y="5160960"/>
                <a:ext cx="226080" cy="131760"/>
                <a:chOff x="381960" y="5160960"/>
                <a:chExt cx="226080" cy="1317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82680" y="5162400"/>
                  <a:ext cx="177840" cy="87480"/>
                </a:xfrm>
                <a:prstGeom prst="roundRect">
                  <a:avLst>
                    <a:gd name="adj" fmla="val 185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381960" y="5160960"/>
                  <a:ext cx="226080" cy="131760"/>
                  <a:chOff x="381960" y="5160960"/>
                  <a:chExt cx="226080" cy="13176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382680" y="5162400"/>
                    <a:ext cx="162000" cy="77760"/>
                  </a:xfrm>
                  <a:prstGeom prst="roundRect">
                    <a:avLst>
                      <a:gd name="adj" fmla="val 208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381960" y="5160960"/>
                    <a:ext cx="226080" cy="131760"/>
                    <a:chOff x="381960" y="5160960"/>
                    <a:chExt cx="226080" cy="1317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382680" y="5162400"/>
                      <a:ext cx="153720" cy="66960"/>
                    </a:xfrm>
                    <a:prstGeom prst="roundRect">
                      <a:avLst>
                        <a:gd name="adj" fmla="val 238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440" bIns="19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9" name=""/>
                    <p:cNvGrpSpPr/>
                    <p:nvPr/>
                  </p:nvGrpSpPr>
                  <p:grpSpPr>
                    <a:xfrm>
                      <a:off x="381960" y="5160960"/>
                      <a:ext cx="226080" cy="131760"/>
                      <a:chOff x="381960" y="5160960"/>
                      <a:chExt cx="226080" cy="131760"/>
                    </a:xfrm>
                  </p:grpSpPr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382680" y="5162400"/>
                        <a:ext cx="139680" cy="54000"/>
                      </a:xfrm>
                      <a:prstGeom prst="roundRect">
                        <a:avLst>
                          <a:gd name="adj" fmla="val 294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41" name=""/>
                      <p:cNvGrpSpPr/>
                      <p:nvPr/>
                    </p:nvGrpSpPr>
                    <p:grpSpPr>
                      <a:xfrm>
                        <a:off x="381960" y="5160960"/>
                        <a:ext cx="226080" cy="131760"/>
                        <a:chOff x="381960" y="5160960"/>
                        <a:chExt cx="226080" cy="131760"/>
                      </a:xfrm>
                    </p:grpSpPr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382680" y="5162400"/>
                          <a:ext cx="127080" cy="44640"/>
                        </a:xfrm>
                        <a:prstGeom prst="roundRect">
                          <a:avLst>
                            <a:gd name="adj" fmla="val 3569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" bIns="-2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43" name=""/>
                        <p:cNvGrpSpPr/>
                        <p:nvPr/>
                      </p:nvGrpSpPr>
                      <p:grpSpPr>
                        <a:xfrm>
                          <a:off x="381960" y="5160960"/>
                          <a:ext cx="226080" cy="131760"/>
                          <a:chOff x="381960" y="5160960"/>
                          <a:chExt cx="226080" cy="131760"/>
                        </a:xfrm>
                      </p:grpSpPr>
                      <p:sp>
                        <p:nvSpPr>
                          <p:cNvPr id="144" name=""/>
                          <p:cNvSpPr/>
                          <p:nvPr/>
                        </p:nvSpPr>
                        <p:spPr>
                          <a:xfrm>
                            <a:off x="382680" y="5162400"/>
                            <a:ext cx="115920" cy="38160"/>
                          </a:xfrm>
                          <a:prstGeom prst="roundRect">
                            <a:avLst>
                              <a:gd name="adj" fmla="val 4167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9360" bIns="-9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45" name=""/>
                          <p:cNvGrpSpPr/>
                          <p:nvPr/>
                        </p:nvGrpSpPr>
                        <p:grpSpPr>
                          <a:xfrm>
                            <a:off x="381960" y="5160960"/>
                            <a:ext cx="226080" cy="131760"/>
                            <a:chOff x="381960" y="5160960"/>
                            <a:chExt cx="226080" cy="131760"/>
                          </a:xfrm>
                        </p:grpSpPr>
                        <p:sp>
                          <p:nvSpPr>
                            <p:cNvPr id="146" name=""/>
                            <p:cNvSpPr/>
                            <p:nvPr/>
                          </p:nvSpPr>
                          <p:spPr>
                            <a:xfrm>
                              <a:off x="382680" y="5162400"/>
                              <a:ext cx="112680" cy="33480"/>
                            </a:xfrm>
                            <a:prstGeom prst="roundRect">
                              <a:avLst>
                                <a:gd name="adj" fmla="val 5000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4040" bIns="-140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47" name=""/>
                            <p:cNvGrpSpPr/>
                            <p:nvPr/>
                          </p:nvGrpSpPr>
                          <p:grpSpPr>
                            <a:xfrm>
                              <a:off x="381960" y="5160960"/>
                              <a:ext cx="226080" cy="131760"/>
                              <a:chOff x="381960" y="5160960"/>
                              <a:chExt cx="226080" cy="131760"/>
                            </a:xfrm>
                          </p:grpSpPr>
                          <p:sp>
                            <p:nvSpPr>
                              <p:cNvPr id="148" name=""/>
                              <p:cNvSpPr/>
                              <p:nvPr/>
                            </p:nvSpPr>
                            <p:spPr>
                              <a:xfrm>
                                <a:off x="382680" y="5162400"/>
                                <a:ext cx="104760" cy="28800"/>
                              </a:xfrm>
                              <a:prstGeom prst="roundRect">
                                <a:avLst>
                                  <a:gd name="adj" fmla="val 5556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8720" bIns="-187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49" name=""/>
                              <p:cNvGrpSpPr/>
                              <p:nvPr/>
                            </p:nvGrpSpPr>
                            <p:grpSpPr>
                              <a:xfrm>
                                <a:off x="381960" y="5160960"/>
                                <a:ext cx="226080" cy="131760"/>
                                <a:chOff x="381960" y="5160960"/>
                                <a:chExt cx="226080" cy="131760"/>
                              </a:xfrm>
                            </p:grpSpPr>
                            <p:sp>
                              <p:nvSpPr>
                                <p:cNvPr id="150" name=""/>
                                <p:cNvSpPr/>
                                <p:nvPr/>
                              </p:nvSpPr>
                              <p:spPr>
                                <a:xfrm>
                                  <a:off x="382680" y="5162400"/>
                                  <a:ext cx="98280" cy="2556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1960" bIns="-219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1" name=""/>
                                <p:cNvSpPr/>
                                <p:nvPr/>
                              </p:nvSpPr>
                              <p:spPr>
                                <a:xfrm>
                                  <a:off x="382680" y="5162400"/>
                                  <a:ext cx="98280" cy="2556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1960" bIns="-219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2" name=""/>
                                <p:cNvSpPr/>
                                <p:nvPr/>
                              </p:nvSpPr>
                              <p:spPr>
                                <a:xfrm>
                                  <a:off x="382680" y="5162400"/>
                                  <a:ext cx="98280" cy="2556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1960" bIns="-219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3" name=""/>
                                <p:cNvSpPr/>
                                <p:nvPr/>
                              </p:nvSpPr>
                              <p:spPr>
                                <a:xfrm>
                                  <a:off x="382680" y="5162400"/>
                                  <a:ext cx="98280" cy="2556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1960" bIns="-219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4" name=""/>
                                <p:cNvSpPr/>
                                <p:nvPr/>
                              </p:nvSpPr>
                              <p:spPr>
                                <a:xfrm>
                                  <a:off x="382680" y="5162400"/>
                                  <a:ext cx="98280" cy="24120"/>
                                </a:xfrm>
                                <a:prstGeom prst="roundRect">
                                  <a:avLst>
                                    <a:gd name="adj" fmla="val 7139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3400" bIns="-234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5" name=""/>
                                <p:cNvSpPr/>
                                <p:nvPr/>
                              </p:nvSpPr>
                              <p:spPr>
                                <a:xfrm>
                                  <a:off x="382680" y="5160960"/>
                                  <a:ext cx="225360" cy="130320"/>
                                </a:xfrm>
                                <a:prstGeom prst="roundRect">
                                  <a:avLst>
                                    <a:gd name="adj" fmla="val 731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6" name=""/>
                                <p:cNvSpPr/>
                                <p:nvPr/>
                              </p:nvSpPr>
                              <p:spPr>
                                <a:xfrm>
                                  <a:off x="384120" y="5164200"/>
                                  <a:ext cx="220680" cy="12528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7" name=""/>
                                <p:cNvSpPr/>
                                <p:nvPr/>
                              </p:nvSpPr>
                              <p:spPr>
                                <a:xfrm>
                                  <a:off x="384120" y="5164200"/>
                                  <a:ext cx="220680" cy="12528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8" name=""/>
                                <p:cNvSpPr/>
                                <p:nvPr/>
                              </p:nvSpPr>
                              <p:spPr>
                                <a:xfrm>
                                  <a:off x="381960" y="5164200"/>
                                  <a:ext cx="225360" cy="12852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9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0,00</a:t>
                                  </a:r>
                                  <a:endParaRPr b="0" lang="en-US" sz="9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grpSp>
          <p:nvGrpSpPr>
            <p:cNvPr id="159" name=""/>
            <p:cNvGrpSpPr/>
            <p:nvPr/>
          </p:nvGrpSpPr>
          <p:grpSpPr>
            <a:xfrm>
              <a:off x="382680" y="4613400"/>
              <a:ext cx="225360" cy="129960"/>
              <a:chOff x="382680" y="4613400"/>
              <a:chExt cx="225360" cy="129960"/>
            </a:xfrm>
          </p:grpSpPr>
          <p:sp>
            <p:nvSpPr>
              <p:cNvPr id="160" name=""/>
              <p:cNvSpPr/>
              <p:nvPr/>
            </p:nvSpPr>
            <p:spPr>
              <a:xfrm>
                <a:off x="382680" y="4614840"/>
                <a:ext cx="195120" cy="104760"/>
              </a:xfrm>
              <a:prstGeom prst="roundRect">
                <a:avLst>
                  <a:gd name="adj" fmla="val 151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82680" y="4613400"/>
                <a:ext cx="225360" cy="129960"/>
                <a:chOff x="382680" y="4613400"/>
                <a:chExt cx="225360" cy="1299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82680" y="4614840"/>
                  <a:ext cx="177840" cy="87480"/>
                </a:xfrm>
                <a:prstGeom prst="roundRect">
                  <a:avLst>
                    <a:gd name="adj" fmla="val 185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" name=""/>
                <p:cNvGrpSpPr/>
                <p:nvPr/>
              </p:nvGrpSpPr>
              <p:grpSpPr>
                <a:xfrm>
                  <a:off x="382680" y="4613400"/>
                  <a:ext cx="225360" cy="129960"/>
                  <a:chOff x="382680" y="4613400"/>
                  <a:chExt cx="225360" cy="1299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382680" y="4614840"/>
                    <a:ext cx="162000" cy="77760"/>
                  </a:xfrm>
                  <a:prstGeom prst="roundRect">
                    <a:avLst>
                      <a:gd name="adj" fmla="val 208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382680" y="4613400"/>
                    <a:ext cx="225360" cy="129960"/>
                    <a:chOff x="382680" y="4613400"/>
                    <a:chExt cx="225360" cy="1299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382680" y="4614840"/>
                      <a:ext cx="153720" cy="68400"/>
                    </a:xfrm>
                    <a:prstGeom prst="roundRect">
                      <a:avLst>
                        <a:gd name="adj" fmla="val 238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880" bIns="20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7" name=""/>
                    <p:cNvGrpSpPr/>
                    <p:nvPr/>
                  </p:nvGrpSpPr>
                  <p:grpSpPr>
                    <a:xfrm>
                      <a:off x="382680" y="4613400"/>
                      <a:ext cx="225360" cy="129960"/>
                      <a:chOff x="382680" y="4613400"/>
                      <a:chExt cx="225360" cy="129960"/>
                    </a:xfrm>
                  </p:grpSpPr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382680" y="4614840"/>
                        <a:ext cx="139680" cy="57240"/>
                      </a:xfrm>
                      <a:prstGeom prst="roundRect">
                        <a:avLst>
                          <a:gd name="adj" fmla="val 2778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720" bIns="9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9" name=""/>
                      <p:cNvGrpSpPr/>
                      <p:nvPr/>
                    </p:nvGrpSpPr>
                    <p:grpSpPr>
                      <a:xfrm>
                        <a:off x="382680" y="4613400"/>
                        <a:ext cx="225360" cy="129960"/>
                        <a:chOff x="382680" y="4613400"/>
                        <a:chExt cx="225360" cy="129960"/>
                      </a:xfrm>
                    </p:grpSpPr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382680" y="4614840"/>
                          <a:ext cx="127080" cy="47520"/>
                        </a:xfrm>
                        <a:prstGeom prst="roundRect">
                          <a:avLst>
                            <a:gd name="adj" fmla="val 333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0" bIns="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71" name=""/>
                        <p:cNvGrpSpPr/>
                        <p:nvPr/>
                      </p:nvGrpSpPr>
                      <p:grpSpPr>
                        <a:xfrm>
                          <a:off x="382680" y="4613400"/>
                          <a:ext cx="225360" cy="129960"/>
                          <a:chOff x="382680" y="4613400"/>
                          <a:chExt cx="225360" cy="129960"/>
                        </a:xfrm>
                      </p:grpSpPr>
                      <p:sp>
                        <p:nvSpPr>
                          <p:cNvPr id="172" name=""/>
                          <p:cNvSpPr/>
                          <p:nvPr/>
                        </p:nvSpPr>
                        <p:spPr>
                          <a:xfrm>
                            <a:off x="382680" y="4614840"/>
                            <a:ext cx="115920" cy="42840"/>
                          </a:xfrm>
                          <a:prstGeom prst="roundRect">
                            <a:avLst>
                              <a:gd name="adj" fmla="val 384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680" bIns="-4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73" name=""/>
                          <p:cNvGrpSpPr/>
                          <p:nvPr/>
                        </p:nvGrpSpPr>
                        <p:grpSpPr>
                          <a:xfrm>
                            <a:off x="382680" y="4613400"/>
                            <a:ext cx="225360" cy="129960"/>
                            <a:chOff x="382680" y="4613400"/>
                            <a:chExt cx="225360" cy="129960"/>
                          </a:xfrm>
                        </p:grpSpPr>
                        <p:sp>
                          <p:nvSpPr>
                            <p:cNvPr id="174" name=""/>
                            <p:cNvSpPr/>
                            <p:nvPr/>
                          </p:nvSpPr>
                          <p:spPr>
                            <a:xfrm>
                              <a:off x="382680" y="4614840"/>
                              <a:ext cx="112680" cy="36360"/>
                            </a:xfrm>
                            <a:prstGeom prst="roundRect">
                              <a:avLst>
                                <a:gd name="adj" fmla="val 4542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1160" bIns="-11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75" name=""/>
                            <p:cNvGrpSpPr/>
                            <p:nvPr/>
                          </p:nvGrpSpPr>
                          <p:grpSpPr>
                            <a:xfrm>
                              <a:off x="382680" y="4613400"/>
                              <a:ext cx="225360" cy="129960"/>
                              <a:chOff x="382680" y="4613400"/>
                              <a:chExt cx="225360" cy="129960"/>
                            </a:xfrm>
                          </p:grpSpPr>
                          <p:sp>
                            <p:nvSpPr>
                              <p:cNvPr id="176" name=""/>
                              <p:cNvSpPr/>
                              <p:nvPr/>
                            </p:nvSpPr>
                            <p:spPr>
                              <a:xfrm>
                                <a:off x="382680" y="4614840"/>
                                <a:ext cx="104760" cy="33480"/>
                              </a:xfrm>
                              <a:prstGeom prst="roundRect">
                                <a:avLst>
                                  <a:gd name="adj" fmla="val 5000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4040" bIns="-14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77" name=""/>
                              <p:cNvGrpSpPr/>
                              <p:nvPr/>
                            </p:nvGrpSpPr>
                            <p:grpSpPr>
                              <a:xfrm>
                                <a:off x="382680" y="4613400"/>
                                <a:ext cx="225360" cy="129960"/>
                                <a:chOff x="382680" y="4613400"/>
                                <a:chExt cx="225360" cy="129960"/>
                              </a:xfrm>
                            </p:grpSpPr>
                            <p:sp>
                              <p:nvSpPr>
                                <p:cNvPr id="178" name=""/>
                                <p:cNvSpPr/>
                                <p:nvPr/>
                              </p:nvSpPr>
                              <p:spPr>
                                <a:xfrm>
                                  <a:off x="382680" y="4614840"/>
                                  <a:ext cx="98280" cy="28440"/>
                                </a:xfrm>
                                <a:prstGeom prst="roundRect">
                                  <a:avLst>
                                    <a:gd name="adj" fmla="val 5556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9080" bIns="-190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9" name=""/>
                                <p:cNvSpPr/>
                                <p:nvPr/>
                              </p:nvSpPr>
                              <p:spPr>
                                <a:xfrm>
                                  <a:off x="382680" y="4614840"/>
                                  <a:ext cx="98280" cy="2700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0520" bIns="-205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0" name=""/>
                                <p:cNvSpPr/>
                                <p:nvPr/>
                              </p:nvSpPr>
                              <p:spPr>
                                <a:xfrm>
                                  <a:off x="382680" y="4614840"/>
                                  <a:ext cx="98280" cy="2700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0520" bIns="-205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1" name=""/>
                                <p:cNvSpPr/>
                                <p:nvPr/>
                              </p:nvSpPr>
                              <p:spPr>
                                <a:xfrm>
                                  <a:off x="382680" y="4614840"/>
                                  <a:ext cx="98280" cy="2700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0520" bIns="-205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2" name=""/>
                                <p:cNvSpPr/>
                                <p:nvPr/>
                              </p:nvSpPr>
                              <p:spPr>
                                <a:xfrm>
                                  <a:off x="382680" y="4614840"/>
                                  <a:ext cx="98280" cy="2700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0520" bIns="-205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3" name=""/>
                                <p:cNvSpPr/>
                                <p:nvPr/>
                              </p:nvSpPr>
                              <p:spPr>
                                <a:xfrm>
                                  <a:off x="382680" y="4613400"/>
                                  <a:ext cx="225360" cy="129960"/>
                                </a:xfrm>
                                <a:prstGeom prst="roundRect">
                                  <a:avLst>
                                    <a:gd name="adj" fmla="val 6097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4" name=""/>
                                <p:cNvSpPr/>
                                <p:nvPr/>
                              </p:nvSpPr>
                              <p:spPr>
                                <a:xfrm>
                                  <a:off x="384120" y="4614840"/>
                                  <a:ext cx="222480" cy="12528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5" name=""/>
                                <p:cNvSpPr/>
                                <p:nvPr/>
                              </p:nvSpPr>
                              <p:spPr>
                                <a:xfrm>
                                  <a:off x="384120" y="4614840"/>
                                  <a:ext cx="222480" cy="12528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6" name=""/>
                                <p:cNvSpPr/>
                                <p:nvPr/>
                              </p:nvSpPr>
                              <p:spPr>
                                <a:xfrm>
                                  <a:off x="382680" y="4614840"/>
                                  <a:ext cx="225360" cy="12852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9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0,50</a:t>
                                  </a:r>
                                  <a:endParaRPr b="0" lang="en-US" sz="9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grpSp>
          <p:nvGrpSpPr>
            <p:cNvPr id="187" name=""/>
            <p:cNvGrpSpPr/>
            <p:nvPr/>
          </p:nvGrpSpPr>
          <p:grpSpPr>
            <a:xfrm>
              <a:off x="381960" y="4067280"/>
              <a:ext cx="226080" cy="131760"/>
              <a:chOff x="381960" y="4067280"/>
              <a:chExt cx="226080" cy="131760"/>
            </a:xfrm>
          </p:grpSpPr>
          <p:sp>
            <p:nvSpPr>
              <p:cNvPr id="188" name=""/>
              <p:cNvSpPr/>
              <p:nvPr/>
            </p:nvSpPr>
            <p:spPr>
              <a:xfrm>
                <a:off x="382680" y="4068720"/>
                <a:ext cx="195120" cy="106560"/>
              </a:xfrm>
              <a:prstGeom prst="roundRect">
                <a:avLst>
                  <a:gd name="adj" fmla="val 151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381960" y="4067280"/>
                <a:ext cx="226080" cy="131760"/>
                <a:chOff x="381960" y="4067280"/>
                <a:chExt cx="226080" cy="1317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82680" y="4068720"/>
                  <a:ext cx="177840" cy="87480"/>
                </a:xfrm>
                <a:prstGeom prst="roundRect">
                  <a:avLst>
                    <a:gd name="adj" fmla="val 185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"/>
                <p:cNvGrpSpPr/>
                <p:nvPr/>
              </p:nvGrpSpPr>
              <p:grpSpPr>
                <a:xfrm>
                  <a:off x="381960" y="4067280"/>
                  <a:ext cx="226080" cy="131760"/>
                  <a:chOff x="381960" y="4067280"/>
                  <a:chExt cx="226080" cy="1317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382680" y="4068720"/>
                    <a:ext cx="162000" cy="74520"/>
                  </a:xfrm>
                  <a:prstGeom prst="roundRect">
                    <a:avLst>
                      <a:gd name="adj" fmla="val 217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000" bIns="27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381960" y="4067280"/>
                    <a:ext cx="226080" cy="131760"/>
                    <a:chOff x="381960" y="4067280"/>
                    <a:chExt cx="226080" cy="1317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382680" y="4068720"/>
                      <a:ext cx="153720" cy="66600"/>
                    </a:xfrm>
                    <a:prstGeom prst="roundRect">
                      <a:avLst>
                        <a:gd name="adj" fmla="val 238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5" name=""/>
                    <p:cNvGrpSpPr/>
                    <p:nvPr/>
                  </p:nvGrpSpPr>
                  <p:grpSpPr>
                    <a:xfrm>
                      <a:off x="381960" y="4067280"/>
                      <a:ext cx="226080" cy="131760"/>
                      <a:chOff x="381960" y="4067280"/>
                      <a:chExt cx="226080" cy="131760"/>
                    </a:xfrm>
                  </p:grpSpPr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382680" y="4068720"/>
                        <a:ext cx="139680" cy="58680"/>
                      </a:xfrm>
                      <a:prstGeom prst="roundRect">
                        <a:avLst>
                          <a:gd name="adj" fmla="val 2778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1160" bIns="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97" name=""/>
                      <p:cNvGrpSpPr/>
                      <p:nvPr/>
                    </p:nvGrpSpPr>
                    <p:grpSpPr>
                      <a:xfrm>
                        <a:off x="381960" y="4067280"/>
                        <a:ext cx="226080" cy="131760"/>
                        <a:chOff x="381960" y="4067280"/>
                        <a:chExt cx="226080" cy="131760"/>
                      </a:xfrm>
                    </p:grpSpPr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382680" y="4068720"/>
                          <a:ext cx="127080" cy="47520"/>
                        </a:xfrm>
                        <a:prstGeom prst="roundRect">
                          <a:avLst>
                            <a:gd name="adj" fmla="val 333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0" bIns="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99" name=""/>
                        <p:cNvGrpSpPr/>
                        <p:nvPr/>
                      </p:nvGrpSpPr>
                      <p:grpSpPr>
                        <a:xfrm>
                          <a:off x="381960" y="4067280"/>
                          <a:ext cx="226080" cy="131760"/>
                          <a:chOff x="381960" y="4067280"/>
                          <a:chExt cx="226080" cy="131760"/>
                        </a:xfrm>
                      </p:grpSpPr>
                      <p:sp>
                        <p:nvSpPr>
                          <p:cNvPr id="200" name=""/>
                          <p:cNvSpPr/>
                          <p:nvPr/>
                        </p:nvSpPr>
                        <p:spPr>
                          <a:xfrm>
                            <a:off x="382680" y="4068720"/>
                            <a:ext cx="115920" cy="42840"/>
                          </a:xfrm>
                          <a:prstGeom prst="roundRect">
                            <a:avLst>
                              <a:gd name="adj" fmla="val 384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680" bIns="-4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01" name=""/>
                          <p:cNvGrpSpPr/>
                          <p:nvPr/>
                        </p:nvGrpSpPr>
                        <p:grpSpPr>
                          <a:xfrm>
                            <a:off x="381960" y="4067280"/>
                            <a:ext cx="226080" cy="131760"/>
                            <a:chOff x="381960" y="4067280"/>
                            <a:chExt cx="226080" cy="131760"/>
                          </a:xfrm>
                        </p:grpSpPr>
                        <p:sp>
                          <p:nvSpPr>
                            <p:cNvPr id="202" name=""/>
                            <p:cNvSpPr/>
                            <p:nvPr/>
                          </p:nvSpPr>
                          <p:spPr>
                            <a:xfrm>
                              <a:off x="382680" y="4068720"/>
                              <a:ext cx="112680" cy="34920"/>
                            </a:xfrm>
                            <a:prstGeom prst="roundRect">
                              <a:avLst>
                                <a:gd name="adj" fmla="val 4542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2600" bIns="-126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03" name=""/>
                            <p:cNvGrpSpPr/>
                            <p:nvPr/>
                          </p:nvGrpSpPr>
                          <p:grpSpPr>
                            <a:xfrm>
                              <a:off x="381960" y="4067280"/>
                              <a:ext cx="226080" cy="131760"/>
                              <a:chOff x="381960" y="4067280"/>
                              <a:chExt cx="226080" cy="131760"/>
                            </a:xfrm>
                          </p:grpSpPr>
                          <p:sp>
                            <p:nvSpPr>
                              <p:cNvPr id="204" name=""/>
                              <p:cNvSpPr/>
                              <p:nvPr/>
                            </p:nvSpPr>
                            <p:spPr>
                              <a:xfrm>
                                <a:off x="382680" y="4068720"/>
                                <a:ext cx="104760" cy="30240"/>
                              </a:xfrm>
                              <a:prstGeom prst="roundRect">
                                <a:avLst>
                                  <a:gd name="adj" fmla="val 5556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7280" bIns="-17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05" name=""/>
                              <p:cNvGrpSpPr/>
                              <p:nvPr/>
                            </p:nvGrpSpPr>
                            <p:grpSpPr>
                              <a:xfrm>
                                <a:off x="381960" y="4067280"/>
                                <a:ext cx="226080" cy="131760"/>
                                <a:chOff x="381960" y="4067280"/>
                                <a:chExt cx="226080" cy="131760"/>
                              </a:xfrm>
                            </p:grpSpPr>
                            <p:sp>
                              <p:nvSpPr>
                                <p:cNvPr id="206" name=""/>
                                <p:cNvSpPr/>
                                <p:nvPr/>
                              </p:nvSpPr>
                              <p:spPr>
                                <a:xfrm>
                                  <a:off x="382680" y="4068720"/>
                                  <a:ext cx="98280" cy="2700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0520" bIns="-205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7" name=""/>
                                <p:cNvSpPr/>
                                <p:nvPr/>
                              </p:nvSpPr>
                              <p:spPr>
                                <a:xfrm>
                                  <a:off x="382680" y="4068720"/>
                                  <a:ext cx="98280" cy="2700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0520" bIns="-205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8" name=""/>
                                <p:cNvSpPr/>
                                <p:nvPr/>
                              </p:nvSpPr>
                              <p:spPr>
                                <a:xfrm>
                                  <a:off x="382680" y="4068720"/>
                                  <a:ext cx="98280" cy="2700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0520" bIns="-205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9" name=""/>
                                <p:cNvSpPr/>
                                <p:nvPr/>
                              </p:nvSpPr>
                              <p:spPr>
                                <a:xfrm>
                                  <a:off x="382680" y="4068720"/>
                                  <a:ext cx="98280" cy="2700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0520" bIns="-205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0" name=""/>
                                <p:cNvSpPr/>
                                <p:nvPr/>
                              </p:nvSpPr>
                              <p:spPr>
                                <a:xfrm>
                                  <a:off x="382680" y="4068720"/>
                                  <a:ext cx="98280" cy="2556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1960" bIns="-219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1" name=""/>
                                <p:cNvSpPr/>
                                <p:nvPr/>
                              </p:nvSpPr>
                              <p:spPr>
                                <a:xfrm>
                                  <a:off x="382680" y="4067280"/>
                                  <a:ext cx="225360" cy="129960"/>
                                </a:xfrm>
                                <a:prstGeom prst="roundRect">
                                  <a:avLst>
                                    <a:gd name="adj" fmla="val 731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2" name=""/>
                                <p:cNvSpPr/>
                                <p:nvPr/>
                              </p:nvSpPr>
                              <p:spPr>
                                <a:xfrm>
                                  <a:off x="384120" y="4070520"/>
                                  <a:ext cx="220680" cy="12528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3" name=""/>
                                <p:cNvSpPr/>
                                <p:nvPr/>
                              </p:nvSpPr>
                              <p:spPr>
                                <a:xfrm>
                                  <a:off x="384120" y="4070520"/>
                                  <a:ext cx="220680" cy="12528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4" name=""/>
                                <p:cNvSpPr/>
                                <p:nvPr/>
                              </p:nvSpPr>
                              <p:spPr>
                                <a:xfrm>
                                  <a:off x="381960" y="4070520"/>
                                  <a:ext cx="225360" cy="12852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9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1,00</a:t>
                                  </a:r>
                                  <a:endParaRPr b="0" lang="en-US" sz="9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grpSp>
          <p:nvGrpSpPr>
            <p:cNvPr id="215" name=""/>
            <p:cNvGrpSpPr/>
            <p:nvPr/>
          </p:nvGrpSpPr>
          <p:grpSpPr>
            <a:xfrm>
              <a:off x="382680" y="3516480"/>
              <a:ext cx="225360" cy="129960"/>
              <a:chOff x="382680" y="3516480"/>
              <a:chExt cx="225360" cy="129960"/>
            </a:xfrm>
          </p:grpSpPr>
          <p:sp>
            <p:nvSpPr>
              <p:cNvPr id="216" name=""/>
              <p:cNvSpPr/>
              <p:nvPr/>
            </p:nvSpPr>
            <p:spPr>
              <a:xfrm>
                <a:off x="382680" y="3517920"/>
                <a:ext cx="195120" cy="106200"/>
              </a:xfrm>
              <a:prstGeom prst="roundRect">
                <a:avLst>
                  <a:gd name="adj" fmla="val 151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382680" y="3516480"/>
                <a:ext cx="225360" cy="129960"/>
                <a:chOff x="382680" y="3516480"/>
                <a:chExt cx="225360" cy="1299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82680" y="3517920"/>
                  <a:ext cx="177840" cy="92160"/>
                </a:xfrm>
                <a:prstGeom prst="roundRect">
                  <a:avLst>
                    <a:gd name="adj" fmla="val 172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" name=""/>
                <p:cNvGrpSpPr/>
                <p:nvPr/>
              </p:nvGrpSpPr>
              <p:grpSpPr>
                <a:xfrm>
                  <a:off x="382680" y="3516480"/>
                  <a:ext cx="225360" cy="129960"/>
                  <a:chOff x="382680" y="3516480"/>
                  <a:chExt cx="225360" cy="1299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382680" y="3517920"/>
                    <a:ext cx="162000" cy="81000"/>
                  </a:xfrm>
                  <a:prstGeom prst="roundRect">
                    <a:avLst>
                      <a:gd name="adj" fmla="val 2000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382680" y="3516480"/>
                    <a:ext cx="225360" cy="129960"/>
                    <a:chOff x="382680" y="3516480"/>
                    <a:chExt cx="225360" cy="1299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382680" y="3517920"/>
                      <a:ext cx="153720" cy="68400"/>
                    </a:xfrm>
                    <a:prstGeom prst="roundRect">
                      <a:avLst>
                        <a:gd name="adj" fmla="val 238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880" bIns="20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3" name=""/>
                    <p:cNvGrpSpPr/>
                    <p:nvPr/>
                  </p:nvGrpSpPr>
                  <p:grpSpPr>
                    <a:xfrm>
                      <a:off x="382680" y="3516480"/>
                      <a:ext cx="225360" cy="129960"/>
                      <a:chOff x="382680" y="3516480"/>
                      <a:chExt cx="225360" cy="129960"/>
                    </a:xfrm>
                  </p:grpSpPr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382680" y="3517920"/>
                        <a:ext cx="139680" cy="58680"/>
                      </a:xfrm>
                      <a:prstGeom prst="roundRect">
                        <a:avLst>
                          <a:gd name="adj" fmla="val 2778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1160" bIns="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25" name=""/>
                      <p:cNvGrpSpPr/>
                      <p:nvPr/>
                    </p:nvGrpSpPr>
                    <p:grpSpPr>
                      <a:xfrm>
                        <a:off x="382680" y="3516480"/>
                        <a:ext cx="225360" cy="129960"/>
                        <a:chOff x="382680" y="3516480"/>
                        <a:chExt cx="225360" cy="129960"/>
                      </a:xfrm>
                    </p:grpSpPr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>
                          <a:off x="382680" y="3517920"/>
                          <a:ext cx="127080" cy="50760"/>
                        </a:xfrm>
                        <a:prstGeom prst="roundRect">
                          <a:avLst>
                            <a:gd name="adj" fmla="val 3125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240" bIns="32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27" name=""/>
                        <p:cNvGrpSpPr/>
                        <p:nvPr/>
                      </p:nvGrpSpPr>
                      <p:grpSpPr>
                        <a:xfrm>
                          <a:off x="382680" y="3516480"/>
                          <a:ext cx="225360" cy="129960"/>
                          <a:chOff x="382680" y="3516480"/>
                          <a:chExt cx="225360" cy="129960"/>
                        </a:xfrm>
                      </p:grpSpPr>
                      <p:sp>
                        <p:nvSpPr>
                          <p:cNvPr id="228" name=""/>
                          <p:cNvSpPr/>
                          <p:nvPr/>
                        </p:nvSpPr>
                        <p:spPr>
                          <a:xfrm>
                            <a:off x="382680" y="3517920"/>
                            <a:ext cx="115920" cy="42840"/>
                          </a:xfrm>
                          <a:prstGeom prst="roundRect">
                            <a:avLst>
                              <a:gd name="adj" fmla="val 384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680" bIns="-4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29" name=""/>
                          <p:cNvGrpSpPr/>
                          <p:nvPr/>
                        </p:nvGrpSpPr>
                        <p:grpSpPr>
                          <a:xfrm>
                            <a:off x="382680" y="3516480"/>
                            <a:ext cx="225360" cy="129960"/>
                            <a:chOff x="382680" y="3516480"/>
                            <a:chExt cx="225360" cy="129960"/>
                          </a:xfrm>
                        </p:grpSpPr>
                        <p:sp>
                          <p:nvSpPr>
                            <p:cNvPr id="230" name=""/>
                            <p:cNvSpPr/>
                            <p:nvPr/>
                          </p:nvSpPr>
                          <p:spPr>
                            <a:xfrm>
                              <a:off x="382680" y="3517920"/>
                              <a:ext cx="112680" cy="38160"/>
                            </a:xfrm>
                            <a:prstGeom prst="roundRect">
                              <a:avLst>
                                <a:gd name="adj" fmla="val 4167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9360" bIns="-9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31" name=""/>
                            <p:cNvGrpSpPr/>
                            <p:nvPr/>
                          </p:nvGrpSpPr>
                          <p:grpSpPr>
                            <a:xfrm>
                              <a:off x="382680" y="3516480"/>
                              <a:ext cx="225360" cy="129960"/>
                              <a:chOff x="382680" y="3516480"/>
                              <a:chExt cx="225360" cy="129960"/>
                            </a:xfrm>
                          </p:grpSpPr>
                          <p:sp>
                            <p:nvSpPr>
                              <p:cNvPr id="232" name=""/>
                              <p:cNvSpPr/>
                              <p:nvPr/>
                            </p:nvSpPr>
                            <p:spPr>
                              <a:xfrm>
                                <a:off x="382680" y="3517920"/>
                                <a:ext cx="104760" cy="33480"/>
                              </a:xfrm>
                              <a:prstGeom prst="roundRect">
                                <a:avLst>
                                  <a:gd name="adj" fmla="val 5000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4040" bIns="-14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33" name=""/>
                              <p:cNvGrpSpPr/>
                              <p:nvPr/>
                            </p:nvGrpSpPr>
                            <p:grpSpPr>
                              <a:xfrm>
                                <a:off x="382680" y="3516480"/>
                                <a:ext cx="225360" cy="129960"/>
                                <a:chOff x="382680" y="3516480"/>
                                <a:chExt cx="225360" cy="129960"/>
                              </a:xfrm>
                            </p:grpSpPr>
                            <p:sp>
                              <p:nvSpPr>
                                <p:cNvPr id="234" name=""/>
                                <p:cNvSpPr/>
                                <p:nvPr/>
                              </p:nvSpPr>
                              <p:spPr>
                                <a:xfrm>
                                  <a:off x="382680" y="3517920"/>
                                  <a:ext cx="98280" cy="28440"/>
                                </a:xfrm>
                                <a:prstGeom prst="roundRect">
                                  <a:avLst>
                                    <a:gd name="adj" fmla="val 5556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9080" bIns="-190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5" name=""/>
                                <p:cNvSpPr/>
                                <p:nvPr/>
                              </p:nvSpPr>
                              <p:spPr>
                                <a:xfrm>
                                  <a:off x="382680" y="3517920"/>
                                  <a:ext cx="98280" cy="28440"/>
                                </a:xfrm>
                                <a:prstGeom prst="roundRect">
                                  <a:avLst>
                                    <a:gd name="adj" fmla="val 5556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9080" bIns="-190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6" name=""/>
                                <p:cNvSpPr/>
                                <p:nvPr/>
                              </p:nvSpPr>
                              <p:spPr>
                                <a:xfrm>
                                  <a:off x="382680" y="3517920"/>
                                  <a:ext cx="98280" cy="28440"/>
                                </a:xfrm>
                                <a:prstGeom prst="roundRect">
                                  <a:avLst>
                                    <a:gd name="adj" fmla="val 5556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9080" bIns="-190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7" name=""/>
                                <p:cNvSpPr/>
                                <p:nvPr/>
                              </p:nvSpPr>
                              <p:spPr>
                                <a:xfrm>
                                  <a:off x="382680" y="3517920"/>
                                  <a:ext cx="98280" cy="28440"/>
                                </a:xfrm>
                                <a:prstGeom prst="roundRect">
                                  <a:avLst>
                                    <a:gd name="adj" fmla="val 5556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9080" bIns="-190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"/>
                                <p:cNvSpPr/>
                                <p:nvPr/>
                              </p:nvSpPr>
                              <p:spPr>
                                <a:xfrm>
                                  <a:off x="382680" y="3517920"/>
                                  <a:ext cx="98280" cy="2700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0520" bIns="-205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9" name=""/>
                                <p:cNvSpPr/>
                                <p:nvPr/>
                              </p:nvSpPr>
                              <p:spPr>
                                <a:xfrm>
                                  <a:off x="382680" y="3516480"/>
                                  <a:ext cx="225360" cy="129960"/>
                                </a:xfrm>
                                <a:prstGeom prst="roundRect">
                                  <a:avLst>
                                    <a:gd name="adj" fmla="val 6097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0" name=""/>
                                <p:cNvSpPr/>
                                <p:nvPr/>
                              </p:nvSpPr>
                              <p:spPr>
                                <a:xfrm>
                                  <a:off x="384120" y="3517920"/>
                                  <a:ext cx="222480" cy="12528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1" name=""/>
                                <p:cNvSpPr/>
                                <p:nvPr/>
                              </p:nvSpPr>
                              <p:spPr>
                                <a:xfrm>
                                  <a:off x="384120" y="3517920"/>
                                  <a:ext cx="222480" cy="12528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2" name=""/>
                                <p:cNvSpPr/>
                                <p:nvPr/>
                              </p:nvSpPr>
                              <p:spPr>
                                <a:xfrm>
                                  <a:off x="382680" y="3517920"/>
                                  <a:ext cx="225360" cy="12852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9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1,50</a:t>
                                  </a:r>
                                  <a:endParaRPr b="0" lang="en-US" sz="9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grpSp>
          <p:nvGrpSpPr>
            <p:cNvPr id="243" name=""/>
            <p:cNvGrpSpPr/>
            <p:nvPr/>
          </p:nvGrpSpPr>
          <p:grpSpPr>
            <a:xfrm>
              <a:off x="382680" y="2968560"/>
              <a:ext cx="225360" cy="131760"/>
              <a:chOff x="382680" y="2968560"/>
              <a:chExt cx="225360" cy="131760"/>
            </a:xfrm>
          </p:grpSpPr>
          <p:sp>
            <p:nvSpPr>
              <p:cNvPr id="244" name=""/>
              <p:cNvSpPr/>
              <p:nvPr/>
            </p:nvSpPr>
            <p:spPr>
              <a:xfrm>
                <a:off x="382680" y="2970360"/>
                <a:ext cx="195120" cy="104760"/>
              </a:xfrm>
              <a:prstGeom prst="roundRect">
                <a:avLst>
                  <a:gd name="adj" fmla="val 151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382680" y="2968560"/>
                <a:ext cx="225360" cy="131760"/>
                <a:chOff x="382680" y="2968560"/>
                <a:chExt cx="225360" cy="131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82680" y="2970360"/>
                  <a:ext cx="177840" cy="85680"/>
                </a:xfrm>
                <a:prstGeom prst="roundRect">
                  <a:avLst>
                    <a:gd name="adj" fmla="val 185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382680" y="2968560"/>
                  <a:ext cx="225360" cy="131760"/>
                  <a:chOff x="382680" y="2968560"/>
                  <a:chExt cx="225360" cy="13176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382680" y="2970360"/>
                    <a:ext cx="162000" cy="72720"/>
                  </a:xfrm>
                  <a:prstGeom prst="roundRect">
                    <a:avLst>
                      <a:gd name="adj" fmla="val 217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382680" y="2968560"/>
                    <a:ext cx="225360" cy="131760"/>
                    <a:chOff x="382680" y="2968560"/>
                    <a:chExt cx="225360" cy="13176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382680" y="2970360"/>
                      <a:ext cx="153720" cy="64800"/>
                    </a:xfrm>
                    <a:prstGeom prst="roundRect">
                      <a:avLst>
                        <a:gd name="adj" fmla="val 250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1" name=""/>
                    <p:cNvGrpSpPr/>
                    <p:nvPr/>
                  </p:nvGrpSpPr>
                  <p:grpSpPr>
                    <a:xfrm>
                      <a:off x="382680" y="2968560"/>
                      <a:ext cx="225360" cy="131760"/>
                      <a:chOff x="382680" y="2968560"/>
                      <a:chExt cx="225360" cy="131760"/>
                    </a:xfrm>
                  </p:grpSpPr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382680" y="2970360"/>
                        <a:ext cx="139680" cy="54000"/>
                      </a:xfrm>
                      <a:prstGeom prst="roundRect">
                        <a:avLst>
                          <a:gd name="adj" fmla="val 294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3" name=""/>
                      <p:cNvGrpSpPr/>
                      <p:nvPr/>
                    </p:nvGrpSpPr>
                    <p:grpSpPr>
                      <a:xfrm>
                        <a:off x="382680" y="2968560"/>
                        <a:ext cx="225360" cy="131760"/>
                        <a:chOff x="382680" y="2968560"/>
                        <a:chExt cx="225360" cy="131760"/>
                      </a:xfrm>
                    </p:grpSpPr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382680" y="2970360"/>
                          <a:ext cx="127080" cy="45720"/>
                        </a:xfrm>
                        <a:prstGeom prst="roundRect">
                          <a:avLst>
                            <a:gd name="adj" fmla="val 3569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800" bIns="-1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55" name=""/>
                        <p:cNvGrpSpPr/>
                        <p:nvPr/>
                      </p:nvGrpSpPr>
                      <p:grpSpPr>
                        <a:xfrm>
                          <a:off x="382680" y="2968560"/>
                          <a:ext cx="225360" cy="131760"/>
                          <a:chOff x="382680" y="2968560"/>
                          <a:chExt cx="225360" cy="131760"/>
                        </a:xfrm>
                      </p:grpSpPr>
                      <p:sp>
                        <p:nvSpPr>
                          <p:cNvPr id="256" name=""/>
                          <p:cNvSpPr/>
                          <p:nvPr/>
                        </p:nvSpPr>
                        <p:spPr>
                          <a:xfrm>
                            <a:off x="382680" y="2970360"/>
                            <a:ext cx="115920" cy="37800"/>
                          </a:xfrm>
                          <a:prstGeom prst="roundRect">
                            <a:avLst>
                              <a:gd name="adj" fmla="val 4167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9720" bIns="-9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57" name=""/>
                          <p:cNvGrpSpPr/>
                          <p:nvPr/>
                        </p:nvGrpSpPr>
                        <p:grpSpPr>
                          <a:xfrm>
                            <a:off x="382680" y="2968560"/>
                            <a:ext cx="225360" cy="131760"/>
                            <a:chOff x="382680" y="2968560"/>
                            <a:chExt cx="225360" cy="131760"/>
                          </a:xfrm>
                        </p:grpSpPr>
                        <p:sp>
                          <p:nvSpPr>
                            <p:cNvPr id="258" name=""/>
                            <p:cNvSpPr/>
                            <p:nvPr/>
                          </p:nvSpPr>
                          <p:spPr>
                            <a:xfrm>
                              <a:off x="382680" y="2970360"/>
                              <a:ext cx="112680" cy="31680"/>
                            </a:xfrm>
                            <a:prstGeom prst="roundRect">
                              <a:avLst>
                                <a:gd name="adj" fmla="val 5000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5840" bIns="-158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59" name=""/>
                            <p:cNvGrpSpPr/>
                            <p:nvPr/>
                          </p:nvGrpSpPr>
                          <p:grpSpPr>
                            <a:xfrm>
                              <a:off x="382680" y="2968560"/>
                              <a:ext cx="225360" cy="131760"/>
                              <a:chOff x="382680" y="2968560"/>
                              <a:chExt cx="225360" cy="131760"/>
                            </a:xfrm>
                          </p:grpSpPr>
                          <p:sp>
                            <p:nvSpPr>
                              <p:cNvPr id="260" name=""/>
                              <p:cNvSpPr/>
                              <p:nvPr/>
                            </p:nvSpPr>
                            <p:spPr>
                              <a:xfrm>
                                <a:off x="382680" y="2970360"/>
                                <a:ext cx="104760" cy="28440"/>
                              </a:xfrm>
                              <a:prstGeom prst="roundRect">
                                <a:avLst>
                                  <a:gd name="adj" fmla="val 5556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9080" bIns="-190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61" name=""/>
                              <p:cNvGrpSpPr/>
                              <p:nvPr/>
                            </p:nvGrpSpPr>
                            <p:grpSpPr>
                              <a:xfrm>
                                <a:off x="382680" y="2968560"/>
                                <a:ext cx="225360" cy="131760"/>
                                <a:chOff x="382680" y="2968560"/>
                                <a:chExt cx="225360" cy="131760"/>
                              </a:xfrm>
                            </p:grpSpPr>
                            <p:sp>
                              <p:nvSpPr>
                                <p:cNvPr id="262" name=""/>
                                <p:cNvSpPr/>
                                <p:nvPr/>
                              </p:nvSpPr>
                              <p:spPr>
                                <a:xfrm>
                                  <a:off x="382680" y="2970360"/>
                                  <a:ext cx="98280" cy="23760"/>
                                </a:xfrm>
                                <a:prstGeom prst="roundRect">
                                  <a:avLst>
                                    <a:gd name="adj" fmla="val 7139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3760" bIns="-237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3" name=""/>
                                <p:cNvSpPr/>
                                <p:nvPr/>
                              </p:nvSpPr>
                              <p:spPr>
                                <a:xfrm>
                                  <a:off x="382680" y="2970360"/>
                                  <a:ext cx="98280" cy="23760"/>
                                </a:xfrm>
                                <a:prstGeom prst="roundRect">
                                  <a:avLst>
                                    <a:gd name="adj" fmla="val 7139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3760" bIns="-237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4" name=""/>
                                <p:cNvSpPr/>
                                <p:nvPr/>
                              </p:nvSpPr>
                              <p:spPr>
                                <a:xfrm>
                                  <a:off x="382680" y="2970360"/>
                                  <a:ext cx="98280" cy="23760"/>
                                </a:xfrm>
                                <a:prstGeom prst="roundRect">
                                  <a:avLst>
                                    <a:gd name="adj" fmla="val 7139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3760" bIns="-237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5" name=""/>
                                <p:cNvSpPr/>
                                <p:nvPr/>
                              </p:nvSpPr>
                              <p:spPr>
                                <a:xfrm>
                                  <a:off x="382680" y="2970360"/>
                                  <a:ext cx="98280" cy="23760"/>
                                </a:xfrm>
                                <a:prstGeom prst="roundRect">
                                  <a:avLst>
                                    <a:gd name="adj" fmla="val 7139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3760" bIns="-237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6" name=""/>
                                <p:cNvSpPr/>
                                <p:nvPr/>
                              </p:nvSpPr>
                              <p:spPr>
                                <a:xfrm>
                                  <a:off x="382680" y="2970360"/>
                                  <a:ext cx="98280" cy="23760"/>
                                </a:xfrm>
                                <a:prstGeom prst="roundRect">
                                  <a:avLst>
                                    <a:gd name="adj" fmla="val 7139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3760" bIns="-237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7" name=""/>
                                <p:cNvSpPr/>
                                <p:nvPr/>
                              </p:nvSpPr>
                              <p:spPr>
                                <a:xfrm>
                                  <a:off x="382680" y="2968560"/>
                                  <a:ext cx="225360" cy="130320"/>
                                </a:xfrm>
                                <a:prstGeom prst="roundRect">
                                  <a:avLst>
                                    <a:gd name="adj" fmla="val 8532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8" name=""/>
                                <p:cNvSpPr/>
                                <p:nvPr/>
                              </p:nvSpPr>
                              <p:spPr>
                                <a:xfrm>
                                  <a:off x="385920" y="2971800"/>
                                  <a:ext cx="220680" cy="12384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9" name=""/>
                                <p:cNvSpPr/>
                                <p:nvPr/>
                              </p:nvSpPr>
                              <p:spPr>
                                <a:xfrm>
                                  <a:off x="385920" y="2971800"/>
                                  <a:ext cx="218880" cy="12384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0" name=""/>
                                <p:cNvSpPr/>
                                <p:nvPr/>
                              </p:nvSpPr>
                              <p:spPr>
                                <a:xfrm>
                                  <a:off x="382680" y="2971800"/>
                                  <a:ext cx="225360" cy="12852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9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2,00</a:t>
                                  </a:r>
                                  <a:endParaRPr b="0" lang="en-US" sz="9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grpSp>
          <p:nvGrpSpPr>
            <p:cNvPr id="271" name=""/>
            <p:cNvGrpSpPr/>
            <p:nvPr/>
          </p:nvGrpSpPr>
          <p:grpSpPr>
            <a:xfrm>
              <a:off x="381960" y="2419200"/>
              <a:ext cx="226080" cy="130320"/>
              <a:chOff x="381960" y="2419200"/>
              <a:chExt cx="226080" cy="130320"/>
            </a:xfrm>
          </p:grpSpPr>
          <p:sp>
            <p:nvSpPr>
              <p:cNvPr id="272" name=""/>
              <p:cNvSpPr/>
              <p:nvPr/>
            </p:nvSpPr>
            <p:spPr>
              <a:xfrm>
                <a:off x="382680" y="2421000"/>
                <a:ext cx="195120" cy="104760"/>
              </a:xfrm>
              <a:prstGeom prst="roundRect">
                <a:avLst>
                  <a:gd name="adj" fmla="val 151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1960" y="2419200"/>
                <a:ext cx="226080" cy="130320"/>
                <a:chOff x="381960" y="2419200"/>
                <a:chExt cx="226080" cy="13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82680" y="2421000"/>
                  <a:ext cx="177840" cy="90360"/>
                </a:xfrm>
                <a:prstGeom prst="roundRect">
                  <a:avLst>
                    <a:gd name="adj" fmla="val 178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381960" y="2419200"/>
                  <a:ext cx="226080" cy="130320"/>
                  <a:chOff x="381960" y="2419200"/>
                  <a:chExt cx="226080" cy="13032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382680" y="2421000"/>
                    <a:ext cx="162000" cy="77760"/>
                  </a:xfrm>
                  <a:prstGeom prst="roundRect">
                    <a:avLst>
                      <a:gd name="adj" fmla="val 208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381960" y="2419200"/>
                    <a:ext cx="226080" cy="130320"/>
                    <a:chOff x="381960" y="2419200"/>
                    <a:chExt cx="226080" cy="13032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382680" y="2421000"/>
                      <a:ext cx="153720" cy="63360"/>
                    </a:xfrm>
                    <a:prstGeom prst="roundRect">
                      <a:avLst>
                        <a:gd name="adj" fmla="val 250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840" bIns="15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9" name=""/>
                    <p:cNvGrpSpPr/>
                    <p:nvPr/>
                  </p:nvGrpSpPr>
                  <p:grpSpPr>
                    <a:xfrm>
                      <a:off x="381960" y="2419200"/>
                      <a:ext cx="226080" cy="130320"/>
                      <a:chOff x="381960" y="2419200"/>
                      <a:chExt cx="226080" cy="130320"/>
                    </a:xfrm>
                  </p:grpSpPr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382680" y="2421000"/>
                        <a:ext cx="139680" cy="55440"/>
                      </a:xfrm>
                      <a:prstGeom prst="roundRect">
                        <a:avLst>
                          <a:gd name="adj" fmla="val 294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920" bIns="7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1" name=""/>
                      <p:cNvGrpSpPr/>
                      <p:nvPr/>
                    </p:nvGrpSpPr>
                    <p:grpSpPr>
                      <a:xfrm>
                        <a:off x="381960" y="2419200"/>
                        <a:ext cx="226080" cy="130320"/>
                        <a:chOff x="381960" y="2419200"/>
                        <a:chExt cx="226080" cy="130320"/>
                      </a:xfrm>
                    </p:grpSpPr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>
                          <a:off x="382680" y="2421000"/>
                          <a:ext cx="127080" cy="49320"/>
                        </a:xfrm>
                        <a:prstGeom prst="roundRect">
                          <a:avLst>
                            <a:gd name="adj" fmla="val 333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" bIns="1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83" name=""/>
                        <p:cNvGrpSpPr/>
                        <p:nvPr/>
                      </p:nvGrpSpPr>
                      <p:grpSpPr>
                        <a:xfrm>
                          <a:off x="381960" y="2419200"/>
                          <a:ext cx="226080" cy="130320"/>
                          <a:chOff x="381960" y="2419200"/>
                          <a:chExt cx="226080" cy="130320"/>
                        </a:xfrm>
                      </p:grpSpPr>
                      <p:sp>
                        <p:nvSpPr>
                          <p:cNvPr id="284" name=""/>
                          <p:cNvSpPr/>
                          <p:nvPr/>
                        </p:nvSpPr>
                        <p:spPr>
                          <a:xfrm>
                            <a:off x="382680" y="2421000"/>
                            <a:ext cx="115920" cy="41040"/>
                          </a:xfrm>
                          <a:prstGeom prst="roundRect">
                            <a:avLst>
                              <a:gd name="adj" fmla="val 384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6480" bIns="-6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85" name=""/>
                          <p:cNvGrpSpPr/>
                          <p:nvPr/>
                        </p:nvGrpSpPr>
                        <p:grpSpPr>
                          <a:xfrm>
                            <a:off x="381960" y="2419200"/>
                            <a:ext cx="226080" cy="130320"/>
                            <a:chOff x="381960" y="2419200"/>
                            <a:chExt cx="226080" cy="130320"/>
                          </a:xfrm>
                        </p:grpSpPr>
                        <p:sp>
                          <p:nvSpPr>
                            <p:cNvPr id="286" name=""/>
                            <p:cNvSpPr/>
                            <p:nvPr/>
                          </p:nvSpPr>
                          <p:spPr>
                            <a:xfrm>
                              <a:off x="382680" y="2421000"/>
                              <a:ext cx="112680" cy="34920"/>
                            </a:xfrm>
                            <a:prstGeom prst="roundRect">
                              <a:avLst>
                                <a:gd name="adj" fmla="val 4542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2600" bIns="-126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87" name=""/>
                            <p:cNvGrpSpPr/>
                            <p:nvPr/>
                          </p:nvGrpSpPr>
                          <p:grpSpPr>
                            <a:xfrm>
                              <a:off x="381960" y="2419200"/>
                              <a:ext cx="226080" cy="130320"/>
                              <a:chOff x="381960" y="2419200"/>
                              <a:chExt cx="226080" cy="130320"/>
                            </a:xfrm>
                          </p:grpSpPr>
                          <p:sp>
                            <p:nvSpPr>
                              <p:cNvPr id="288" name=""/>
                              <p:cNvSpPr/>
                              <p:nvPr/>
                            </p:nvSpPr>
                            <p:spPr>
                              <a:xfrm>
                                <a:off x="382680" y="2421000"/>
                                <a:ext cx="104760" cy="28440"/>
                              </a:xfrm>
                              <a:prstGeom prst="roundRect">
                                <a:avLst>
                                  <a:gd name="adj" fmla="val 5556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9080" bIns="-190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89" name=""/>
                              <p:cNvGrpSpPr/>
                              <p:nvPr/>
                            </p:nvGrpSpPr>
                            <p:grpSpPr>
                              <a:xfrm>
                                <a:off x="381960" y="2419200"/>
                                <a:ext cx="226080" cy="130320"/>
                                <a:chOff x="381960" y="2419200"/>
                                <a:chExt cx="226080" cy="130320"/>
                              </a:xfrm>
                            </p:grpSpPr>
                            <p:sp>
                              <p:nvSpPr>
                                <p:cNvPr id="290" name=""/>
                                <p:cNvSpPr/>
                                <p:nvPr/>
                              </p:nvSpPr>
                              <p:spPr>
                                <a:xfrm>
                                  <a:off x="382680" y="2421000"/>
                                  <a:ext cx="98280" cy="2700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0520" bIns="-205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1" name=""/>
                                <p:cNvSpPr/>
                                <p:nvPr/>
                              </p:nvSpPr>
                              <p:spPr>
                                <a:xfrm>
                                  <a:off x="382680" y="2421000"/>
                                  <a:ext cx="98280" cy="27000"/>
                                </a:xfrm>
                                <a:prstGeom prst="roundRect">
                                  <a:avLst>
                                    <a:gd name="adj" fmla="val 6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0520" bIns="-205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2" name=""/>
                                <p:cNvSpPr/>
                                <p:nvPr/>
                              </p:nvSpPr>
                              <p:spPr>
                                <a:xfrm>
                                  <a:off x="382680" y="2421000"/>
                                  <a:ext cx="98280" cy="23760"/>
                                </a:xfrm>
                                <a:prstGeom prst="roundRect">
                                  <a:avLst>
                                    <a:gd name="adj" fmla="val 7139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3760" bIns="-237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3" name=""/>
                                <p:cNvSpPr/>
                                <p:nvPr/>
                              </p:nvSpPr>
                              <p:spPr>
                                <a:xfrm>
                                  <a:off x="382680" y="2421000"/>
                                  <a:ext cx="98280" cy="23760"/>
                                </a:xfrm>
                                <a:prstGeom prst="roundRect">
                                  <a:avLst>
                                    <a:gd name="adj" fmla="val 7139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3760" bIns="-237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4" name=""/>
                                <p:cNvSpPr/>
                                <p:nvPr/>
                              </p:nvSpPr>
                              <p:spPr>
                                <a:xfrm>
                                  <a:off x="382680" y="2421000"/>
                                  <a:ext cx="98280" cy="23760"/>
                                </a:xfrm>
                                <a:prstGeom prst="roundRect">
                                  <a:avLst>
                                    <a:gd name="adj" fmla="val 7139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3760" bIns="-237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5" name=""/>
                                <p:cNvSpPr/>
                                <p:nvPr/>
                              </p:nvSpPr>
                              <p:spPr>
                                <a:xfrm>
                                  <a:off x="382680" y="2419200"/>
                                  <a:ext cx="225360" cy="130320"/>
                                </a:xfrm>
                                <a:prstGeom prst="roundRect">
                                  <a:avLst>
                                    <a:gd name="adj" fmla="val 731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6" name=""/>
                                <p:cNvSpPr/>
                                <p:nvPr/>
                              </p:nvSpPr>
                              <p:spPr>
                                <a:xfrm>
                                  <a:off x="384120" y="2421000"/>
                                  <a:ext cx="220680" cy="12528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7" name=""/>
                                <p:cNvSpPr/>
                                <p:nvPr/>
                              </p:nvSpPr>
                              <p:spPr>
                                <a:xfrm>
                                  <a:off x="384120" y="2421000"/>
                                  <a:ext cx="220680" cy="12528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8" name=""/>
                                <p:cNvSpPr/>
                                <p:nvPr/>
                              </p:nvSpPr>
                              <p:spPr>
                                <a:xfrm>
                                  <a:off x="381960" y="2421000"/>
                                  <a:ext cx="225360" cy="128520"/>
                                </a:xfrm>
                                <a:prstGeom prst="roundRect">
                                  <a:avLst>
                                    <a:gd name="adj" fmla="val 1278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9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2,50</a:t>
                                  </a:r>
                                  <a:endParaRPr b="0" lang="en-US" sz="9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grpSp>
          <p:nvGrpSpPr>
            <p:cNvPr id="299" name=""/>
            <p:cNvGrpSpPr/>
            <p:nvPr/>
          </p:nvGrpSpPr>
          <p:grpSpPr>
            <a:xfrm>
              <a:off x="1135080" y="5289480"/>
              <a:ext cx="769680" cy="133200"/>
              <a:chOff x="1135080" y="5289480"/>
              <a:chExt cx="769680" cy="133200"/>
            </a:xfrm>
          </p:grpSpPr>
          <p:sp>
            <p:nvSpPr>
              <p:cNvPr id="300" name=""/>
              <p:cNvSpPr/>
              <p:nvPr/>
            </p:nvSpPr>
            <p:spPr>
              <a:xfrm>
                <a:off x="1139760" y="5289480"/>
                <a:ext cx="725400" cy="111240"/>
              </a:xfrm>
              <a:prstGeom prst="roundRect">
                <a:avLst>
                  <a:gd name="adj" fmla="val 1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1135080" y="5289480"/>
                <a:ext cx="769680" cy="133200"/>
                <a:chOff x="1135080" y="5289480"/>
                <a:chExt cx="769680" cy="1332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139760" y="5289480"/>
                  <a:ext cx="720720" cy="98640"/>
                </a:xfrm>
                <a:prstGeom prst="roundRect">
                  <a:avLst>
                    <a:gd name="adj" fmla="val 161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" name=""/>
                <p:cNvGrpSpPr/>
                <p:nvPr/>
              </p:nvGrpSpPr>
              <p:grpSpPr>
                <a:xfrm>
                  <a:off x="1135080" y="5289480"/>
                  <a:ext cx="769680" cy="133200"/>
                  <a:chOff x="1135080" y="5289480"/>
                  <a:chExt cx="769680" cy="1332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1139760" y="5289480"/>
                    <a:ext cx="717480" cy="96840"/>
                  </a:xfrm>
                  <a:prstGeom prst="roundRect">
                    <a:avLst>
                      <a:gd name="adj" fmla="val 166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1135080" y="5289480"/>
                    <a:ext cx="769680" cy="133200"/>
                    <a:chOff x="1135080" y="5289480"/>
                    <a:chExt cx="769680" cy="13320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1139760" y="5289480"/>
                      <a:ext cx="712800" cy="95400"/>
                    </a:xfrm>
                    <a:prstGeom prst="roundRect">
                      <a:avLst>
                        <a:gd name="adj" fmla="val 166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7" name=""/>
                    <p:cNvGrpSpPr/>
                    <p:nvPr/>
                  </p:nvGrpSpPr>
                  <p:grpSpPr>
                    <a:xfrm>
                      <a:off x="1135080" y="5289480"/>
                      <a:ext cx="769680" cy="133200"/>
                      <a:chOff x="1135080" y="5289480"/>
                      <a:chExt cx="769680" cy="133200"/>
                    </a:xfrm>
                  </p:grpSpPr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1139760" y="5289480"/>
                        <a:ext cx="712800" cy="95400"/>
                      </a:xfrm>
                      <a:prstGeom prst="roundRect">
                        <a:avLst>
                          <a:gd name="adj" fmla="val 1667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09" name=""/>
                      <p:cNvGrpSpPr/>
                      <p:nvPr/>
                    </p:nvGrpSpPr>
                    <p:grpSpPr>
                      <a:xfrm>
                        <a:off x="1135080" y="5289480"/>
                        <a:ext cx="769680" cy="133200"/>
                        <a:chOff x="1135080" y="5289480"/>
                        <a:chExt cx="769680" cy="133200"/>
                      </a:xfrm>
                    </p:grpSpPr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1139760" y="5289480"/>
                          <a:ext cx="712800" cy="95400"/>
                        </a:xfrm>
                        <a:prstGeom prst="roundRect">
                          <a:avLst>
                            <a:gd name="adj" fmla="val 1667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11" name=""/>
                        <p:cNvGrpSpPr/>
                        <p:nvPr/>
                      </p:nvGrpSpPr>
                      <p:grpSpPr>
                        <a:xfrm>
                          <a:off x="1135080" y="5289480"/>
                          <a:ext cx="769680" cy="133200"/>
                          <a:chOff x="1135080" y="5289480"/>
                          <a:chExt cx="769680" cy="133200"/>
                        </a:xfrm>
                      </p:grpSpPr>
                      <p:sp>
                        <p:nvSpPr>
                          <p:cNvPr id="312" name=""/>
                          <p:cNvSpPr/>
                          <p:nvPr/>
                        </p:nvSpPr>
                        <p:spPr>
                          <a:xfrm>
                            <a:off x="1139760" y="5289480"/>
                            <a:ext cx="719280" cy="100080"/>
                          </a:xfrm>
                          <a:prstGeom prst="roundRect">
                            <a:avLst>
                              <a:gd name="adj" fmla="val 1611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13" name=""/>
                          <p:cNvGrpSpPr/>
                          <p:nvPr/>
                        </p:nvGrpSpPr>
                        <p:grpSpPr>
                          <a:xfrm>
                            <a:off x="1135080" y="5289480"/>
                            <a:ext cx="769680" cy="133200"/>
                            <a:chOff x="1135080" y="5289480"/>
                            <a:chExt cx="769680" cy="133200"/>
                          </a:xfrm>
                        </p:grpSpPr>
                        <p:sp>
                          <p:nvSpPr>
                            <p:cNvPr id="314" name=""/>
                            <p:cNvSpPr/>
                            <p:nvPr/>
                          </p:nvSpPr>
                          <p:spPr>
                            <a:xfrm>
                              <a:off x="1139760" y="5289480"/>
                              <a:ext cx="711360" cy="93600"/>
                            </a:xfrm>
                            <a:prstGeom prst="roundRect">
                              <a:avLst>
                                <a:gd name="adj" fmla="val 1722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15" name=""/>
                            <p:cNvGrpSpPr/>
                            <p:nvPr/>
                          </p:nvGrpSpPr>
                          <p:grpSpPr>
                            <a:xfrm>
                              <a:off x="1135080" y="5289480"/>
                              <a:ext cx="769680" cy="133200"/>
                              <a:chOff x="1135080" y="5289480"/>
                              <a:chExt cx="769680" cy="133200"/>
                            </a:xfrm>
                          </p:grpSpPr>
                          <p:sp>
                            <p:nvSpPr>
                              <p:cNvPr id="316" name=""/>
                              <p:cNvSpPr/>
                              <p:nvPr/>
                            </p:nvSpPr>
                            <p:spPr>
                              <a:xfrm>
                                <a:off x="1139760" y="5289480"/>
                                <a:ext cx="704880" cy="87480"/>
                              </a:xfrm>
                              <a:prstGeom prst="roundRect">
                                <a:avLst>
                                  <a:gd name="adj" fmla="val 1852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39960" bIns="399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17" name=""/>
                              <p:cNvGrpSpPr/>
                              <p:nvPr/>
                            </p:nvGrpSpPr>
                            <p:grpSpPr>
                              <a:xfrm>
                                <a:off x="1135080" y="5289480"/>
                                <a:ext cx="769680" cy="133200"/>
                                <a:chOff x="1135080" y="5289480"/>
                                <a:chExt cx="769680" cy="133200"/>
                              </a:xfrm>
                            </p:grpSpPr>
                            <p:sp>
                              <p:nvSpPr>
                                <p:cNvPr id="318" name=""/>
                                <p:cNvSpPr/>
                                <p:nvPr/>
                              </p:nvSpPr>
                              <p:spPr>
                                <a:xfrm>
                                  <a:off x="1139760" y="5289480"/>
                                  <a:ext cx="69552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9" name=""/>
                                <p:cNvSpPr/>
                                <p:nvPr/>
                              </p:nvSpPr>
                              <p:spPr>
                                <a:xfrm>
                                  <a:off x="1139760" y="5289480"/>
                                  <a:ext cx="69552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20" name=""/>
                                <p:cNvSpPr/>
                                <p:nvPr/>
                              </p:nvSpPr>
                              <p:spPr>
                                <a:xfrm>
                                  <a:off x="1139760" y="5289480"/>
                                  <a:ext cx="69372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21" name=""/>
                                <p:cNvSpPr/>
                                <p:nvPr/>
                              </p:nvSpPr>
                              <p:spPr>
                                <a:xfrm>
                                  <a:off x="1139760" y="5289480"/>
                                  <a:ext cx="69372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22" name=""/>
                                <p:cNvSpPr/>
                                <p:nvPr/>
                              </p:nvSpPr>
                              <p:spPr>
                                <a:xfrm>
                                  <a:off x="1139760" y="5289480"/>
                                  <a:ext cx="692280" cy="77760"/>
                                </a:xfrm>
                                <a:prstGeom prst="roundRect">
                                  <a:avLst>
                                    <a:gd name="adj" fmla="val 2083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0240" bIns="302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23" name=""/>
                                <p:cNvSpPr/>
                                <p:nvPr/>
                              </p:nvSpPr>
                              <p:spPr>
                                <a:xfrm>
                                  <a:off x="1139760" y="5292720"/>
                                  <a:ext cx="762120" cy="128520"/>
                                </a:xfrm>
                                <a:prstGeom prst="roundRect">
                                  <a:avLst>
                                    <a:gd name="adj" fmla="val 25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24" name=""/>
                                <p:cNvSpPr/>
                                <p:nvPr/>
                              </p:nvSpPr>
                              <p:spPr>
                                <a:xfrm>
                                  <a:off x="1139760" y="5294160"/>
                                  <a:ext cx="760320" cy="127080"/>
                                </a:xfrm>
                                <a:prstGeom prst="roundRect">
                                  <a:avLst>
                                    <a:gd name="adj" fmla="val 1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25" name=""/>
                                <p:cNvSpPr/>
                                <p:nvPr/>
                              </p:nvSpPr>
                              <p:spPr>
                                <a:xfrm>
                                  <a:off x="1139760" y="5294160"/>
                                  <a:ext cx="760320" cy="127080"/>
                                </a:xfrm>
                                <a:prstGeom prst="roundRect">
                                  <a:avLst>
                                    <a:gd name="adj" fmla="val 1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26" name=""/>
                                <p:cNvSpPr/>
                                <p:nvPr/>
                              </p:nvSpPr>
                              <p:spPr>
                                <a:xfrm>
                                  <a:off x="1135080" y="5294160"/>
                                  <a:ext cx="769680" cy="128520"/>
                                </a:xfrm>
                                <a:prstGeom prst="roundRect">
                                  <a:avLst>
                                    <a:gd name="adj" fmla="val 1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9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té 20.000 hab</a:t>
                                  </a:r>
                                  <a:endParaRPr b="0" lang="en-US" sz="9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grpSp>
          <p:nvGrpSpPr>
            <p:cNvPr id="327" name=""/>
            <p:cNvGrpSpPr/>
            <p:nvPr/>
          </p:nvGrpSpPr>
          <p:grpSpPr>
            <a:xfrm>
              <a:off x="2526120" y="5289480"/>
              <a:ext cx="1313640" cy="133200"/>
              <a:chOff x="2526120" y="5289480"/>
              <a:chExt cx="1313640" cy="133200"/>
            </a:xfrm>
          </p:grpSpPr>
          <p:sp>
            <p:nvSpPr>
              <p:cNvPr id="328" name=""/>
              <p:cNvSpPr/>
              <p:nvPr/>
            </p:nvSpPr>
            <p:spPr>
              <a:xfrm>
                <a:off x="2533680" y="5289480"/>
                <a:ext cx="1244520" cy="111240"/>
              </a:xfrm>
              <a:prstGeom prst="roundRect">
                <a:avLst>
                  <a:gd name="adj" fmla="val 1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2526120" y="5289480"/>
                <a:ext cx="1313640" cy="133200"/>
                <a:chOff x="2526120" y="5289480"/>
                <a:chExt cx="1313640" cy="1332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533680" y="5289480"/>
                  <a:ext cx="1239840" cy="98640"/>
                </a:xfrm>
                <a:prstGeom prst="roundRect">
                  <a:avLst>
                    <a:gd name="adj" fmla="val 161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" name=""/>
                <p:cNvGrpSpPr/>
                <p:nvPr/>
              </p:nvGrpSpPr>
              <p:grpSpPr>
                <a:xfrm>
                  <a:off x="2526120" y="5289480"/>
                  <a:ext cx="1313640" cy="133200"/>
                  <a:chOff x="2526120" y="5289480"/>
                  <a:chExt cx="1313640" cy="13320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2533680" y="5289480"/>
                    <a:ext cx="1236600" cy="96840"/>
                  </a:xfrm>
                  <a:prstGeom prst="roundRect">
                    <a:avLst>
                      <a:gd name="adj" fmla="val 166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526120" y="5289480"/>
                    <a:ext cx="1313640" cy="133200"/>
                    <a:chOff x="2526120" y="5289480"/>
                    <a:chExt cx="1313640" cy="13320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2533680" y="5289480"/>
                      <a:ext cx="1231920" cy="95400"/>
                    </a:xfrm>
                    <a:prstGeom prst="roundRect">
                      <a:avLst>
                        <a:gd name="adj" fmla="val 166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5" name=""/>
                    <p:cNvGrpSpPr/>
                    <p:nvPr/>
                  </p:nvGrpSpPr>
                  <p:grpSpPr>
                    <a:xfrm>
                      <a:off x="2526120" y="5289480"/>
                      <a:ext cx="1313640" cy="133200"/>
                      <a:chOff x="2526120" y="5289480"/>
                      <a:chExt cx="1313640" cy="133200"/>
                    </a:xfrm>
                  </p:grpSpPr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2533680" y="5289480"/>
                        <a:ext cx="1230120" cy="95400"/>
                      </a:xfrm>
                      <a:prstGeom prst="roundRect">
                        <a:avLst>
                          <a:gd name="adj" fmla="val 1667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37" name=""/>
                      <p:cNvGrpSpPr/>
                      <p:nvPr/>
                    </p:nvGrpSpPr>
                    <p:grpSpPr>
                      <a:xfrm>
                        <a:off x="2526120" y="5289480"/>
                        <a:ext cx="1313640" cy="133200"/>
                        <a:chOff x="2526120" y="5289480"/>
                        <a:chExt cx="1313640" cy="133200"/>
                      </a:xfrm>
                    </p:grpSpPr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>
                          <a:off x="2533680" y="5289480"/>
                          <a:ext cx="1230120" cy="95400"/>
                        </a:xfrm>
                        <a:prstGeom prst="roundRect">
                          <a:avLst>
                            <a:gd name="adj" fmla="val 1667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39" name=""/>
                        <p:cNvGrpSpPr/>
                        <p:nvPr/>
                      </p:nvGrpSpPr>
                      <p:grpSpPr>
                        <a:xfrm>
                          <a:off x="2526120" y="5289480"/>
                          <a:ext cx="1313640" cy="133200"/>
                          <a:chOff x="2526120" y="5289480"/>
                          <a:chExt cx="1313640" cy="133200"/>
                        </a:xfrm>
                      </p:grpSpPr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2533680" y="5289480"/>
                            <a:ext cx="1239840" cy="100080"/>
                          </a:xfrm>
                          <a:prstGeom prst="roundRect">
                            <a:avLst>
                              <a:gd name="adj" fmla="val 1611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41" name=""/>
                          <p:cNvGrpSpPr/>
                          <p:nvPr/>
                        </p:nvGrpSpPr>
                        <p:grpSpPr>
                          <a:xfrm>
                            <a:off x="2526120" y="5289480"/>
                            <a:ext cx="1313640" cy="133200"/>
                            <a:chOff x="2526120" y="5289480"/>
                            <a:chExt cx="1313640" cy="133200"/>
                          </a:xfrm>
                        </p:grpSpPr>
                        <p:sp>
                          <p:nvSpPr>
                            <p:cNvPr id="342" name=""/>
                            <p:cNvSpPr/>
                            <p:nvPr/>
                          </p:nvSpPr>
                          <p:spPr>
                            <a:xfrm>
                              <a:off x="2533680" y="5289480"/>
                              <a:ext cx="1231920" cy="93600"/>
                            </a:xfrm>
                            <a:prstGeom prst="roundRect">
                              <a:avLst>
                                <a:gd name="adj" fmla="val 1722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43" name=""/>
                            <p:cNvGrpSpPr/>
                            <p:nvPr/>
                          </p:nvGrpSpPr>
                          <p:grpSpPr>
                            <a:xfrm>
                              <a:off x="2526120" y="5289480"/>
                              <a:ext cx="1313640" cy="133200"/>
                              <a:chOff x="2526120" y="5289480"/>
                              <a:chExt cx="1313640" cy="133200"/>
                            </a:xfrm>
                          </p:grpSpPr>
                          <p:sp>
                            <p:nvSpPr>
                              <p:cNvPr id="344" name=""/>
                              <p:cNvSpPr/>
                              <p:nvPr/>
                            </p:nvSpPr>
                            <p:spPr>
                              <a:xfrm>
                                <a:off x="2533680" y="5289480"/>
                                <a:ext cx="1222200" cy="87480"/>
                              </a:xfrm>
                              <a:prstGeom prst="roundRect">
                                <a:avLst>
                                  <a:gd name="adj" fmla="val 1852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39960" bIns="399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45" name=""/>
                              <p:cNvGrpSpPr/>
                              <p:nvPr/>
                            </p:nvGrpSpPr>
                            <p:grpSpPr>
                              <a:xfrm>
                                <a:off x="2526120" y="5289480"/>
                                <a:ext cx="1313640" cy="133200"/>
                                <a:chOff x="2526120" y="5289480"/>
                                <a:chExt cx="1313640" cy="133200"/>
                              </a:xfrm>
                            </p:grpSpPr>
                            <p:sp>
                              <p:nvSpPr>
                                <p:cNvPr id="346" name=""/>
                                <p:cNvSpPr/>
                                <p:nvPr/>
                              </p:nvSpPr>
                              <p:spPr>
                                <a:xfrm>
                                  <a:off x="2533680" y="5289480"/>
                                  <a:ext cx="121284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7" name=""/>
                                <p:cNvSpPr/>
                                <p:nvPr/>
                              </p:nvSpPr>
                              <p:spPr>
                                <a:xfrm>
                                  <a:off x="2533680" y="5289480"/>
                                  <a:ext cx="121284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8" name=""/>
                                <p:cNvSpPr/>
                                <p:nvPr/>
                              </p:nvSpPr>
                              <p:spPr>
                                <a:xfrm>
                                  <a:off x="2533680" y="5289480"/>
                                  <a:ext cx="121140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49" name=""/>
                                <p:cNvSpPr/>
                                <p:nvPr/>
                              </p:nvSpPr>
                              <p:spPr>
                                <a:xfrm>
                                  <a:off x="2533680" y="5289480"/>
                                  <a:ext cx="121140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50" name=""/>
                                <p:cNvSpPr/>
                                <p:nvPr/>
                              </p:nvSpPr>
                              <p:spPr>
                                <a:xfrm>
                                  <a:off x="2533680" y="5289480"/>
                                  <a:ext cx="1211400" cy="77760"/>
                                </a:xfrm>
                                <a:prstGeom prst="roundRect">
                                  <a:avLst>
                                    <a:gd name="adj" fmla="val 2083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0240" bIns="302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51" name=""/>
                                <p:cNvSpPr/>
                                <p:nvPr/>
                              </p:nvSpPr>
                              <p:spPr>
                                <a:xfrm>
                                  <a:off x="2533680" y="5292720"/>
                                  <a:ext cx="1301760" cy="128520"/>
                                </a:xfrm>
                                <a:prstGeom prst="roundRect">
                                  <a:avLst>
                                    <a:gd name="adj" fmla="val 25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52" name=""/>
                                <p:cNvSpPr/>
                                <p:nvPr/>
                              </p:nvSpPr>
                              <p:spPr>
                                <a:xfrm>
                                  <a:off x="2533680" y="5294160"/>
                                  <a:ext cx="1299960" cy="127080"/>
                                </a:xfrm>
                                <a:prstGeom prst="roundRect">
                                  <a:avLst>
                                    <a:gd name="adj" fmla="val 1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53" name=""/>
                                <p:cNvSpPr/>
                                <p:nvPr/>
                              </p:nvSpPr>
                              <p:spPr>
                                <a:xfrm>
                                  <a:off x="2533680" y="5294160"/>
                                  <a:ext cx="1298520" cy="127080"/>
                                </a:xfrm>
                                <a:prstGeom prst="roundRect">
                                  <a:avLst>
                                    <a:gd name="adj" fmla="val 1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54" name=""/>
                                <p:cNvSpPr/>
                                <p:nvPr/>
                              </p:nvSpPr>
                              <p:spPr>
                                <a:xfrm>
                                  <a:off x="2526120" y="5294160"/>
                                  <a:ext cx="1313640" cy="128520"/>
                                </a:xfrm>
                                <a:prstGeom prst="roundRect">
                                  <a:avLst>
                                    <a:gd name="adj" fmla="val 1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9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de 20.000 a 100.000 hab.</a:t>
                                  </a:r>
                                  <a:endParaRPr b="0" lang="en-US" sz="9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grpSp>
          <p:nvGrpSpPr>
            <p:cNvPr id="355" name=""/>
            <p:cNvGrpSpPr/>
            <p:nvPr/>
          </p:nvGrpSpPr>
          <p:grpSpPr>
            <a:xfrm>
              <a:off x="4120560" y="5289480"/>
              <a:ext cx="1377720" cy="133200"/>
              <a:chOff x="4120560" y="5289480"/>
              <a:chExt cx="1377720" cy="133200"/>
            </a:xfrm>
          </p:grpSpPr>
          <p:sp>
            <p:nvSpPr>
              <p:cNvPr id="356" name=""/>
              <p:cNvSpPr/>
              <p:nvPr/>
            </p:nvSpPr>
            <p:spPr>
              <a:xfrm>
                <a:off x="4125960" y="5289480"/>
                <a:ext cx="1306440" cy="111240"/>
              </a:xfrm>
              <a:prstGeom prst="roundRect">
                <a:avLst>
                  <a:gd name="adj" fmla="val 1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4120560" y="5289480"/>
                <a:ext cx="1377720" cy="133200"/>
                <a:chOff x="4120560" y="5289480"/>
                <a:chExt cx="1377720" cy="1332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4125960" y="5289480"/>
                  <a:ext cx="1301760" cy="98640"/>
                </a:xfrm>
                <a:prstGeom prst="roundRect">
                  <a:avLst>
                    <a:gd name="adj" fmla="val 161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9" name=""/>
                <p:cNvGrpSpPr/>
                <p:nvPr/>
              </p:nvGrpSpPr>
              <p:grpSpPr>
                <a:xfrm>
                  <a:off x="4120560" y="5289480"/>
                  <a:ext cx="1377720" cy="133200"/>
                  <a:chOff x="4120560" y="5289480"/>
                  <a:chExt cx="1377720" cy="1332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125960" y="5289480"/>
                    <a:ext cx="1297080" cy="96840"/>
                  </a:xfrm>
                  <a:prstGeom prst="roundRect">
                    <a:avLst>
                      <a:gd name="adj" fmla="val 166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4120560" y="5289480"/>
                    <a:ext cx="1377720" cy="133200"/>
                    <a:chOff x="4120560" y="5289480"/>
                    <a:chExt cx="1377720" cy="13320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4125960" y="5289480"/>
                      <a:ext cx="1293840" cy="95400"/>
                    </a:xfrm>
                    <a:prstGeom prst="roundRect">
                      <a:avLst>
                        <a:gd name="adj" fmla="val 166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63" name=""/>
                    <p:cNvGrpSpPr/>
                    <p:nvPr/>
                  </p:nvGrpSpPr>
                  <p:grpSpPr>
                    <a:xfrm>
                      <a:off x="4120560" y="5289480"/>
                      <a:ext cx="1377720" cy="133200"/>
                      <a:chOff x="4120560" y="5289480"/>
                      <a:chExt cx="1377720" cy="133200"/>
                    </a:xfrm>
                  </p:grpSpPr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4125960" y="5289480"/>
                        <a:ext cx="1292040" cy="95400"/>
                      </a:xfrm>
                      <a:prstGeom prst="roundRect">
                        <a:avLst>
                          <a:gd name="adj" fmla="val 1667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4120560" y="5289480"/>
                        <a:ext cx="1377720" cy="133200"/>
                        <a:chOff x="4120560" y="5289480"/>
                        <a:chExt cx="1377720" cy="133200"/>
                      </a:xfrm>
                    </p:grpSpPr>
                    <p:sp>
                      <p:nvSpPr>
                        <p:cNvPr id="366" name=""/>
                        <p:cNvSpPr/>
                        <p:nvPr/>
                      </p:nvSpPr>
                      <p:spPr>
                        <a:xfrm>
                          <a:off x="4125960" y="5289480"/>
                          <a:ext cx="1290600" cy="95400"/>
                        </a:xfrm>
                        <a:prstGeom prst="roundRect">
                          <a:avLst>
                            <a:gd name="adj" fmla="val 1667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67" name=""/>
                        <p:cNvGrpSpPr/>
                        <p:nvPr/>
                      </p:nvGrpSpPr>
                      <p:grpSpPr>
                        <a:xfrm>
                          <a:off x="4120560" y="5289480"/>
                          <a:ext cx="1377720" cy="133200"/>
                          <a:chOff x="4120560" y="5289480"/>
                          <a:chExt cx="1377720" cy="133200"/>
                        </a:xfrm>
                      </p:grpSpPr>
                      <p:sp>
                        <p:nvSpPr>
                          <p:cNvPr id="368" name=""/>
                          <p:cNvSpPr/>
                          <p:nvPr/>
                        </p:nvSpPr>
                        <p:spPr>
                          <a:xfrm>
                            <a:off x="4125960" y="5289480"/>
                            <a:ext cx="1299960" cy="100080"/>
                          </a:xfrm>
                          <a:prstGeom prst="roundRect">
                            <a:avLst>
                              <a:gd name="adj" fmla="val 1611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69" name=""/>
                          <p:cNvGrpSpPr/>
                          <p:nvPr/>
                        </p:nvGrpSpPr>
                        <p:grpSpPr>
                          <a:xfrm>
                            <a:off x="4120560" y="5289480"/>
                            <a:ext cx="1377720" cy="133200"/>
                            <a:chOff x="4120560" y="5289480"/>
                            <a:chExt cx="1377720" cy="133200"/>
                          </a:xfrm>
                        </p:grpSpPr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4125960" y="5289480"/>
                              <a:ext cx="1290600" cy="93600"/>
                            </a:xfrm>
                            <a:prstGeom prst="roundRect">
                              <a:avLst>
                                <a:gd name="adj" fmla="val 1722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71" name=""/>
                            <p:cNvGrpSpPr/>
                            <p:nvPr/>
                          </p:nvGrpSpPr>
                          <p:grpSpPr>
                            <a:xfrm>
                              <a:off x="4120560" y="5289480"/>
                              <a:ext cx="1377720" cy="133200"/>
                              <a:chOff x="4120560" y="5289480"/>
                              <a:chExt cx="1377720" cy="133200"/>
                            </a:xfrm>
                          </p:grpSpPr>
                          <p:sp>
                            <p:nvSpPr>
                              <p:cNvPr id="372" name=""/>
                              <p:cNvSpPr/>
                              <p:nvPr/>
                            </p:nvSpPr>
                            <p:spPr>
                              <a:xfrm>
                                <a:off x="4125960" y="5289480"/>
                                <a:ext cx="1282680" cy="87480"/>
                              </a:xfrm>
                              <a:prstGeom prst="roundRect">
                                <a:avLst>
                                  <a:gd name="adj" fmla="val 1852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39960" bIns="399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73" name=""/>
                              <p:cNvGrpSpPr/>
                              <p:nvPr/>
                            </p:nvGrpSpPr>
                            <p:grpSpPr>
                              <a:xfrm>
                                <a:off x="4120560" y="5289480"/>
                                <a:ext cx="1377720" cy="133200"/>
                                <a:chOff x="4120560" y="5289480"/>
                                <a:chExt cx="1377720" cy="133200"/>
                              </a:xfrm>
                            </p:grpSpPr>
                            <p:sp>
                              <p:nvSpPr>
                                <p:cNvPr id="374" name=""/>
                                <p:cNvSpPr/>
                                <p:nvPr/>
                              </p:nvSpPr>
                              <p:spPr>
                                <a:xfrm>
                                  <a:off x="4125960" y="5289480"/>
                                  <a:ext cx="127152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" name=""/>
                                <p:cNvSpPr/>
                                <p:nvPr/>
                              </p:nvSpPr>
                              <p:spPr>
                                <a:xfrm>
                                  <a:off x="4125960" y="5289480"/>
                                  <a:ext cx="127008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6" name=""/>
                                <p:cNvSpPr/>
                                <p:nvPr/>
                              </p:nvSpPr>
                              <p:spPr>
                                <a:xfrm>
                                  <a:off x="4125960" y="5289480"/>
                                  <a:ext cx="127008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7" name=""/>
                                <p:cNvSpPr/>
                                <p:nvPr/>
                              </p:nvSpPr>
                              <p:spPr>
                                <a:xfrm>
                                  <a:off x="4125960" y="5289480"/>
                                  <a:ext cx="126828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8" name=""/>
                                <p:cNvSpPr/>
                                <p:nvPr/>
                              </p:nvSpPr>
                              <p:spPr>
                                <a:xfrm>
                                  <a:off x="4125960" y="5289480"/>
                                  <a:ext cx="1266840" cy="77760"/>
                                </a:xfrm>
                                <a:prstGeom prst="roundRect">
                                  <a:avLst>
                                    <a:gd name="adj" fmla="val 2083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0240" bIns="302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9" name=""/>
                                <p:cNvSpPr/>
                                <p:nvPr/>
                              </p:nvSpPr>
                              <p:spPr>
                                <a:xfrm>
                                  <a:off x="4125960" y="5292720"/>
                                  <a:ext cx="1363680" cy="128520"/>
                                </a:xfrm>
                                <a:prstGeom prst="roundRect">
                                  <a:avLst>
                                    <a:gd name="adj" fmla="val 25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80" name=""/>
                                <p:cNvSpPr/>
                                <p:nvPr/>
                              </p:nvSpPr>
                              <p:spPr>
                                <a:xfrm>
                                  <a:off x="4129200" y="5294160"/>
                                  <a:ext cx="1361880" cy="127080"/>
                                </a:xfrm>
                                <a:prstGeom prst="roundRect">
                                  <a:avLst>
                                    <a:gd name="adj" fmla="val 1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81" name=""/>
                                <p:cNvSpPr/>
                                <p:nvPr/>
                              </p:nvSpPr>
                              <p:spPr>
                                <a:xfrm>
                                  <a:off x="4129200" y="5294160"/>
                                  <a:ext cx="1360440" cy="127080"/>
                                </a:xfrm>
                                <a:prstGeom prst="roundRect">
                                  <a:avLst>
                                    <a:gd name="adj" fmla="val 1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82" name=""/>
                                <p:cNvSpPr/>
                                <p:nvPr/>
                              </p:nvSpPr>
                              <p:spPr>
                                <a:xfrm>
                                  <a:off x="4120560" y="5294160"/>
                                  <a:ext cx="1377720" cy="128520"/>
                                </a:xfrm>
                                <a:prstGeom prst="roundRect">
                                  <a:avLst>
                                    <a:gd name="adj" fmla="val 1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9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de 100.000 a 500.000 hab.</a:t>
                                  </a:r>
                                  <a:endParaRPr b="0" lang="en-US" sz="9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grpSp>
          <p:nvGrpSpPr>
            <p:cNvPr id="383" name=""/>
            <p:cNvGrpSpPr/>
            <p:nvPr/>
          </p:nvGrpSpPr>
          <p:grpSpPr>
            <a:xfrm>
              <a:off x="5810400" y="5289480"/>
              <a:ext cx="1193040" cy="133200"/>
              <a:chOff x="5810400" y="5289480"/>
              <a:chExt cx="1193040" cy="133200"/>
            </a:xfrm>
          </p:grpSpPr>
          <p:sp>
            <p:nvSpPr>
              <p:cNvPr id="384" name=""/>
              <p:cNvSpPr/>
              <p:nvPr/>
            </p:nvSpPr>
            <p:spPr>
              <a:xfrm>
                <a:off x="5810400" y="5289480"/>
                <a:ext cx="1117440" cy="111240"/>
              </a:xfrm>
              <a:prstGeom prst="roundRect">
                <a:avLst>
                  <a:gd name="adj" fmla="val 1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5811840" y="5289480"/>
                <a:ext cx="1191600" cy="133200"/>
                <a:chOff x="5811840" y="5289480"/>
                <a:chExt cx="1191600" cy="1332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811840" y="5289480"/>
                  <a:ext cx="1111320" cy="98640"/>
                </a:xfrm>
                <a:prstGeom prst="roundRect">
                  <a:avLst>
                    <a:gd name="adj" fmla="val 161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7" name=""/>
                <p:cNvGrpSpPr/>
                <p:nvPr/>
              </p:nvGrpSpPr>
              <p:grpSpPr>
                <a:xfrm>
                  <a:off x="5811840" y="5289480"/>
                  <a:ext cx="1191600" cy="133200"/>
                  <a:chOff x="5811840" y="5289480"/>
                  <a:chExt cx="1191600" cy="13320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5811840" y="5289480"/>
                    <a:ext cx="1108080" cy="96840"/>
                  </a:xfrm>
                  <a:prstGeom prst="roundRect">
                    <a:avLst>
                      <a:gd name="adj" fmla="val 166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813280" y="5289480"/>
                    <a:ext cx="1190160" cy="133200"/>
                    <a:chOff x="5813280" y="5289480"/>
                    <a:chExt cx="1190160" cy="13320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5813280" y="5289480"/>
                      <a:ext cx="1103400" cy="95400"/>
                    </a:xfrm>
                    <a:prstGeom prst="roundRect">
                      <a:avLst>
                        <a:gd name="adj" fmla="val 166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91" name=""/>
                    <p:cNvGrpSpPr/>
                    <p:nvPr/>
                  </p:nvGrpSpPr>
                  <p:grpSpPr>
                    <a:xfrm>
                      <a:off x="5815080" y="5289480"/>
                      <a:ext cx="1188360" cy="133200"/>
                      <a:chOff x="5815080" y="5289480"/>
                      <a:chExt cx="1188360" cy="133200"/>
                    </a:xfrm>
                  </p:grpSpPr>
                  <p:sp>
                    <p:nvSpPr>
                      <p:cNvPr id="392" name=""/>
                      <p:cNvSpPr/>
                      <p:nvPr/>
                    </p:nvSpPr>
                    <p:spPr>
                      <a:xfrm>
                        <a:off x="5815080" y="5289480"/>
                        <a:ext cx="1100160" cy="95400"/>
                      </a:xfrm>
                      <a:prstGeom prst="roundRect">
                        <a:avLst>
                          <a:gd name="adj" fmla="val 1667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93" name=""/>
                      <p:cNvGrpSpPr/>
                      <p:nvPr/>
                    </p:nvGrpSpPr>
                    <p:grpSpPr>
                      <a:xfrm>
                        <a:off x="5816520" y="5289480"/>
                        <a:ext cx="1186920" cy="133200"/>
                        <a:chOff x="5816520" y="5289480"/>
                        <a:chExt cx="1186920" cy="133200"/>
                      </a:xfrm>
                    </p:grpSpPr>
                    <p:sp>
                      <p:nvSpPr>
                        <p:cNvPr id="394" name=""/>
                        <p:cNvSpPr/>
                        <p:nvPr/>
                      </p:nvSpPr>
                      <p:spPr>
                        <a:xfrm>
                          <a:off x="5816520" y="5289480"/>
                          <a:ext cx="1100160" cy="95400"/>
                        </a:xfrm>
                        <a:prstGeom prst="roundRect">
                          <a:avLst>
                            <a:gd name="adj" fmla="val 1667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95" name=""/>
                        <p:cNvGrpSpPr/>
                        <p:nvPr/>
                      </p:nvGrpSpPr>
                      <p:grpSpPr>
                        <a:xfrm>
                          <a:off x="5818320" y="5289480"/>
                          <a:ext cx="1185120" cy="133200"/>
                          <a:chOff x="5818320" y="5289480"/>
                          <a:chExt cx="1185120" cy="133200"/>
                        </a:xfrm>
                      </p:grpSpPr>
                      <p:sp>
                        <p:nvSpPr>
                          <p:cNvPr id="396" name=""/>
                          <p:cNvSpPr/>
                          <p:nvPr/>
                        </p:nvSpPr>
                        <p:spPr>
                          <a:xfrm>
                            <a:off x="5818320" y="5289480"/>
                            <a:ext cx="1110960" cy="100080"/>
                          </a:xfrm>
                          <a:prstGeom prst="roundRect">
                            <a:avLst>
                              <a:gd name="adj" fmla="val 1611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97" name=""/>
                          <p:cNvGrpSpPr/>
                          <p:nvPr/>
                        </p:nvGrpSpPr>
                        <p:grpSpPr>
                          <a:xfrm>
                            <a:off x="5818320" y="5289480"/>
                            <a:ext cx="1185120" cy="133200"/>
                            <a:chOff x="5818320" y="5289480"/>
                            <a:chExt cx="1185120" cy="133200"/>
                          </a:xfrm>
                        </p:grpSpPr>
                        <p:sp>
                          <p:nvSpPr>
                            <p:cNvPr id="398" name=""/>
                            <p:cNvSpPr/>
                            <p:nvPr/>
                          </p:nvSpPr>
                          <p:spPr>
                            <a:xfrm>
                              <a:off x="5818320" y="5289480"/>
                              <a:ext cx="1101600" cy="93600"/>
                            </a:xfrm>
                            <a:prstGeom prst="roundRect">
                              <a:avLst>
                                <a:gd name="adj" fmla="val 1722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99" name=""/>
                            <p:cNvGrpSpPr/>
                            <p:nvPr/>
                          </p:nvGrpSpPr>
                          <p:grpSpPr>
                            <a:xfrm>
                              <a:off x="5819760" y="5289480"/>
                              <a:ext cx="1183680" cy="133200"/>
                              <a:chOff x="5819760" y="5289480"/>
                              <a:chExt cx="1183680" cy="133200"/>
                            </a:xfrm>
                          </p:grpSpPr>
                          <p:sp>
                            <p:nvSpPr>
                              <p:cNvPr id="400" name=""/>
                              <p:cNvSpPr/>
                              <p:nvPr/>
                            </p:nvSpPr>
                            <p:spPr>
                              <a:xfrm>
                                <a:off x="5819760" y="5289480"/>
                                <a:ext cx="1093680" cy="87480"/>
                              </a:xfrm>
                              <a:prstGeom prst="roundRect">
                                <a:avLst>
                                  <a:gd name="adj" fmla="val 1852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39960" bIns="399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01" name=""/>
                              <p:cNvGrpSpPr/>
                              <p:nvPr/>
                            </p:nvGrpSpPr>
                            <p:grpSpPr>
                              <a:xfrm>
                                <a:off x="5821200" y="5289480"/>
                                <a:ext cx="1182240" cy="133200"/>
                                <a:chOff x="5821200" y="5289480"/>
                                <a:chExt cx="1182240" cy="133200"/>
                              </a:xfrm>
                            </p:grpSpPr>
                            <p:sp>
                              <p:nvSpPr>
                                <p:cNvPr id="402" name=""/>
                                <p:cNvSpPr/>
                                <p:nvPr/>
                              </p:nvSpPr>
                              <p:spPr>
                                <a:xfrm>
                                  <a:off x="5821200" y="5289480"/>
                                  <a:ext cx="107964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3" name=""/>
                                <p:cNvSpPr/>
                                <p:nvPr/>
                              </p:nvSpPr>
                              <p:spPr>
                                <a:xfrm>
                                  <a:off x="5823000" y="5289480"/>
                                  <a:ext cx="107928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4" name=""/>
                                <p:cNvSpPr/>
                                <p:nvPr/>
                              </p:nvSpPr>
                              <p:spPr>
                                <a:xfrm>
                                  <a:off x="5824440" y="5289480"/>
                                  <a:ext cx="107784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5" name=""/>
                                <p:cNvSpPr/>
                                <p:nvPr/>
                              </p:nvSpPr>
                              <p:spPr>
                                <a:xfrm>
                                  <a:off x="5826240" y="5289480"/>
                                  <a:ext cx="107784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6" name=""/>
                                <p:cNvSpPr/>
                                <p:nvPr/>
                              </p:nvSpPr>
                              <p:spPr>
                                <a:xfrm>
                                  <a:off x="5827680" y="5289480"/>
                                  <a:ext cx="1077840" cy="77760"/>
                                </a:xfrm>
                                <a:prstGeom prst="roundRect">
                                  <a:avLst>
                                    <a:gd name="adj" fmla="val 2083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0240" bIns="302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7" name=""/>
                                <p:cNvSpPr/>
                                <p:nvPr/>
                              </p:nvSpPr>
                              <p:spPr>
                                <a:xfrm>
                                  <a:off x="5834160" y="5292720"/>
                                  <a:ext cx="1162080" cy="128520"/>
                                </a:xfrm>
                                <a:prstGeom prst="roundRect">
                                  <a:avLst>
                                    <a:gd name="adj" fmla="val 25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8" name=""/>
                                <p:cNvSpPr/>
                                <p:nvPr/>
                              </p:nvSpPr>
                              <p:spPr>
                                <a:xfrm>
                                  <a:off x="5834160" y="5294160"/>
                                  <a:ext cx="1160280" cy="127080"/>
                                </a:xfrm>
                                <a:prstGeom prst="roundRect">
                                  <a:avLst>
                                    <a:gd name="adj" fmla="val 1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9" name=""/>
                                <p:cNvSpPr/>
                                <p:nvPr/>
                              </p:nvSpPr>
                              <p:spPr>
                                <a:xfrm>
                                  <a:off x="5835600" y="5294160"/>
                                  <a:ext cx="1160640" cy="127080"/>
                                </a:xfrm>
                                <a:prstGeom prst="roundRect">
                                  <a:avLst>
                                    <a:gd name="adj" fmla="val 1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10" name=""/>
                                <p:cNvSpPr/>
                                <p:nvPr/>
                              </p:nvSpPr>
                              <p:spPr>
                                <a:xfrm>
                                  <a:off x="5831640" y="5294160"/>
                                  <a:ext cx="1171800" cy="128520"/>
                                </a:xfrm>
                                <a:prstGeom prst="roundRect">
                                  <a:avLst>
                                    <a:gd name="adj" fmla="val 1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9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cima de 500.000 hab.</a:t>
                                  </a:r>
                                  <a:endParaRPr b="0" lang="en-US" sz="9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grpSp>
          <p:nvGrpSpPr>
            <p:cNvPr id="411" name=""/>
            <p:cNvGrpSpPr/>
            <p:nvPr/>
          </p:nvGrpSpPr>
          <p:grpSpPr>
            <a:xfrm>
              <a:off x="7650000" y="5289480"/>
              <a:ext cx="633960" cy="133200"/>
              <a:chOff x="7650000" y="5289480"/>
              <a:chExt cx="633960" cy="133200"/>
            </a:xfrm>
          </p:grpSpPr>
          <p:sp>
            <p:nvSpPr>
              <p:cNvPr id="412" name=""/>
              <p:cNvSpPr/>
              <p:nvPr/>
            </p:nvSpPr>
            <p:spPr>
              <a:xfrm>
                <a:off x="7651800" y="5289480"/>
                <a:ext cx="596880" cy="111240"/>
              </a:xfrm>
              <a:prstGeom prst="roundRect">
                <a:avLst>
                  <a:gd name="adj" fmla="val 1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7650000" y="5289480"/>
                <a:ext cx="633960" cy="133200"/>
                <a:chOff x="7650000" y="5289480"/>
                <a:chExt cx="633960" cy="1332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7651800" y="5289480"/>
                  <a:ext cx="592200" cy="98640"/>
                </a:xfrm>
                <a:prstGeom prst="roundRect">
                  <a:avLst>
                    <a:gd name="adj" fmla="val 161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7650000" y="5289480"/>
                  <a:ext cx="633960" cy="133200"/>
                  <a:chOff x="7650000" y="5289480"/>
                  <a:chExt cx="633960" cy="133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7651800" y="5289480"/>
                    <a:ext cx="588960" cy="96840"/>
                  </a:xfrm>
                  <a:prstGeom prst="roundRect">
                    <a:avLst>
                      <a:gd name="adj" fmla="val 166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7650000" y="5289480"/>
                    <a:ext cx="633960" cy="133200"/>
                    <a:chOff x="7650000" y="5289480"/>
                    <a:chExt cx="633960" cy="13320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7651800" y="5289480"/>
                      <a:ext cx="587160" cy="95400"/>
                    </a:xfrm>
                    <a:prstGeom prst="roundRect">
                      <a:avLst>
                        <a:gd name="adj" fmla="val 166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19" name=""/>
                    <p:cNvGrpSpPr/>
                    <p:nvPr/>
                  </p:nvGrpSpPr>
                  <p:grpSpPr>
                    <a:xfrm>
                      <a:off x="7650000" y="5289480"/>
                      <a:ext cx="633960" cy="133200"/>
                      <a:chOff x="7650000" y="5289480"/>
                      <a:chExt cx="633960" cy="133200"/>
                    </a:xfrm>
                  </p:grpSpPr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7651800" y="5289480"/>
                        <a:ext cx="584280" cy="95400"/>
                      </a:xfrm>
                      <a:prstGeom prst="roundRect">
                        <a:avLst>
                          <a:gd name="adj" fmla="val 1667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21" name=""/>
                      <p:cNvGrpSpPr/>
                      <p:nvPr/>
                    </p:nvGrpSpPr>
                    <p:grpSpPr>
                      <a:xfrm>
                        <a:off x="7650000" y="5289480"/>
                        <a:ext cx="633960" cy="133200"/>
                        <a:chOff x="7650000" y="5289480"/>
                        <a:chExt cx="633960" cy="133200"/>
                      </a:xfrm>
                    </p:grpSpPr>
                    <p:sp>
                      <p:nvSpPr>
                        <p:cNvPr id="422" name=""/>
                        <p:cNvSpPr/>
                        <p:nvPr/>
                      </p:nvSpPr>
                      <p:spPr>
                        <a:xfrm>
                          <a:off x="7651800" y="5289480"/>
                          <a:ext cx="584280" cy="95400"/>
                        </a:xfrm>
                        <a:prstGeom prst="roundRect">
                          <a:avLst>
                            <a:gd name="adj" fmla="val 1667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23" name=""/>
                        <p:cNvGrpSpPr/>
                        <p:nvPr/>
                      </p:nvGrpSpPr>
                      <p:grpSpPr>
                        <a:xfrm>
                          <a:off x="7650000" y="5289480"/>
                          <a:ext cx="633960" cy="133200"/>
                          <a:chOff x="7650000" y="5289480"/>
                          <a:chExt cx="633960" cy="133200"/>
                        </a:xfrm>
                      </p:grpSpPr>
                      <p:sp>
                        <p:nvSpPr>
                          <p:cNvPr id="424" name=""/>
                          <p:cNvSpPr/>
                          <p:nvPr/>
                        </p:nvSpPr>
                        <p:spPr>
                          <a:xfrm>
                            <a:off x="7651800" y="5289480"/>
                            <a:ext cx="592200" cy="100080"/>
                          </a:xfrm>
                          <a:prstGeom prst="roundRect">
                            <a:avLst>
                              <a:gd name="adj" fmla="val 1611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425" name=""/>
                          <p:cNvGrpSpPr/>
                          <p:nvPr/>
                        </p:nvGrpSpPr>
                        <p:grpSpPr>
                          <a:xfrm>
                            <a:off x="7650000" y="5289480"/>
                            <a:ext cx="633960" cy="133200"/>
                            <a:chOff x="7650000" y="5289480"/>
                            <a:chExt cx="633960" cy="133200"/>
                          </a:xfrm>
                        </p:grpSpPr>
                        <p:sp>
                          <p:nvSpPr>
                            <p:cNvPr id="426" name=""/>
                            <p:cNvSpPr/>
                            <p:nvPr/>
                          </p:nvSpPr>
                          <p:spPr>
                            <a:xfrm>
                              <a:off x="7651800" y="5289480"/>
                              <a:ext cx="584280" cy="93600"/>
                            </a:xfrm>
                            <a:prstGeom prst="roundRect">
                              <a:avLst>
                                <a:gd name="adj" fmla="val 1722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27" name=""/>
                            <p:cNvGrpSpPr/>
                            <p:nvPr/>
                          </p:nvGrpSpPr>
                          <p:grpSpPr>
                            <a:xfrm>
                              <a:off x="7650000" y="5289480"/>
                              <a:ext cx="633960" cy="133200"/>
                              <a:chOff x="7650000" y="5289480"/>
                              <a:chExt cx="633960" cy="133200"/>
                            </a:xfrm>
                          </p:grpSpPr>
                          <p:sp>
                            <p:nvSpPr>
                              <p:cNvPr id="428" name=""/>
                              <p:cNvSpPr/>
                              <p:nvPr/>
                            </p:nvSpPr>
                            <p:spPr>
                              <a:xfrm>
                                <a:off x="7651800" y="5289480"/>
                                <a:ext cx="576360" cy="87480"/>
                              </a:xfrm>
                              <a:prstGeom prst="roundRect">
                                <a:avLst>
                                  <a:gd name="adj" fmla="val 1852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39960" bIns="399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29" name=""/>
                              <p:cNvGrpSpPr/>
                              <p:nvPr/>
                            </p:nvGrpSpPr>
                            <p:grpSpPr>
                              <a:xfrm>
                                <a:off x="7650000" y="5289480"/>
                                <a:ext cx="633960" cy="133200"/>
                                <a:chOff x="7650000" y="5289480"/>
                                <a:chExt cx="633960" cy="133200"/>
                              </a:xfrm>
                            </p:grpSpPr>
                            <p:sp>
                              <p:nvSpPr>
                                <p:cNvPr id="430" name=""/>
                                <p:cNvSpPr/>
                                <p:nvPr/>
                              </p:nvSpPr>
                              <p:spPr>
                                <a:xfrm>
                                  <a:off x="7651800" y="5289480"/>
                                  <a:ext cx="56664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1" name=""/>
                                <p:cNvSpPr/>
                                <p:nvPr/>
                              </p:nvSpPr>
                              <p:spPr>
                                <a:xfrm>
                                  <a:off x="7651800" y="5289480"/>
                                  <a:ext cx="56664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2" name=""/>
                                <p:cNvSpPr/>
                                <p:nvPr/>
                              </p:nvSpPr>
                              <p:spPr>
                                <a:xfrm>
                                  <a:off x="7651800" y="5289480"/>
                                  <a:ext cx="56664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3" name=""/>
                                <p:cNvSpPr/>
                                <p:nvPr/>
                              </p:nvSpPr>
                              <p:spPr>
                                <a:xfrm>
                                  <a:off x="7651800" y="5289480"/>
                                  <a:ext cx="566640" cy="79560"/>
                                </a:xfrm>
                                <a:prstGeom prst="roundRect">
                                  <a:avLst>
                                    <a:gd name="adj" fmla="val 2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2040" bIns="320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4" name=""/>
                                <p:cNvSpPr/>
                                <p:nvPr/>
                              </p:nvSpPr>
                              <p:spPr>
                                <a:xfrm>
                                  <a:off x="7651800" y="5289480"/>
                                  <a:ext cx="565200" cy="77760"/>
                                </a:xfrm>
                                <a:prstGeom prst="roundRect">
                                  <a:avLst>
                                    <a:gd name="adj" fmla="val 2083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30240" bIns="302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5" name=""/>
                                <p:cNvSpPr/>
                                <p:nvPr/>
                              </p:nvSpPr>
                              <p:spPr>
                                <a:xfrm>
                                  <a:off x="7653240" y="5292720"/>
                                  <a:ext cx="630360" cy="128520"/>
                                </a:xfrm>
                                <a:prstGeom prst="roundRect">
                                  <a:avLst>
                                    <a:gd name="adj" fmla="val 25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6" name=""/>
                                <p:cNvSpPr/>
                                <p:nvPr/>
                              </p:nvSpPr>
                              <p:spPr>
                                <a:xfrm>
                                  <a:off x="7653240" y="5294160"/>
                                  <a:ext cx="628920" cy="127080"/>
                                </a:xfrm>
                                <a:prstGeom prst="roundRect">
                                  <a:avLst>
                                    <a:gd name="adj" fmla="val 1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7" name=""/>
                                <p:cNvSpPr/>
                                <p:nvPr/>
                              </p:nvSpPr>
                              <p:spPr>
                                <a:xfrm>
                                  <a:off x="7653240" y="5294160"/>
                                  <a:ext cx="627120" cy="127080"/>
                                </a:xfrm>
                                <a:prstGeom prst="roundRect">
                                  <a:avLst>
                                    <a:gd name="adj" fmla="val 1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8" name=""/>
                                <p:cNvSpPr/>
                                <p:nvPr/>
                              </p:nvSpPr>
                              <p:spPr>
                                <a:xfrm>
                                  <a:off x="7650000" y="5294160"/>
                                  <a:ext cx="633960" cy="128520"/>
                                </a:xfrm>
                                <a:prstGeom prst="roundRect">
                                  <a:avLst>
                                    <a:gd name="adj" fmla="val 125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9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Média Brasil</a:t>
                                  </a:r>
                                  <a:endParaRPr b="0" lang="en-US" sz="9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grpSp>
          <p:nvGrpSpPr>
            <p:cNvPr id="439" name=""/>
            <p:cNvGrpSpPr/>
            <p:nvPr/>
          </p:nvGrpSpPr>
          <p:grpSpPr>
            <a:xfrm>
              <a:off x="4423320" y="5554800"/>
              <a:ext cx="900720" cy="200520"/>
              <a:chOff x="4423320" y="5554800"/>
              <a:chExt cx="900720" cy="200520"/>
            </a:xfrm>
          </p:grpSpPr>
          <p:sp>
            <p:nvSpPr>
              <p:cNvPr id="440" name=""/>
              <p:cNvSpPr/>
              <p:nvPr/>
            </p:nvSpPr>
            <p:spPr>
              <a:xfrm>
                <a:off x="4427640" y="5554800"/>
                <a:ext cx="853920" cy="176040"/>
              </a:xfrm>
              <a:prstGeom prst="roundRect">
                <a:avLst>
                  <a:gd name="adj" fmla="val 90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4423320" y="5556240"/>
                <a:ext cx="900720" cy="199080"/>
                <a:chOff x="4423320" y="5556240"/>
                <a:chExt cx="900720" cy="1990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4427640" y="5556240"/>
                  <a:ext cx="849240" cy="160200"/>
                </a:xfrm>
                <a:prstGeom prst="roundRect">
                  <a:avLst>
                    <a:gd name="adj" fmla="val 1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4423320" y="5556240"/>
                  <a:ext cx="900720" cy="199080"/>
                  <a:chOff x="4423320" y="5556240"/>
                  <a:chExt cx="900720" cy="1990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4427640" y="5556240"/>
                    <a:ext cx="844560" cy="155520"/>
                  </a:xfrm>
                  <a:prstGeom prst="roundRect">
                    <a:avLst>
                      <a:gd name="adj" fmla="val 101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4423320" y="5556240"/>
                    <a:ext cx="900720" cy="199080"/>
                    <a:chOff x="4423320" y="5556240"/>
                    <a:chExt cx="900720" cy="19908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4427640" y="5556240"/>
                      <a:ext cx="841320" cy="154080"/>
                    </a:xfrm>
                    <a:prstGeom prst="roundRect">
                      <a:avLst>
                        <a:gd name="adj" fmla="val 1042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47" name=""/>
                    <p:cNvGrpSpPr/>
                    <p:nvPr/>
                  </p:nvGrpSpPr>
                  <p:grpSpPr>
                    <a:xfrm>
                      <a:off x="4423320" y="5556240"/>
                      <a:ext cx="900720" cy="199080"/>
                      <a:chOff x="4423320" y="5556240"/>
                      <a:chExt cx="900720" cy="199080"/>
                    </a:xfrm>
                  </p:grpSpPr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4427640" y="5556240"/>
                        <a:ext cx="839520" cy="154080"/>
                      </a:xfrm>
                      <a:prstGeom prst="roundRect">
                        <a:avLst>
                          <a:gd name="adj" fmla="val 1042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49" name=""/>
                      <p:cNvGrpSpPr/>
                      <p:nvPr/>
                    </p:nvGrpSpPr>
                    <p:grpSpPr>
                      <a:xfrm>
                        <a:off x="4423320" y="5556240"/>
                        <a:ext cx="900720" cy="199080"/>
                        <a:chOff x="4423320" y="5556240"/>
                        <a:chExt cx="900720" cy="199080"/>
                      </a:xfrm>
                    </p:grpSpPr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>
                          <a:off x="4427640" y="5556240"/>
                          <a:ext cx="839520" cy="154080"/>
                        </a:xfrm>
                        <a:prstGeom prst="roundRect">
                          <a:avLst>
                            <a:gd name="adj" fmla="val 1042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51" name=""/>
                        <p:cNvGrpSpPr/>
                        <p:nvPr/>
                      </p:nvGrpSpPr>
                      <p:grpSpPr>
                        <a:xfrm>
                          <a:off x="4423320" y="5556240"/>
                          <a:ext cx="900720" cy="199080"/>
                          <a:chOff x="4423320" y="5556240"/>
                          <a:chExt cx="900720" cy="199080"/>
                        </a:xfrm>
                      </p:grpSpPr>
                      <p:sp>
                        <p:nvSpPr>
                          <p:cNvPr id="452" name=""/>
                          <p:cNvSpPr/>
                          <p:nvPr/>
                        </p:nvSpPr>
                        <p:spPr>
                          <a:xfrm>
                            <a:off x="4427640" y="5556240"/>
                            <a:ext cx="847800" cy="162000"/>
                          </a:xfrm>
                          <a:prstGeom prst="roundRect">
                            <a:avLst>
                              <a:gd name="adj" fmla="val 977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453" name=""/>
                          <p:cNvGrpSpPr/>
                          <p:nvPr/>
                        </p:nvGrpSpPr>
                        <p:grpSpPr>
                          <a:xfrm>
                            <a:off x="4423320" y="5556240"/>
                            <a:ext cx="900720" cy="199080"/>
                            <a:chOff x="4423320" y="5556240"/>
                            <a:chExt cx="900720" cy="199080"/>
                          </a:xfrm>
                        </p:grpSpPr>
                        <p:sp>
                          <p:nvSpPr>
                            <p:cNvPr id="454" name=""/>
                            <p:cNvSpPr/>
                            <p:nvPr/>
                          </p:nvSpPr>
                          <p:spPr>
                            <a:xfrm>
                              <a:off x="4427640" y="5556240"/>
                              <a:ext cx="838080" cy="154080"/>
                            </a:xfrm>
                            <a:prstGeom prst="roundRect">
                              <a:avLst>
                                <a:gd name="adj" fmla="val 1042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55" name=""/>
                            <p:cNvGrpSpPr/>
                            <p:nvPr/>
                          </p:nvGrpSpPr>
                          <p:grpSpPr>
                            <a:xfrm>
                              <a:off x="4423320" y="5556240"/>
                              <a:ext cx="900720" cy="199080"/>
                              <a:chOff x="4423320" y="5556240"/>
                              <a:chExt cx="900720" cy="199080"/>
                            </a:xfrm>
                          </p:grpSpPr>
                          <p:sp>
                            <p:nvSpPr>
                              <p:cNvPr id="456" name=""/>
                              <p:cNvSpPr/>
                              <p:nvPr/>
                            </p:nvSpPr>
                            <p:spPr>
                              <a:xfrm>
                                <a:off x="4427640" y="5556240"/>
                                <a:ext cx="831600" cy="149400"/>
                              </a:xfrm>
                              <a:prstGeom prst="roundRect">
                                <a:avLst>
                                  <a:gd name="adj" fmla="val 1060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57" name=""/>
                              <p:cNvGrpSpPr/>
                              <p:nvPr/>
                            </p:nvGrpSpPr>
                            <p:grpSpPr>
                              <a:xfrm>
                                <a:off x="4423320" y="5556240"/>
                                <a:ext cx="900720" cy="199080"/>
                                <a:chOff x="4423320" y="5556240"/>
                                <a:chExt cx="900720" cy="199080"/>
                              </a:xfrm>
                            </p:grpSpPr>
                            <p:sp>
                              <p:nvSpPr>
                                <p:cNvPr id="458" name=""/>
                                <p:cNvSpPr/>
                                <p:nvPr/>
                              </p:nvSpPr>
                              <p:spPr>
                                <a:xfrm>
                                  <a:off x="4427640" y="5556240"/>
                                  <a:ext cx="822240" cy="141120"/>
                                </a:xfrm>
                                <a:prstGeom prst="roundRect">
                                  <a:avLst>
                                    <a:gd name="adj" fmla="val 1134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9" name=""/>
                                <p:cNvSpPr/>
                                <p:nvPr/>
                              </p:nvSpPr>
                              <p:spPr>
                                <a:xfrm>
                                  <a:off x="4427640" y="5556240"/>
                                  <a:ext cx="822240" cy="141120"/>
                                </a:xfrm>
                                <a:prstGeom prst="roundRect">
                                  <a:avLst>
                                    <a:gd name="adj" fmla="val 1134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0" name=""/>
                                <p:cNvSpPr/>
                                <p:nvPr/>
                              </p:nvSpPr>
                              <p:spPr>
                                <a:xfrm>
                                  <a:off x="4427640" y="5556240"/>
                                  <a:ext cx="819000" cy="141120"/>
                                </a:xfrm>
                                <a:prstGeom prst="roundRect">
                                  <a:avLst>
                                    <a:gd name="adj" fmla="val 1134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1" name=""/>
                                <p:cNvSpPr/>
                                <p:nvPr/>
                              </p:nvSpPr>
                              <p:spPr>
                                <a:xfrm>
                                  <a:off x="4427640" y="5556240"/>
                                  <a:ext cx="819000" cy="139680"/>
                                </a:xfrm>
                                <a:prstGeom prst="roundRect">
                                  <a:avLst>
                                    <a:gd name="adj" fmla="val 1134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2" name=""/>
                                <p:cNvSpPr/>
                                <p:nvPr/>
                              </p:nvSpPr>
                              <p:spPr>
                                <a:xfrm>
                                  <a:off x="4427640" y="5556240"/>
                                  <a:ext cx="819000" cy="139680"/>
                                </a:xfrm>
                                <a:prstGeom prst="roundRect">
                                  <a:avLst>
                                    <a:gd name="adj" fmla="val 1134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3" name=""/>
                                <p:cNvSpPr/>
                                <p:nvPr/>
                              </p:nvSpPr>
                              <p:spPr>
                                <a:xfrm>
                                  <a:off x="4427640" y="5556240"/>
                                  <a:ext cx="895320" cy="198360"/>
                                </a:xfrm>
                                <a:prstGeom prst="roundRect">
                                  <a:avLst>
                                    <a:gd name="adj" fmla="val 806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4" name=""/>
                                <p:cNvSpPr/>
                                <p:nvPr/>
                              </p:nvSpPr>
                              <p:spPr>
                                <a:xfrm>
                                  <a:off x="4427640" y="5556240"/>
                                  <a:ext cx="893520" cy="198360"/>
                                </a:xfrm>
                                <a:prstGeom prst="roundRect">
                                  <a:avLst>
                                    <a:gd name="adj" fmla="val 806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5" name=""/>
                                <p:cNvSpPr/>
                                <p:nvPr/>
                              </p:nvSpPr>
                              <p:spPr>
                                <a:xfrm>
                                  <a:off x="4427640" y="5556240"/>
                                  <a:ext cx="892080" cy="198360"/>
                                </a:xfrm>
                                <a:prstGeom prst="roundRect">
                                  <a:avLst>
                                    <a:gd name="adj" fmla="val 806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6" name=""/>
                                <p:cNvSpPr/>
                                <p:nvPr/>
                              </p:nvSpPr>
                              <p:spPr>
                                <a:xfrm>
                                  <a:off x="4423320" y="5556240"/>
                                  <a:ext cx="900720" cy="199080"/>
                                </a:xfrm>
                                <a:prstGeom prst="roundRect">
                                  <a:avLst>
                                    <a:gd name="adj" fmla="val 806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GB" sz="1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População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grpSp>
          <p:nvGrpSpPr>
            <p:cNvPr id="467" name=""/>
            <p:cNvGrpSpPr/>
            <p:nvPr/>
          </p:nvGrpSpPr>
          <p:grpSpPr>
            <a:xfrm>
              <a:off x="166680" y="3341880"/>
              <a:ext cx="142920" cy="1147680"/>
              <a:chOff x="166680" y="3341880"/>
              <a:chExt cx="142920" cy="1147680"/>
            </a:xfrm>
          </p:grpSpPr>
          <p:sp>
            <p:nvSpPr>
              <p:cNvPr id="468" name=""/>
              <p:cNvSpPr/>
              <p:nvPr/>
            </p:nvSpPr>
            <p:spPr>
              <a:xfrm rot="16200000">
                <a:off x="-199080" y="3991680"/>
                <a:ext cx="865440" cy="130320"/>
              </a:xfrm>
              <a:prstGeom prst="roundRect">
                <a:avLst>
                  <a:gd name="adj" fmla="val 121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166680" y="3341880"/>
                <a:ext cx="142920" cy="1112760"/>
                <a:chOff x="166680" y="3341880"/>
                <a:chExt cx="142920" cy="1112760"/>
              </a:xfrm>
            </p:grpSpPr>
            <p:sp>
              <p:nvSpPr>
                <p:cNvPr id="470" name=""/>
                <p:cNvSpPr/>
                <p:nvPr/>
              </p:nvSpPr>
              <p:spPr>
                <a:xfrm rot="16200000">
                  <a:off x="-197640" y="3970800"/>
                  <a:ext cx="849600" cy="117720"/>
                </a:xfrm>
                <a:prstGeom prst="roundRect">
                  <a:avLst>
                    <a:gd name="adj" fmla="val 134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1" name=""/>
                <p:cNvGrpSpPr/>
                <p:nvPr/>
              </p:nvGrpSpPr>
              <p:grpSpPr>
                <a:xfrm>
                  <a:off x="166680" y="3341880"/>
                  <a:ext cx="142920" cy="1090080"/>
                  <a:chOff x="166680" y="3341880"/>
                  <a:chExt cx="142920" cy="109008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rot="16200000">
                    <a:off x="-188640" y="3957120"/>
                    <a:ext cx="831960" cy="117720"/>
                  </a:xfrm>
                  <a:prstGeom prst="roundRect">
                    <a:avLst>
                      <a:gd name="adj" fmla="val 134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166680" y="3341880"/>
                    <a:ext cx="142920" cy="1074240"/>
                    <a:chOff x="166680" y="3341880"/>
                    <a:chExt cx="142920" cy="107424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rot="16200000">
                      <a:off x="-178560" y="3953160"/>
                      <a:ext cx="809640" cy="115920"/>
                    </a:xfrm>
                    <a:prstGeom prst="roundRect">
                      <a:avLst>
                        <a:gd name="adj" fmla="val 138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75" name=""/>
                    <p:cNvGrpSpPr/>
                    <p:nvPr/>
                  </p:nvGrpSpPr>
                  <p:grpSpPr>
                    <a:xfrm>
                      <a:off x="166680" y="3341880"/>
                      <a:ext cx="142920" cy="1053720"/>
                      <a:chOff x="166680" y="3341880"/>
                      <a:chExt cx="142920" cy="1053720"/>
                    </a:xfrm>
                  </p:grpSpPr>
                  <p:sp>
                    <p:nvSpPr>
                      <p:cNvPr id="476" name=""/>
                      <p:cNvSpPr/>
                      <p:nvPr/>
                    </p:nvSpPr>
                    <p:spPr>
                      <a:xfrm rot="16200000">
                        <a:off x="-173880" y="3937320"/>
                        <a:ext cx="800280" cy="115920"/>
                      </a:xfrm>
                      <a:prstGeom prst="roundRect">
                        <a:avLst>
                          <a:gd name="adj" fmla="val 1389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77" name=""/>
                      <p:cNvGrpSpPr/>
                      <p:nvPr/>
                    </p:nvGrpSpPr>
                    <p:grpSpPr>
                      <a:xfrm>
                        <a:off x="166680" y="3341880"/>
                        <a:ext cx="142920" cy="1048680"/>
                        <a:chOff x="166680" y="3341880"/>
                        <a:chExt cx="142920" cy="1048680"/>
                      </a:xfrm>
                    </p:grpSpPr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 rot="16200000">
                          <a:off x="-166680" y="3939480"/>
                          <a:ext cx="785880" cy="115920"/>
                        </a:xfrm>
                        <a:prstGeom prst="roundRect">
                          <a:avLst>
                            <a:gd name="adj" fmla="val 1389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79" name=""/>
                        <p:cNvGrpSpPr/>
                        <p:nvPr/>
                      </p:nvGrpSpPr>
                      <p:grpSpPr>
                        <a:xfrm>
                          <a:off x="166680" y="3341880"/>
                          <a:ext cx="142920" cy="1032840"/>
                          <a:chOff x="166680" y="3341880"/>
                          <a:chExt cx="142920" cy="1032840"/>
                        </a:xfrm>
                      </p:grpSpPr>
                      <p:sp>
                        <p:nvSpPr>
                          <p:cNvPr id="480" name=""/>
                          <p:cNvSpPr/>
                          <p:nvPr/>
                        </p:nvSpPr>
                        <p:spPr>
                          <a:xfrm rot="16200000">
                            <a:off x="-167040" y="3918240"/>
                            <a:ext cx="793800" cy="119160"/>
                          </a:xfrm>
                          <a:prstGeom prst="roundRect">
                            <a:avLst>
                              <a:gd name="adj" fmla="val 1347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481" name=""/>
                          <p:cNvGrpSpPr/>
                          <p:nvPr/>
                        </p:nvGrpSpPr>
                        <p:grpSpPr>
                          <a:xfrm>
                            <a:off x="166680" y="3341880"/>
                            <a:ext cx="142920" cy="1013760"/>
                            <a:chOff x="166680" y="3341880"/>
                            <a:chExt cx="142920" cy="1013760"/>
                          </a:xfrm>
                        </p:grpSpPr>
                        <p:sp>
                          <p:nvSpPr>
                            <p:cNvPr id="482" name=""/>
                            <p:cNvSpPr/>
                            <p:nvPr/>
                          </p:nvSpPr>
                          <p:spPr>
                            <a:xfrm rot="16200000">
                              <a:off x="-164520" y="3909600"/>
                              <a:ext cx="780840" cy="111240"/>
                            </a:xfrm>
                            <a:prstGeom prst="roundRect">
                              <a:avLst>
                                <a:gd name="adj" fmla="val 1426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83" name=""/>
                            <p:cNvGrpSpPr/>
                            <p:nvPr/>
                          </p:nvGrpSpPr>
                          <p:grpSpPr>
                            <a:xfrm>
                              <a:off x="166680" y="3341880"/>
                              <a:ext cx="142920" cy="1001160"/>
                              <a:chOff x="166680" y="3341880"/>
                              <a:chExt cx="142920" cy="1001160"/>
                            </a:xfrm>
                          </p:grpSpPr>
                          <p:sp>
                            <p:nvSpPr>
                              <p:cNvPr id="484" name=""/>
                              <p:cNvSpPr/>
                              <p:nvPr/>
                            </p:nvSpPr>
                            <p:spPr>
                              <a:xfrm rot="16200000">
                                <a:off x="-163080" y="3904920"/>
                                <a:ext cx="771480" cy="104760"/>
                              </a:xfrm>
                              <a:prstGeom prst="roundRect">
                                <a:avLst>
                                  <a:gd name="adj" fmla="val 1514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85" name=""/>
                              <p:cNvGrpSpPr/>
                              <p:nvPr/>
                            </p:nvGrpSpPr>
                            <p:grpSpPr>
                              <a:xfrm>
                                <a:off x="166680" y="3341880"/>
                                <a:ext cx="142920" cy="993600"/>
                                <a:chOff x="166680" y="3341880"/>
                                <a:chExt cx="142920" cy="993600"/>
                              </a:xfrm>
                            </p:grpSpPr>
                            <p:sp>
                              <p:nvSpPr>
                                <p:cNvPr id="486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-159840" y="3905280"/>
                                  <a:ext cx="760320" cy="100080"/>
                                </a:xfrm>
                                <a:prstGeom prst="roundRect">
                                  <a:avLst>
                                    <a:gd name="adj" fmla="val 1611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7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-161640" y="3906720"/>
                                  <a:ext cx="760320" cy="96840"/>
                                </a:xfrm>
                                <a:prstGeom prst="roundRect">
                                  <a:avLst>
                                    <a:gd name="adj" fmla="val 1667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8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-161640" y="3906720"/>
                                  <a:ext cx="760320" cy="96840"/>
                                </a:xfrm>
                                <a:prstGeom prst="roundRect">
                                  <a:avLst>
                                    <a:gd name="adj" fmla="val 1667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9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-161640" y="3903480"/>
                                  <a:ext cx="760320" cy="96840"/>
                                </a:xfrm>
                                <a:prstGeom prst="roundRect">
                                  <a:avLst>
                                    <a:gd name="adj" fmla="val 1667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0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-160920" y="3899520"/>
                                  <a:ext cx="758880" cy="96840"/>
                                </a:xfrm>
                                <a:prstGeom prst="roundRect">
                                  <a:avLst>
                                    <a:gd name="adj" fmla="val 1667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1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-241920" y="3769200"/>
                                  <a:ext cx="960480" cy="142920"/>
                                </a:xfrm>
                                <a:prstGeom prst="roundRect">
                                  <a:avLst>
                                    <a:gd name="adj" fmla="val 1111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2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-241920" y="3767400"/>
                                  <a:ext cx="958680" cy="141120"/>
                                </a:xfrm>
                                <a:prstGeom prst="roundRect">
                                  <a:avLst>
                                    <a:gd name="adj" fmla="val 1134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3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-241920" y="3767400"/>
                                  <a:ext cx="958680" cy="141120"/>
                                </a:xfrm>
                                <a:prstGeom prst="roundRect">
                                  <a:avLst>
                                    <a:gd name="adj" fmla="val 1134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4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-257760" y="3766680"/>
                                  <a:ext cx="992160" cy="142560"/>
                                </a:xfrm>
                                <a:prstGeom prst="roundRect">
                                  <a:avLst>
                                    <a:gd name="adj" fmla="val 1134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% dos Municípios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grpSp>
          <p:nvGrpSpPr>
            <p:cNvPr id="495" name=""/>
            <p:cNvGrpSpPr/>
            <p:nvPr/>
          </p:nvGrpSpPr>
          <p:grpSpPr>
            <a:xfrm>
              <a:off x="322200" y="5948280"/>
              <a:ext cx="8356320" cy="906840"/>
              <a:chOff x="322200" y="5948280"/>
              <a:chExt cx="8356320" cy="906840"/>
            </a:xfrm>
          </p:grpSpPr>
          <p:sp>
            <p:nvSpPr>
              <p:cNvPr id="496" name=""/>
              <p:cNvSpPr/>
              <p:nvPr/>
            </p:nvSpPr>
            <p:spPr>
              <a:xfrm>
                <a:off x="322200" y="5972040"/>
                <a:ext cx="209520" cy="109800"/>
              </a:xfrm>
              <a:prstGeom prst="roundRect">
                <a:avLst>
                  <a:gd name="adj" fmla="val 1468"/>
                </a:avLst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5440" y="5948280"/>
                <a:ext cx="3246480" cy="42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500" spc="-1" strike="noStrike">
                    <a:solidFill>
                      <a:srgbClr val="000000"/>
                    </a:solidFill>
                    <a:latin typeface="Times New Roman"/>
                  </a:rPr>
                  <a:t>Média da Taxa de Crescimento Anual, 1991 a 2001 (%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25440" y="6369120"/>
                <a:ext cx="210960" cy="110880"/>
              </a:xfrm>
              <a:prstGeom prst="roundRect">
                <a:avLst>
                  <a:gd name="adj" fmla="val 1426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617760" y="6354720"/>
                <a:ext cx="3137760" cy="214200"/>
                <a:chOff x="617760" y="6354720"/>
                <a:chExt cx="3137760" cy="2142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27120" y="6354720"/>
                  <a:ext cx="2995560" cy="190440"/>
                </a:xfrm>
                <a:prstGeom prst="roundRect">
                  <a:avLst>
                    <a:gd name="adj" fmla="val 83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1" name=""/>
                <p:cNvGrpSpPr/>
                <p:nvPr/>
              </p:nvGrpSpPr>
              <p:grpSpPr>
                <a:xfrm>
                  <a:off x="617760" y="6354720"/>
                  <a:ext cx="3137760" cy="214200"/>
                  <a:chOff x="617760" y="6354720"/>
                  <a:chExt cx="3137760" cy="21420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627120" y="6354720"/>
                    <a:ext cx="2992320" cy="173160"/>
                  </a:xfrm>
                  <a:prstGeom prst="roundRect">
                    <a:avLst>
                      <a:gd name="adj" fmla="val 926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617760" y="6354720"/>
                    <a:ext cx="3137760" cy="214200"/>
                    <a:chOff x="617760" y="6354720"/>
                    <a:chExt cx="3137760" cy="21420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627120" y="6354720"/>
                      <a:ext cx="2986200" cy="171360"/>
                    </a:xfrm>
                    <a:prstGeom prst="roundRect">
                      <a:avLst>
                        <a:gd name="adj" fmla="val 926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05" name=""/>
                    <p:cNvGrpSpPr/>
                    <p:nvPr/>
                  </p:nvGrpSpPr>
                  <p:grpSpPr>
                    <a:xfrm>
                      <a:off x="617760" y="6354720"/>
                      <a:ext cx="3137760" cy="214200"/>
                      <a:chOff x="617760" y="6354720"/>
                      <a:chExt cx="3137760" cy="214200"/>
                    </a:xfrm>
                  </p:grpSpPr>
                  <p:sp>
                    <p:nvSpPr>
                      <p:cNvPr id="506" name=""/>
                      <p:cNvSpPr/>
                      <p:nvPr/>
                    </p:nvSpPr>
                    <p:spPr>
                      <a:xfrm>
                        <a:off x="627120" y="6354720"/>
                        <a:ext cx="2981160" cy="168480"/>
                      </a:xfrm>
                      <a:prstGeom prst="roundRect">
                        <a:avLst>
                          <a:gd name="adj" fmla="val 94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07" name=""/>
                      <p:cNvGrpSpPr/>
                      <p:nvPr/>
                    </p:nvGrpSpPr>
                    <p:grpSpPr>
                      <a:xfrm>
                        <a:off x="617760" y="6354720"/>
                        <a:ext cx="3137760" cy="214200"/>
                        <a:chOff x="617760" y="6354720"/>
                        <a:chExt cx="3137760" cy="214200"/>
                      </a:xfrm>
                    </p:grpSpPr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627120" y="6354720"/>
                          <a:ext cx="2977920" cy="168480"/>
                        </a:xfrm>
                        <a:prstGeom prst="roundRect">
                          <a:avLst>
                            <a:gd name="adj" fmla="val 940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09" name=""/>
                        <p:cNvGrpSpPr/>
                        <p:nvPr/>
                      </p:nvGrpSpPr>
                      <p:grpSpPr>
                        <a:xfrm>
                          <a:off x="617760" y="6354720"/>
                          <a:ext cx="3137760" cy="214200"/>
                          <a:chOff x="617760" y="6354720"/>
                          <a:chExt cx="3137760" cy="214200"/>
                        </a:xfrm>
                      </p:grpSpPr>
                      <p:sp>
                        <p:nvSpPr>
                          <p:cNvPr id="510" name=""/>
                          <p:cNvSpPr/>
                          <p:nvPr/>
                        </p:nvSpPr>
                        <p:spPr>
                          <a:xfrm>
                            <a:off x="627120" y="6354720"/>
                            <a:ext cx="2976480" cy="168480"/>
                          </a:xfrm>
                          <a:prstGeom prst="roundRect">
                            <a:avLst>
                              <a:gd name="adj" fmla="val 940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11" name=""/>
                          <p:cNvGrpSpPr/>
                          <p:nvPr/>
                        </p:nvGrpSpPr>
                        <p:grpSpPr>
                          <a:xfrm>
                            <a:off x="617760" y="6354720"/>
                            <a:ext cx="3137760" cy="214200"/>
                            <a:chOff x="617760" y="6354720"/>
                            <a:chExt cx="3137760" cy="214200"/>
                          </a:xfrm>
                        </p:grpSpPr>
                        <p:sp>
                          <p:nvSpPr>
                            <p:cNvPr id="512" name=""/>
                            <p:cNvSpPr/>
                            <p:nvPr/>
                          </p:nvSpPr>
                          <p:spPr>
                            <a:xfrm>
                              <a:off x="627120" y="6354720"/>
                              <a:ext cx="2990880" cy="174600"/>
                            </a:xfrm>
                            <a:prstGeom prst="roundRect">
                              <a:avLst>
                                <a:gd name="adj" fmla="val 907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513" name=""/>
                            <p:cNvGrpSpPr/>
                            <p:nvPr/>
                          </p:nvGrpSpPr>
                          <p:grpSpPr>
                            <a:xfrm>
                              <a:off x="617760" y="6354720"/>
                              <a:ext cx="3137760" cy="214200"/>
                              <a:chOff x="617760" y="6354720"/>
                              <a:chExt cx="3137760" cy="214200"/>
                            </a:xfrm>
                          </p:grpSpPr>
                          <p:sp>
                            <p:nvSpPr>
                              <p:cNvPr id="514" name=""/>
                              <p:cNvSpPr/>
                              <p:nvPr/>
                            </p:nvSpPr>
                            <p:spPr>
                              <a:xfrm>
                                <a:off x="627120" y="6354720"/>
                                <a:ext cx="2981160" cy="168480"/>
                              </a:xfrm>
                              <a:prstGeom prst="roundRect">
                                <a:avLst>
                                  <a:gd name="adj" fmla="val 940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515" name=""/>
                              <p:cNvGrpSpPr/>
                              <p:nvPr/>
                            </p:nvGrpSpPr>
                            <p:grpSpPr>
                              <a:xfrm>
                                <a:off x="617760" y="6354720"/>
                                <a:ext cx="3137760" cy="214200"/>
                                <a:chOff x="617760" y="6354720"/>
                                <a:chExt cx="3137760" cy="214200"/>
                              </a:xfrm>
                            </p:grpSpPr>
                            <p:sp>
                              <p:nvSpPr>
                                <p:cNvPr id="516" name=""/>
                                <p:cNvSpPr/>
                                <p:nvPr/>
                              </p:nvSpPr>
                              <p:spPr>
                                <a:xfrm>
                                  <a:off x="627120" y="6354720"/>
                                  <a:ext cx="2967120" cy="1605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17" name=""/>
                                <p:cNvSpPr/>
                                <p:nvPr/>
                              </p:nvSpPr>
                              <p:spPr>
                                <a:xfrm>
                                  <a:off x="627120" y="6354720"/>
                                  <a:ext cx="2967120" cy="1605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18" name=""/>
                                <p:cNvSpPr/>
                                <p:nvPr/>
                              </p:nvSpPr>
                              <p:spPr>
                                <a:xfrm>
                                  <a:off x="627120" y="6354720"/>
                                  <a:ext cx="2965320" cy="1587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19" name=""/>
                                <p:cNvSpPr/>
                                <p:nvPr/>
                              </p:nvSpPr>
                              <p:spPr>
                                <a:xfrm>
                                  <a:off x="627120" y="6354720"/>
                                  <a:ext cx="2965320" cy="1587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0" name=""/>
                                <p:cNvSpPr/>
                                <p:nvPr/>
                              </p:nvSpPr>
                              <p:spPr>
                                <a:xfrm>
                                  <a:off x="627120" y="6354720"/>
                                  <a:ext cx="2965320" cy="1587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1" name=""/>
                                <p:cNvSpPr/>
                                <p:nvPr/>
                              </p:nvSpPr>
                              <p:spPr>
                                <a:xfrm>
                                  <a:off x="627120" y="6354720"/>
                                  <a:ext cx="2965320" cy="157320"/>
                                </a:xfrm>
                                <a:prstGeom prst="roundRect">
                                  <a:avLst>
                                    <a:gd name="adj" fmla="val 1019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2" name=""/>
                                <p:cNvSpPr/>
                                <p:nvPr/>
                              </p:nvSpPr>
                              <p:spPr>
                                <a:xfrm>
                                  <a:off x="625320" y="6354720"/>
                                  <a:ext cx="3125880" cy="214200"/>
                                </a:xfrm>
                                <a:prstGeom prst="roundRect">
                                  <a:avLst>
                                    <a:gd name="adj" fmla="val 74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3" name=""/>
                                <p:cNvSpPr/>
                                <p:nvPr/>
                              </p:nvSpPr>
                              <p:spPr>
                                <a:xfrm>
                                  <a:off x="625320" y="6354720"/>
                                  <a:ext cx="3124440" cy="212760"/>
                                </a:xfrm>
                                <a:prstGeom prst="roundRect">
                                  <a:avLst>
                                    <a:gd name="adj" fmla="val 74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4" name=""/>
                                <p:cNvSpPr/>
                                <p:nvPr/>
                              </p:nvSpPr>
                              <p:spPr>
                                <a:xfrm>
                                  <a:off x="625320" y="6354720"/>
                                  <a:ext cx="3124440" cy="212760"/>
                                </a:xfrm>
                                <a:prstGeom prst="roundRect">
                                  <a:avLst>
                                    <a:gd name="adj" fmla="val 74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5" name=""/>
                                <p:cNvSpPr/>
                                <p:nvPr/>
                              </p:nvSpPr>
                              <p:spPr>
                                <a:xfrm>
                                  <a:off x="617760" y="6354720"/>
                                  <a:ext cx="3137760" cy="213120"/>
                                </a:xfrm>
                                <a:prstGeom prst="roundRect">
                                  <a:avLst>
                                    <a:gd name="adj" fmla="val 74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15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% dos Municípios que Possuem Cortiços</a:t>
                                  </a:r>
                                  <a:endParaRPr b="0" lang="en-US" sz="15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  <p:sp>
            <p:nvSpPr>
              <p:cNvPr id="526" name=""/>
              <p:cNvSpPr/>
              <p:nvPr/>
            </p:nvSpPr>
            <p:spPr>
              <a:xfrm>
                <a:off x="325440" y="6670800"/>
                <a:ext cx="210960" cy="110880"/>
              </a:xfrm>
              <a:prstGeom prst="roundRect">
                <a:avLst>
                  <a:gd name="adj" fmla="val 1426"/>
                </a:avLst>
              </a:prstGeom>
              <a:solidFill>
                <a:srgbClr val="33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579600" y="6642000"/>
                <a:ext cx="4501800" cy="213120"/>
                <a:chOff x="579600" y="6642000"/>
                <a:chExt cx="4501800" cy="2131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88960" y="6642000"/>
                  <a:ext cx="4308480" cy="190440"/>
                </a:xfrm>
                <a:prstGeom prst="roundRect">
                  <a:avLst>
                    <a:gd name="adj" fmla="val 83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9" name=""/>
                <p:cNvGrpSpPr/>
                <p:nvPr/>
              </p:nvGrpSpPr>
              <p:grpSpPr>
                <a:xfrm>
                  <a:off x="579600" y="6642000"/>
                  <a:ext cx="4501800" cy="213120"/>
                  <a:chOff x="579600" y="6642000"/>
                  <a:chExt cx="4501800" cy="21312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>
                    <a:off x="588960" y="6642000"/>
                    <a:ext cx="4307040" cy="173160"/>
                  </a:xfrm>
                  <a:prstGeom prst="roundRect">
                    <a:avLst>
                      <a:gd name="adj" fmla="val 926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579600" y="6642000"/>
                    <a:ext cx="4501800" cy="213120"/>
                    <a:chOff x="579600" y="6642000"/>
                    <a:chExt cx="4501800" cy="21312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8960" y="6642000"/>
                      <a:ext cx="4300560" cy="169920"/>
                    </a:xfrm>
                    <a:prstGeom prst="roundRect">
                      <a:avLst>
                        <a:gd name="adj" fmla="val 94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33" name=""/>
                    <p:cNvGrpSpPr/>
                    <p:nvPr/>
                  </p:nvGrpSpPr>
                  <p:grpSpPr>
                    <a:xfrm>
                      <a:off x="579600" y="6642000"/>
                      <a:ext cx="4501800" cy="213120"/>
                      <a:chOff x="579600" y="6642000"/>
                      <a:chExt cx="4501800" cy="213120"/>
                    </a:xfrm>
                  </p:grpSpPr>
                  <p:sp>
                    <p:nvSpPr>
                      <p:cNvPr id="534" name=""/>
                      <p:cNvSpPr/>
                      <p:nvPr/>
                    </p:nvSpPr>
                    <p:spPr>
                      <a:xfrm>
                        <a:off x="588960" y="6642000"/>
                        <a:ext cx="4299120" cy="168480"/>
                      </a:xfrm>
                      <a:prstGeom prst="roundRect">
                        <a:avLst>
                          <a:gd name="adj" fmla="val 94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35" name=""/>
                      <p:cNvGrpSpPr/>
                      <p:nvPr/>
                    </p:nvGrpSpPr>
                    <p:grpSpPr>
                      <a:xfrm>
                        <a:off x="579600" y="6642000"/>
                        <a:ext cx="4501800" cy="213120"/>
                        <a:chOff x="579600" y="6642000"/>
                        <a:chExt cx="4501800" cy="213120"/>
                      </a:xfrm>
                    </p:grpSpPr>
                    <p:sp>
                      <p:nvSpPr>
                        <p:cNvPr id="536" name=""/>
                        <p:cNvSpPr/>
                        <p:nvPr/>
                      </p:nvSpPr>
                      <p:spPr>
                        <a:xfrm>
                          <a:off x="588960" y="6642000"/>
                          <a:ext cx="4297320" cy="168480"/>
                        </a:xfrm>
                        <a:prstGeom prst="roundRect">
                          <a:avLst>
                            <a:gd name="adj" fmla="val 940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37" name=""/>
                        <p:cNvGrpSpPr/>
                        <p:nvPr/>
                      </p:nvGrpSpPr>
                      <p:grpSpPr>
                        <a:xfrm>
                          <a:off x="579600" y="6642000"/>
                          <a:ext cx="4501800" cy="213120"/>
                          <a:chOff x="579600" y="6642000"/>
                          <a:chExt cx="4501800" cy="213120"/>
                        </a:xfrm>
                      </p:grpSpPr>
                      <p:sp>
                        <p:nvSpPr>
                          <p:cNvPr id="538" name=""/>
                          <p:cNvSpPr/>
                          <p:nvPr/>
                        </p:nvSpPr>
                        <p:spPr>
                          <a:xfrm>
                            <a:off x="588960" y="6642000"/>
                            <a:ext cx="4295880" cy="168480"/>
                          </a:xfrm>
                          <a:prstGeom prst="roundRect">
                            <a:avLst>
                              <a:gd name="adj" fmla="val 940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39" name=""/>
                          <p:cNvGrpSpPr/>
                          <p:nvPr/>
                        </p:nvGrpSpPr>
                        <p:grpSpPr>
                          <a:xfrm>
                            <a:off x="579600" y="6642000"/>
                            <a:ext cx="4501800" cy="213120"/>
                            <a:chOff x="579600" y="6642000"/>
                            <a:chExt cx="4501800" cy="213120"/>
                          </a:xfrm>
                        </p:grpSpPr>
                        <p:sp>
                          <p:nvSpPr>
                            <p:cNvPr id="540" name=""/>
                            <p:cNvSpPr/>
                            <p:nvPr/>
                          </p:nvSpPr>
                          <p:spPr>
                            <a:xfrm>
                              <a:off x="588960" y="6642000"/>
                              <a:ext cx="4307040" cy="174600"/>
                            </a:xfrm>
                            <a:prstGeom prst="roundRect">
                              <a:avLst>
                                <a:gd name="adj" fmla="val 907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541" name=""/>
                            <p:cNvGrpSpPr/>
                            <p:nvPr/>
                          </p:nvGrpSpPr>
                          <p:grpSpPr>
                            <a:xfrm>
                              <a:off x="579600" y="6642000"/>
                              <a:ext cx="4501800" cy="213120"/>
                              <a:chOff x="579600" y="6642000"/>
                              <a:chExt cx="4501800" cy="213120"/>
                            </a:xfrm>
                          </p:grpSpPr>
                          <p:sp>
                            <p:nvSpPr>
                              <p:cNvPr id="542" name=""/>
                              <p:cNvSpPr/>
                              <p:nvPr/>
                            </p:nvSpPr>
                            <p:spPr>
                              <a:xfrm>
                                <a:off x="588960" y="6642000"/>
                                <a:ext cx="4297320" cy="168480"/>
                              </a:xfrm>
                              <a:prstGeom prst="roundRect">
                                <a:avLst>
                                  <a:gd name="adj" fmla="val 940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543" name=""/>
                              <p:cNvGrpSpPr/>
                              <p:nvPr/>
                            </p:nvGrpSpPr>
                            <p:grpSpPr>
                              <a:xfrm>
                                <a:off x="579600" y="6642000"/>
                                <a:ext cx="4501800" cy="213120"/>
                                <a:chOff x="579600" y="6642000"/>
                                <a:chExt cx="4501800" cy="213120"/>
                              </a:xfrm>
                            </p:grpSpPr>
                            <p:sp>
                              <p:nvSpPr>
                                <p:cNvPr id="544" name=""/>
                                <p:cNvSpPr/>
                                <p:nvPr/>
                              </p:nvSpPr>
                              <p:spPr>
                                <a:xfrm>
                                  <a:off x="588960" y="6642000"/>
                                  <a:ext cx="4284720" cy="1587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5" name=""/>
                                <p:cNvSpPr/>
                                <p:nvPr/>
                              </p:nvSpPr>
                              <p:spPr>
                                <a:xfrm>
                                  <a:off x="588960" y="6642000"/>
                                  <a:ext cx="4281480" cy="1587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6" name=""/>
                                <p:cNvSpPr/>
                                <p:nvPr/>
                              </p:nvSpPr>
                              <p:spPr>
                                <a:xfrm>
                                  <a:off x="588960" y="6642000"/>
                                  <a:ext cx="4281480" cy="1587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7" name=""/>
                                <p:cNvSpPr/>
                                <p:nvPr/>
                              </p:nvSpPr>
                              <p:spPr>
                                <a:xfrm>
                                  <a:off x="588960" y="6642000"/>
                                  <a:ext cx="4281480" cy="1587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8" name=""/>
                                <p:cNvSpPr/>
                                <p:nvPr/>
                              </p:nvSpPr>
                              <p:spPr>
                                <a:xfrm>
                                  <a:off x="588960" y="6642000"/>
                                  <a:ext cx="4280040" cy="1587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9" name=""/>
                                <p:cNvSpPr/>
                                <p:nvPr/>
                              </p:nvSpPr>
                              <p:spPr>
                                <a:xfrm>
                                  <a:off x="588960" y="6642000"/>
                                  <a:ext cx="4278240" cy="157320"/>
                                </a:xfrm>
                                <a:prstGeom prst="roundRect">
                                  <a:avLst>
                                    <a:gd name="adj" fmla="val 1019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0" name=""/>
                                <p:cNvSpPr/>
                                <p:nvPr/>
                              </p:nvSpPr>
                              <p:spPr>
                                <a:xfrm>
                                  <a:off x="587520" y="6642000"/>
                                  <a:ext cx="4489200" cy="212760"/>
                                </a:xfrm>
                                <a:prstGeom prst="roundRect">
                                  <a:avLst>
                                    <a:gd name="adj" fmla="val 74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1" name=""/>
                                <p:cNvSpPr/>
                                <p:nvPr/>
                              </p:nvSpPr>
                              <p:spPr>
                                <a:xfrm>
                                  <a:off x="587520" y="6642000"/>
                                  <a:ext cx="4485960" cy="211320"/>
                                </a:xfrm>
                                <a:prstGeom prst="roundRect">
                                  <a:avLst>
                                    <a:gd name="adj" fmla="val 75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2" name=""/>
                                <p:cNvSpPr/>
                                <p:nvPr/>
                              </p:nvSpPr>
                              <p:spPr>
                                <a:xfrm>
                                  <a:off x="587520" y="6642000"/>
                                  <a:ext cx="4485960" cy="211320"/>
                                </a:xfrm>
                                <a:prstGeom prst="roundRect">
                                  <a:avLst>
                                    <a:gd name="adj" fmla="val 75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3" name=""/>
                                <p:cNvSpPr/>
                                <p:nvPr/>
                              </p:nvSpPr>
                              <p:spPr>
                                <a:xfrm>
                                  <a:off x="579600" y="6642000"/>
                                  <a:ext cx="4501800" cy="213120"/>
                                </a:xfrm>
                                <a:prstGeom prst="roundRect">
                                  <a:avLst>
                                    <a:gd name="adj" fmla="val 75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15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% Dos Municípios que Possuem Favelas ou Assemelhados</a:t>
                                  </a:r>
                                  <a:endParaRPr b="0" lang="en-US" sz="15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  <p:sp>
            <p:nvSpPr>
              <p:cNvPr id="554" name=""/>
              <p:cNvSpPr/>
              <p:nvPr/>
            </p:nvSpPr>
            <p:spPr>
              <a:xfrm>
                <a:off x="3689280" y="5996160"/>
                <a:ext cx="211320" cy="110880"/>
              </a:xfrm>
              <a:prstGeom prst="roundRect">
                <a:avLst>
                  <a:gd name="adj" fmla="val 1426"/>
                </a:avLst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5" name=""/>
              <p:cNvGrpSpPr/>
              <p:nvPr/>
            </p:nvGrpSpPr>
            <p:grpSpPr>
              <a:xfrm>
                <a:off x="4013640" y="5975280"/>
                <a:ext cx="4664880" cy="214920"/>
                <a:chOff x="4013640" y="5975280"/>
                <a:chExt cx="4664880" cy="21492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4017960" y="5975280"/>
                  <a:ext cx="4468680" cy="190440"/>
                </a:xfrm>
                <a:prstGeom prst="roundRect">
                  <a:avLst>
                    <a:gd name="adj" fmla="val 83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7" name=""/>
                <p:cNvGrpSpPr/>
                <p:nvPr/>
              </p:nvGrpSpPr>
              <p:grpSpPr>
                <a:xfrm>
                  <a:off x="4013640" y="5975280"/>
                  <a:ext cx="4664880" cy="214920"/>
                  <a:chOff x="4013640" y="5975280"/>
                  <a:chExt cx="4664880" cy="21492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4017960" y="5975280"/>
                    <a:ext cx="4467240" cy="173160"/>
                  </a:xfrm>
                  <a:prstGeom prst="roundRect">
                    <a:avLst>
                      <a:gd name="adj" fmla="val 926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4013640" y="5975280"/>
                    <a:ext cx="4664880" cy="214920"/>
                    <a:chOff x="4013640" y="5975280"/>
                    <a:chExt cx="4664880" cy="21492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4017960" y="5975280"/>
                      <a:ext cx="4462560" cy="169920"/>
                    </a:xfrm>
                    <a:prstGeom prst="roundRect">
                      <a:avLst>
                        <a:gd name="adj" fmla="val 940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61" name=""/>
                    <p:cNvGrpSpPr/>
                    <p:nvPr/>
                  </p:nvGrpSpPr>
                  <p:grpSpPr>
                    <a:xfrm>
                      <a:off x="4013640" y="5975280"/>
                      <a:ext cx="4664880" cy="214920"/>
                      <a:chOff x="4013640" y="5975280"/>
                      <a:chExt cx="4664880" cy="214920"/>
                    </a:xfrm>
                  </p:grpSpPr>
                  <p:sp>
                    <p:nvSpPr>
                      <p:cNvPr id="562" name=""/>
                      <p:cNvSpPr/>
                      <p:nvPr/>
                    </p:nvSpPr>
                    <p:spPr>
                      <a:xfrm>
                        <a:off x="4017960" y="5975280"/>
                        <a:ext cx="4456080" cy="168480"/>
                      </a:xfrm>
                      <a:prstGeom prst="roundRect">
                        <a:avLst>
                          <a:gd name="adj" fmla="val 940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63" name=""/>
                      <p:cNvGrpSpPr/>
                      <p:nvPr/>
                    </p:nvGrpSpPr>
                    <p:grpSpPr>
                      <a:xfrm>
                        <a:off x="4013640" y="5975280"/>
                        <a:ext cx="4664880" cy="214920"/>
                        <a:chOff x="4013640" y="5975280"/>
                        <a:chExt cx="4664880" cy="214920"/>
                      </a:xfrm>
                    </p:grpSpPr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>
                          <a:off x="4017960" y="5975280"/>
                          <a:ext cx="4451400" cy="168480"/>
                        </a:xfrm>
                        <a:prstGeom prst="roundRect">
                          <a:avLst>
                            <a:gd name="adj" fmla="val 940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65" name=""/>
                        <p:cNvGrpSpPr/>
                        <p:nvPr/>
                      </p:nvGrpSpPr>
                      <p:grpSpPr>
                        <a:xfrm>
                          <a:off x="4013640" y="5975280"/>
                          <a:ext cx="4664880" cy="214920"/>
                          <a:chOff x="4013640" y="5975280"/>
                          <a:chExt cx="4664880" cy="214920"/>
                        </a:xfrm>
                      </p:grpSpPr>
                      <p:sp>
                        <p:nvSpPr>
                          <p:cNvPr id="566" name=""/>
                          <p:cNvSpPr/>
                          <p:nvPr/>
                        </p:nvSpPr>
                        <p:spPr>
                          <a:xfrm>
                            <a:off x="4017960" y="5975280"/>
                            <a:ext cx="4452840" cy="168480"/>
                          </a:xfrm>
                          <a:prstGeom prst="roundRect">
                            <a:avLst>
                              <a:gd name="adj" fmla="val 940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67" name=""/>
                          <p:cNvGrpSpPr/>
                          <p:nvPr/>
                        </p:nvGrpSpPr>
                        <p:grpSpPr>
                          <a:xfrm>
                            <a:off x="4013640" y="5975280"/>
                            <a:ext cx="4664880" cy="214920"/>
                            <a:chOff x="4013640" y="5975280"/>
                            <a:chExt cx="4664880" cy="214920"/>
                          </a:xfrm>
                        </p:grpSpPr>
                        <p:sp>
                          <p:nvSpPr>
                            <p:cNvPr id="568" name=""/>
                            <p:cNvSpPr/>
                            <p:nvPr/>
                          </p:nvSpPr>
                          <p:spPr>
                            <a:xfrm>
                              <a:off x="4017960" y="5975280"/>
                              <a:ext cx="4465800" cy="174600"/>
                            </a:xfrm>
                            <a:prstGeom prst="roundRect">
                              <a:avLst>
                                <a:gd name="adj" fmla="val 907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569" name=""/>
                            <p:cNvGrpSpPr/>
                            <p:nvPr/>
                          </p:nvGrpSpPr>
                          <p:grpSpPr>
                            <a:xfrm>
                              <a:off x="4013640" y="5975280"/>
                              <a:ext cx="4664880" cy="214920"/>
                              <a:chOff x="4013640" y="5975280"/>
                              <a:chExt cx="4664880" cy="214920"/>
                            </a:xfrm>
                          </p:grpSpPr>
                          <p:sp>
                            <p:nvSpPr>
                              <p:cNvPr id="570" name=""/>
                              <p:cNvSpPr/>
                              <p:nvPr/>
                            </p:nvSpPr>
                            <p:spPr>
                              <a:xfrm>
                                <a:off x="4017960" y="5975280"/>
                                <a:ext cx="4456080" cy="168480"/>
                              </a:xfrm>
                              <a:prstGeom prst="roundRect">
                                <a:avLst>
                                  <a:gd name="adj" fmla="val 940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571" name=""/>
                              <p:cNvGrpSpPr/>
                              <p:nvPr/>
                            </p:nvGrpSpPr>
                            <p:grpSpPr>
                              <a:xfrm>
                                <a:off x="4013640" y="5975280"/>
                                <a:ext cx="4664880" cy="214920"/>
                                <a:chOff x="4013640" y="5975280"/>
                                <a:chExt cx="4664880" cy="214920"/>
                              </a:xfrm>
                            </p:grpSpPr>
                            <p:sp>
                              <p:nvSpPr>
                                <p:cNvPr id="572" name=""/>
                                <p:cNvSpPr/>
                                <p:nvPr/>
                              </p:nvSpPr>
                              <p:spPr>
                                <a:xfrm>
                                  <a:off x="4021200" y="5975280"/>
                                  <a:ext cx="4443480" cy="162000"/>
                                </a:xfrm>
                                <a:prstGeom prst="roundRect">
                                  <a:avLst>
                                    <a:gd name="adj" fmla="val 977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73" name=""/>
                                <p:cNvSpPr/>
                                <p:nvPr/>
                              </p:nvSpPr>
                              <p:spPr>
                                <a:xfrm>
                                  <a:off x="4021200" y="5975280"/>
                                  <a:ext cx="4443480" cy="1605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74" name=""/>
                                <p:cNvSpPr/>
                                <p:nvPr/>
                              </p:nvSpPr>
                              <p:spPr>
                                <a:xfrm>
                                  <a:off x="4021200" y="5975280"/>
                                  <a:ext cx="4438440" cy="1605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75" name=""/>
                                <p:cNvSpPr/>
                                <p:nvPr/>
                              </p:nvSpPr>
                              <p:spPr>
                                <a:xfrm>
                                  <a:off x="4021200" y="5975280"/>
                                  <a:ext cx="4438440" cy="1605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76" name=""/>
                                <p:cNvSpPr/>
                                <p:nvPr/>
                              </p:nvSpPr>
                              <p:spPr>
                                <a:xfrm>
                                  <a:off x="4021200" y="5975280"/>
                                  <a:ext cx="4438440" cy="1605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77" name=""/>
                                <p:cNvSpPr/>
                                <p:nvPr/>
                              </p:nvSpPr>
                              <p:spPr>
                                <a:xfrm>
                                  <a:off x="4021200" y="5975280"/>
                                  <a:ext cx="4437000" cy="1587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78" name=""/>
                                <p:cNvSpPr/>
                                <p:nvPr/>
                              </p:nvSpPr>
                              <p:spPr>
                                <a:xfrm>
                                  <a:off x="4017960" y="5977080"/>
                                  <a:ext cx="4654440" cy="212760"/>
                                </a:xfrm>
                                <a:prstGeom prst="roundRect">
                                  <a:avLst>
                                    <a:gd name="adj" fmla="val 74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79" name=""/>
                                <p:cNvSpPr/>
                                <p:nvPr/>
                              </p:nvSpPr>
                              <p:spPr>
                                <a:xfrm>
                                  <a:off x="4021200" y="5977080"/>
                                  <a:ext cx="4653000" cy="212760"/>
                                </a:xfrm>
                                <a:prstGeom prst="roundRect">
                                  <a:avLst>
                                    <a:gd name="adj" fmla="val 74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80" name=""/>
                                <p:cNvSpPr/>
                                <p:nvPr/>
                              </p:nvSpPr>
                              <p:spPr>
                                <a:xfrm>
                                  <a:off x="4021200" y="5977080"/>
                                  <a:ext cx="4651200" cy="212760"/>
                                </a:xfrm>
                                <a:prstGeom prst="roundRect">
                                  <a:avLst>
                                    <a:gd name="adj" fmla="val 74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81" name=""/>
                                <p:cNvSpPr/>
                                <p:nvPr/>
                              </p:nvSpPr>
                              <p:spPr>
                                <a:xfrm>
                                  <a:off x="4013640" y="5977080"/>
                                  <a:ext cx="4664880" cy="213120"/>
                                </a:xfrm>
                                <a:prstGeom prst="roundRect">
                                  <a:avLst>
                                    <a:gd name="adj" fmla="val 74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15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% dos Municípios que Possuem Habitação em Área de Risco</a:t>
                                  </a:r>
                                  <a:endParaRPr b="0" lang="en-US" sz="15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  <p:sp>
            <p:nvSpPr>
              <p:cNvPr id="582" name=""/>
              <p:cNvSpPr/>
              <p:nvPr/>
            </p:nvSpPr>
            <p:spPr>
              <a:xfrm>
                <a:off x="3692520" y="6254640"/>
                <a:ext cx="209520" cy="111240"/>
              </a:xfrm>
              <a:prstGeom prst="roundRect">
                <a:avLst>
                  <a:gd name="adj" fmla="val 1426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3" name=""/>
              <p:cNvGrpSpPr/>
              <p:nvPr/>
            </p:nvGrpSpPr>
            <p:grpSpPr>
              <a:xfrm>
                <a:off x="4007160" y="6226200"/>
                <a:ext cx="4349520" cy="214560"/>
                <a:chOff x="4007160" y="6226200"/>
                <a:chExt cx="4349520" cy="2145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4016520" y="6226200"/>
                  <a:ext cx="4157640" cy="190440"/>
                </a:xfrm>
                <a:prstGeom prst="roundRect">
                  <a:avLst>
                    <a:gd name="adj" fmla="val 83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5" name=""/>
                <p:cNvGrpSpPr/>
                <p:nvPr/>
              </p:nvGrpSpPr>
              <p:grpSpPr>
                <a:xfrm>
                  <a:off x="4007160" y="6226200"/>
                  <a:ext cx="4349520" cy="214560"/>
                  <a:chOff x="4007160" y="6226200"/>
                  <a:chExt cx="4349520" cy="214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4016520" y="6226200"/>
                    <a:ext cx="4154400" cy="174600"/>
                  </a:xfrm>
                  <a:prstGeom prst="roundRect">
                    <a:avLst>
                      <a:gd name="adj" fmla="val 90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4007160" y="6226200"/>
                    <a:ext cx="4349520" cy="214560"/>
                    <a:chOff x="4007160" y="6226200"/>
                    <a:chExt cx="4349520" cy="21456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4016520" y="6226200"/>
                      <a:ext cx="4147920" cy="173160"/>
                    </a:xfrm>
                    <a:prstGeom prst="roundRect">
                      <a:avLst>
                        <a:gd name="adj" fmla="val 926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89" name=""/>
                    <p:cNvGrpSpPr/>
                    <p:nvPr/>
                  </p:nvGrpSpPr>
                  <p:grpSpPr>
                    <a:xfrm>
                      <a:off x="4007160" y="6226200"/>
                      <a:ext cx="4349520" cy="214560"/>
                      <a:chOff x="4007160" y="6226200"/>
                      <a:chExt cx="4349520" cy="214560"/>
                    </a:xfrm>
                  </p:grpSpPr>
                  <p:sp>
                    <p:nvSpPr>
                      <p:cNvPr id="590" name=""/>
                      <p:cNvSpPr/>
                      <p:nvPr/>
                    </p:nvSpPr>
                    <p:spPr>
                      <a:xfrm>
                        <a:off x="4017960" y="6226200"/>
                        <a:ext cx="4146480" cy="173160"/>
                      </a:xfrm>
                      <a:prstGeom prst="roundRect">
                        <a:avLst>
                          <a:gd name="adj" fmla="val 926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91" name=""/>
                      <p:cNvGrpSpPr/>
                      <p:nvPr/>
                    </p:nvGrpSpPr>
                    <p:grpSpPr>
                      <a:xfrm>
                        <a:off x="4007160" y="6226200"/>
                        <a:ext cx="4349520" cy="214560"/>
                        <a:chOff x="4007160" y="6226200"/>
                        <a:chExt cx="4349520" cy="214560"/>
                      </a:xfrm>
                    </p:grpSpPr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>
                          <a:off x="4017960" y="6226200"/>
                          <a:ext cx="4143240" cy="168120"/>
                        </a:xfrm>
                        <a:prstGeom prst="roundRect">
                          <a:avLst>
                            <a:gd name="adj" fmla="val 940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93" name=""/>
                        <p:cNvGrpSpPr/>
                        <p:nvPr/>
                      </p:nvGrpSpPr>
                      <p:grpSpPr>
                        <a:xfrm>
                          <a:off x="4007160" y="6226200"/>
                          <a:ext cx="4349520" cy="214560"/>
                          <a:chOff x="4007160" y="6226200"/>
                          <a:chExt cx="4349520" cy="214560"/>
                        </a:xfrm>
                      </p:grpSpPr>
                      <p:sp>
                        <p:nvSpPr>
                          <p:cNvPr id="594" name=""/>
                          <p:cNvSpPr/>
                          <p:nvPr/>
                        </p:nvSpPr>
                        <p:spPr>
                          <a:xfrm>
                            <a:off x="4017960" y="6226200"/>
                            <a:ext cx="4143240" cy="168120"/>
                          </a:xfrm>
                          <a:prstGeom prst="roundRect">
                            <a:avLst>
                              <a:gd name="adj" fmla="val 940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95" name=""/>
                          <p:cNvGrpSpPr/>
                          <p:nvPr/>
                        </p:nvGrpSpPr>
                        <p:grpSpPr>
                          <a:xfrm>
                            <a:off x="4007160" y="6226200"/>
                            <a:ext cx="4349520" cy="214560"/>
                            <a:chOff x="4007160" y="6226200"/>
                            <a:chExt cx="4349520" cy="214560"/>
                          </a:xfrm>
                        </p:grpSpPr>
                        <p:sp>
                          <p:nvSpPr>
                            <p:cNvPr id="596" name=""/>
                            <p:cNvSpPr/>
                            <p:nvPr/>
                          </p:nvSpPr>
                          <p:spPr>
                            <a:xfrm>
                              <a:off x="4017960" y="6226200"/>
                              <a:ext cx="4154400" cy="174600"/>
                            </a:xfrm>
                            <a:prstGeom prst="roundRect">
                              <a:avLst>
                                <a:gd name="adj" fmla="val 907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597" name=""/>
                            <p:cNvGrpSpPr/>
                            <p:nvPr/>
                          </p:nvGrpSpPr>
                          <p:grpSpPr>
                            <a:xfrm>
                              <a:off x="4007160" y="6226200"/>
                              <a:ext cx="4349520" cy="214560"/>
                              <a:chOff x="4007160" y="6226200"/>
                              <a:chExt cx="4349520" cy="214560"/>
                            </a:xfrm>
                          </p:grpSpPr>
                          <p:sp>
                            <p:nvSpPr>
                              <p:cNvPr id="598" name=""/>
                              <p:cNvSpPr/>
                              <p:nvPr/>
                            </p:nvSpPr>
                            <p:spPr>
                              <a:xfrm>
                                <a:off x="4017960" y="6226200"/>
                                <a:ext cx="4145040" cy="168120"/>
                              </a:xfrm>
                              <a:prstGeom prst="roundRect">
                                <a:avLst>
                                  <a:gd name="adj" fmla="val 940"/>
                                </a:avLst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599" name=""/>
                              <p:cNvGrpSpPr/>
                              <p:nvPr/>
                            </p:nvGrpSpPr>
                            <p:grpSpPr>
                              <a:xfrm>
                                <a:off x="4007160" y="6226200"/>
                                <a:ext cx="4349520" cy="214560"/>
                                <a:chOff x="4007160" y="6226200"/>
                                <a:chExt cx="4349520" cy="214560"/>
                              </a:xfrm>
                            </p:grpSpPr>
                            <p:sp>
                              <p:nvSpPr>
                                <p:cNvPr id="600" name=""/>
                                <p:cNvSpPr/>
                                <p:nvPr/>
                              </p:nvSpPr>
                              <p:spPr>
                                <a:xfrm>
                                  <a:off x="4017960" y="6226200"/>
                                  <a:ext cx="4132440" cy="162000"/>
                                </a:xfrm>
                                <a:prstGeom prst="roundRect">
                                  <a:avLst>
                                    <a:gd name="adj" fmla="val 977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1" name=""/>
                                <p:cNvSpPr/>
                                <p:nvPr/>
                              </p:nvSpPr>
                              <p:spPr>
                                <a:xfrm>
                                  <a:off x="4017960" y="6226200"/>
                                  <a:ext cx="4132440" cy="1587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2" name=""/>
                                <p:cNvSpPr/>
                                <p:nvPr/>
                              </p:nvSpPr>
                              <p:spPr>
                                <a:xfrm>
                                  <a:off x="4017960" y="6226200"/>
                                  <a:ext cx="4130640" cy="1587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3" name=""/>
                                <p:cNvSpPr/>
                                <p:nvPr/>
                              </p:nvSpPr>
                              <p:spPr>
                                <a:xfrm>
                                  <a:off x="4017960" y="6226200"/>
                                  <a:ext cx="4130640" cy="1587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4" name=""/>
                                <p:cNvSpPr/>
                                <p:nvPr/>
                              </p:nvSpPr>
                              <p:spPr>
                                <a:xfrm>
                                  <a:off x="4017960" y="6226200"/>
                                  <a:ext cx="4129200" cy="158760"/>
                                </a:xfrm>
                                <a:prstGeom prst="roundRect">
                                  <a:avLst>
                                    <a:gd name="adj" fmla="val 1000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5" name=""/>
                                <p:cNvSpPr/>
                                <p:nvPr/>
                              </p:nvSpPr>
                              <p:spPr>
                                <a:xfrm>
                                  <a:off x="4017960" y="6226200"/>
                                  <a:ext cx="4129200" cy="155520"/>
                                </a:xfrm>
                                <a:prstGeom prst="roundRect">
                                  <a:avLst>
                                    <a:gd name="adj" fmla="val 1019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6" name=""/>
                                <p:cNvSpPr/>
                                <p:nvPr/>
                              </p:nvSpPr>
                              <p:spPr>
                                <a:xfrm>
                                  <a:off x="4017960" y="6226200"/>
                                  <a:ext cx="4332240" cy="210960"/>
                                </a:xfrm>
                                <a:prstGeom prst="roundRect">
                                  <a:avLst>
                                    <a:gd name="adj" fmla="val 75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7" name=""/>
                                <p:cNvSpPr/>
                                <p:nvPr/>
                              </p:nvSpPr>
                              <p:spPr>
                                <a:xfrm>
                                  <a:off x="4017960" y="6227640"/>
                                  <a:ext cx="4329000" cy="211320"/>
                                </a:xfrm>
                                <a:prstGeom prst="roundRect">
                                  <a:avLst>
                                    <a:gd name="adj" fmla="val 75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8" name=""/>
                                <p:cNvSpPr/>
                                <p:nvPr/>
                              </p:nvSpPr>
                              <p:spPr>
                                <a:xfrm>
                                  <a:off x="4017960" y="6227640"/>
                                  <a:ext cx="4329000" cy="211320"/>
                                </a:xfrm>
                                <a:prstGeom prst="roundRect">
                                  <a:avLst>
                                    <a:gd name="adj" fmla="val 75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9" name=""/>
                                <p:cNvSpPr/>
                                <p:nvPr/>
                              </p:nvSpPr>
                              <p:spPr>
                                <a:xfrm>
                                  <a:off x="4007160" y="6227640"/>
                                  <a:ext cx="4349520" cy="213120"/>
                                </a:xfrm>
                                <a:prstGeom prst="roundRect">
                                  <a:avLst>
                                    <a:gd name="adj" fmla="val 755"/>
                                  </a:avLst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0" rIns="0" tIns="0" bIns="0" anchor="t">
                                  <a:spAutoFit/>
                                </a:bodyPr>
                                <a:p>
                                  <a:pPr>
                                    <a:lnSpc>
                                      <a:spcPct val="93000"/>
                                    </a:lnSpc>
                                    <a:tabLst>
                                      <a:tab algn="l" pos="0"/>
                                      <a:tab algn="l" pos="447840"/>
                                      <a:tab algn="l" pos="896760"/>
                                      <a:tab algn="l" pos="1346040"/>
                                      <a:tab algn="l" pos="1795320"/>
                                      <a:tab algn="l" pos="2244600"/>
                                      <a:tab algn="l" pos="2693880"/>
                                      <a:tab algn="l" pos="3143160"/>
                                      <a:tab algn="l" pos="3592440"/>
                                      <a:tab algn="l" pos="4041720"/>
                                      <a:tab algn="l" pos="4491000"/>
                                      <a:tab algn="l" pos="4940280"/>
                                      <a:tab algn="l" pos="5389560"/>
                                      <a:tab algn="l" pos="5838840"/>
                                      <a:tab algn="l" pos="6288120"/>
                                      <a:tab algn="l" pos="6737400"/>
                                      <a:tab algn="l" pos="7186680"/>
                                      <a:tab algn="l" pos="7635960"/>
                                      <a:tab algn="l" pos="8085240"/>
                                      <a:tab algn="l" pos="8534520"/>
                                      <a:tab algn="l" pos="89838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GB" sz="15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% dos Municípios que Possuem Loteamentos Irregulares</a:t>
                                  </a:r>
                                  <a:endParaRPr b="0" lang="en-US" sz="15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grpSp>
        <p:nvGrpSpPr>
          <p:cNvPr id="610" name=""/>
          <p:cNvGrpSpPr/>
          <p:nvPr/>
        </p:nvGrpSpPr>
        <p:grpSpPr>
          <a:xfrm>
            <a:off x="71280" y="1031400"/>
            <a:ext cx="9069480" cy="1731240"/>
            <a:chOff x="71280" y="1031400"/>
            <a:chExt cx="9069480" cy="1731240"/>
          </a:xfrm>
        </p:grpSpPr>
        <p:sp>
          <p:nvSpPr>
            <p:cNvPr id="611" name=""/>
            <p:cNvSpPr/>
            <p:nvPr/>
          </p:nvSpPr>
          <p:spPr>
            <a:xfrm>
              <a:off x="71280" y="1352520"/>
              <a:ext cx="9069480" cy="109080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280" y="1031400"/>
              <a:ext cx="9069480" cy="17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0" lang="en-GB" sz="2900" spc="-1" strike="noStrike">
                  <a:solidFill>
                    <a:srgbClr val="333399"/>
                  </a:solidFill>
                  <a:latin typeface="Arial Black"/>
                  <a:ea typeface="Arial Unicode MS"/>
                </a:rPr>
                <a:t>Situação dos Municípios segundo a ocorrência de ilegalidade urbana - 2000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250920" y="2060640"/>
            <a:ext cx="8686800" cy="44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Morar na cidade ilegal  é não ter direito à cidade. Atinge entre 30% e 50% da população urbana brasileira. Formas de irregularida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ve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rtiç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teamentos clandestinos e irreg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s habitacionais irreg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i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utr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79280" y="1341360"/>
            <a:ext cx="8785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Informalidade Ur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79280" y="1341360"/>
            <a:ext cx="8785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Informalidade Ur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79280" y="2744640"/>
            <a:ext cx="86868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maior parte da informalidade urbana é produzida pela implantação, comercialização e ocupação de loteamentos que não respeitam a Lei 6766/79 e as legislações municipais que dispõem sobre o 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457200" y="1268280"/>
            <a:ext cx="82296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725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TIPOS DE IRREGULAR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4091040"/>
            <a:ext cx="91440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BANÍS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DO O PARCELAMENTO, AS EDIFICAÇÕES OU AS ATIVIDADES NÃO ESTÃO CONFORME AS NORMAS DA LEGISLAÇÃO URBAN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2092320"/>
            <a:ext cx="91440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JURÍD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DO O PARCELAMENTO DO SOLO URBANO, A SITUAÇÃO DE POSSE OU A PROPRIEDADE DO IMÓVEL É IR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052280"/>
            <a:ext cx="77518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Por um enfoque mais amplo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05960" y="1920600"/>
            <a:ext cx="7751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ão basta um programa isolado de regularização fundiária: é preciso articulação com políticas sociais e com as estratégias de gestão d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ticular  a política de regularização com as políticas fundiária, urbana, habitacional, ambiental, tributária e orçamentária do Municí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987480"/>
            <a:ext cx="8496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 Black"/>
              </a:rPr>
              <a:t>O que é regularização sustentável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3" name=""/>
          <p:cNvSpPr/>
          <p:nvPr/>
        </p:nvSpPr>
        <p:spPr>
          <a:xfrm>
            <a:off x="212760" y="2816280"/>
            <a:ext cx="870264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rticulação d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regularização urbanística e ambient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(infra-estrutura, serviços, obras) com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regularização jurídic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(legalização da área, lotes, casas e atividad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