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691813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96156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789080"/>
            <a:ext cx="96156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2280" y="243504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78908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2280" y="478908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30960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120" y="2435040"/>
            <a:ext cx="30960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7280" y="2435040"/>
            <a:ext cx="30960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789080"/>
            <a:ext cx="30960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120" y="4789080"/>
            <a:ext cx="30960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7280" y="4789080"/>
            <a:ext cx="30960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2435040"/>
            <a:ext cx="9615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9615600" cy="4506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4692240" cy="4506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2280" y="2435040"/>
            <a:ext cx="4692240" cy="4506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324080"/>
            <a:ext cx="9615600" cy="60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2280" y="2435040"/>
            <a:ext cx="4692240" cy="4506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78908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4692240" cy="4506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2280" y="243504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2280" y="478908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243504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2280" y="2435040"/>
            <a:ext cx="469224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789080"/>
            <a:ext cx="9615600" cy="2149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10685520" cy="7553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804000"/>
            <a:ext cx="10691640" cy="755640"/>
          </a:xfrm>
          <a:prstGeom prst="roundRect">
            <a:avLst>
              <a:gd name="adj" fmla="val 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62960" y="6888240"/>
            <a:ext cx="2549520" cy="39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960" y="1324080"/>
            <a:ext cx="9615600" cy="129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4960" y="2435040"/>
            <a:ext cx="9615600" cy="4506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132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57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0000" indent="-25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0000" indent="-25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0000" indent="-25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2600" y="2872440"/>
            <a:ext cx="998676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 Black"/>
              </a:rPr>
              <a:t>MÓDULO IV - Gestão social da valorização imobiliária para a inclusão territori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74560" y="1116000"/>
            <a:ext cx="951552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60" y="1409760"/>
            <a:ext cx="9515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TBI / contribuição de melh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5800" y="2693880"/>
            <a:ext cx="105300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86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2451240"/>
            <a:ext cx="1069164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B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o imposto de transmissão de bens “inter vivos” que é cobrado no momento da transferência do título de propriedade de um imó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Muitas vezes o ganho pela valorização se dá efetivamente no momento da venda do imóvel; por essa razão, o ITBI pode ser um bom instrumento para a gestão social da valorização imobiliá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IBUIÇÃO DE MELHORIA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ributo que pode ser cobrado quando há valorização imobiliária de propriedade privada decorrente de obra públ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4560" y="1116000"/>
            <a:ext cx="951552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560" y="1409760"/>
            <a:ext cx="9515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ncentivos e Benefícios Fis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5800" y="2693880"/>
            <a:ext cx="105300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92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2801880"/>
            <a:ext cx="101343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8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Município pode conceder isenções e benefícios fiscais com vistas à realização das funções sociais da cidade e da propriedade urb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isenção total ou parcial dos impostos em áreas definidas como ZE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38360" y="1187280"/>
            <a:ext cx="951372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8360" y="1474920"/>
            <a:ext cx="9513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nstrumentos Urbaní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600" y="2484360"/>
            <a:ext cx="947880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98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0560" y="2340000"/>
            <a:ext cx="9861840" cy="5727960"/>
            <a:chOff x="520560" y="2340000"/>
            <a:chExt cx="9861840" cy="5727960"/>
          </a:xfrm>
        </p:grpSpPr>
        <p:sp>
          <p:nvSpPr>
            <p:cNvPr id="100" name=""/>
            <p:cNvSpPr/>
            <p:nvPr/>
          </p:nvSpPr>
          <p:spPr>
            <a:xfrm>
              <a:off x="520560" y="2340000"/>
              <a:ext cx="8740800" cy="3741840"/>
            </a:xfrm>
            <a:prstGeom prst="roundRect">
              <a:avLst>
                <a:gd name="adj" fmla="val 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0560" y="2340000"/>
              <a:ext cx="9861840" cy="5727960"/>
              <a:chOff x="520560" y="2340000"/>
              <a:chExt cx="9861840" cy="5727960"/>
            </a:xfrm>
          </p:grpSpPr>
          <p:sp>
            <p:nvSpPr>
              <p:cNvPr id="102" name=""/>
              <p:cNvSpPr/>
              <p:nvPr/>
            </p:nvSpPr>
            <p:spPr>
              <a:xfrm>
                <a:off x="520560" y="2340000"/>
                <a:ext cx="8740800" cy="299412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20560" y="2340000"/>
                <a:ext cx="9861840" cy="5727960"/>
                <a:chOff x="520560" y="2340000"/>
                <a:chExt cx="9861840" cy="57279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20560" y="2340000"/>
                  <a:ext cx="9861840" cy="3079800"/>
                </a:xfrm>
                <a:prstGeom prst="roundRect">
                  <a:avLst>
                    <a:gd name="adj" fmla="val 5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20560" y="2340000"/>
                  <a:ext cx="9861840" cy="57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ts val="231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Principais instrumentos urbanísticos para recuperação da valorização imobiliária: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- outorga onerosa do direito de construir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- outorga onerosa de alteração de uso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- operações urbanas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- direito de preempção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- consórcio imobiliário;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- plano diretor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231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231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231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231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231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4320" y="620640"/>
            <a:ext cx="951408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9640" y="1546560"/>
            <a:ext cx="9513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Outorga Onerosa do Direito de Constru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9640" y="1835280"/>
            <a:ext cx="947880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080" y="2362320"/>
            <a:ext cx="101502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48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ção entre o direito de propriedade e o direito de constru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6678" t="20002" r="19669" b="33600"/>
          <a:stretch/>
        </p:blipFill>
        <p:spPr>
          <a:xfrm>
            <a:off x="380880" y="3241800"/>
            <a:ext cx="6782040" cy="19177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3200400" y="4737240"/>
            <a:ext cx="1082520" cy="822240"/>
            <a:chOff x="3200400" y="4737240"/>
            <a:chExt cx="1082520" cy="822240"/>
          </a:xfrm>
        </p:grpSpPr>
        <p:sp>
          <p:nvSpPr>
            <p:cNvPr id="112" name=""/>
            <p:cNvSpPr/>
            <p:nvPr/>
          </p:nvSpPr>
          <p:spPr>
            <a:xfrm>
              <a:off x="3200400" y="4737240"/>
              <a:ext cx="1082520" cy="822240"/>
            </a:xfrm>
            <a:prstGeom prst="roundRect">
              <a:avLst>
                <a:gd name="adj" fmla="val 19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3200400" y="4737240"/>
              <a:ext cx="1082520" cy="8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4386240" y="3968640"/>
            <a:ext cx="736560" cy="876240"/>
          </a:xfrm>
          <a:custGeom>
            <a:avLst/>
            <a:gdLst/>
            <a:ahLst/>
            <a:rect l="l" t="t" r="r" b="b"/>
            <a:pathLst>
              <a:path w="2047" h="2435">
                <a:moveTo>
                  <a:pt x="1679" y="372"/>
                </a:moveTo>
                <a:lnTo>
                  <a:pt x="1612" y="376"/>
                </a:lnTo>
                <a:lnTo>
                  <a:pt x="1545" y="381"/>
                </a:lnTo>
                <a:lnTo>
                  <a:pt x="1477" y="390"/>
                </a:lnTo>
                <a:lnTo>
                  <a:pt x="1410" y="402"/>
                </a:lnTo>
                <a:lnTo>
                  <a:pt x="1343" y="416"/>
                </a:lnTo>
                <a:lnTo>
                  <a:pt x="1276" y="434"/>
                </a:lnTo>
                <a:lnTo>
                  <a:pt x="1210" y="454"/>
                </a:lnTo>
                <a:lnTo>
                  <a:pt x="1144" y="476"/>
                </a:lnTo>
                <a:lnTo>
                  <a:pt x="1081" y="501"/>
                </a:lnTo>
                <a:lnTo>
                  <a:pt x="1018" y="529"/>
                </a:lnTo>
                <a:lnTo>
                  <a:pt x="957" y="558"/>
                </a:lnTo>
                <a:lnTo>
                  <a:pt x="896" y="589"/>
                </a:lnTo>
                <a:lnTo>
                  <a:pt x="838" y="624"/>
                </a:lnTo>
                <a:lnTo>
                  <a:pt x="780" y="660"/>
                </a:lnTo>
                <a:lnTo>
                  <a:pt x="726" y="698"/>
                </a:lnTo>
                <a:lnTo>
                  <a:pt x="673" y="739"/>
                </a:lnTo>
                <a:lnTo>
                  <a:pt x="623" y="782"/>
                </a:lnTo>
                <a:lnTo>
                  <a:pt x="575" y="825"/>
                </a:lnTo>
                <a:lnTo>
                  <a:pt x="530" y="871"/>
                </a:lnTo>
                <a:lnTo>
                  <a:pt x="486" y="918"/>
                </a:lnTo>
                <a:lnTo>
                  <a:pt x="446" y="966"/>
                </a:lnTo>
                <a:lnTo>
                  <a:pt x="408" y="1016"/>
                </a:lnTo>
                <a:lnTo>
                  <a:pt x="374" y="1067"/>
                </a:lnTo>
                <a:lnTo>
                  <a:pt x="342" y="1119"/>
                </a:lnTo>
                <a:lnTo>
                  <a:pt x="314" y="1171"/>
                </a:lnTo>
                <a:lnTo>
                  <a:pt x="288" y="1225"/>
                </a:lnTo>
                <a:lnTo>
                  <a:pt x="265" y="1279"/>
                </a:lnTo>
                <a:lnTo>
                  <a:pt x="247" y="1333"/>
                </a:lnTo>
                <a:lnTo>
                  <a:pt x="231" y="1389"/>
                </a:lnTo>
                <a:lnTo>
                  <a:pt x="219" y="1443"/>
                </a:lnTo>
                <a:lnTo>
                  <a:pt x="210" y="1498"/>
                </a:lnTo>
                <a:lnTo>
                  <a:pt x="205" y="1553"/>
                </a:lnTo>
                <a:lnTo>
                  <a:pt x="202" y="1608"/>
                </a:lnTo>
                <a:lnTo>
                  <a:pt x="204" y="1662"/>
                </a:lnTo>
                <a:lnTo>
                  <a:pt x="208" y="1716"/>
                </a:lnTo>
                <a:lnTo>
                  <a:pt x="217" y="1769"/>
                </a:lnTo>
                <a:lnTo>
                  <a:pt x="228" y="1821"/>
                </a:lnTo>
                <a:lnTo>
                  <a:pt x="243" y="1872"/>
                </a:lnTo>
                <a:lnTo>
                  <a:pt x="261" y="1922"/>
                </a:lnTo>
                <a:lnTo>
                  <a:pt x="283" y="1971"/>
                </a:lnTo>
                <a:lnTo>
                  <a:pt x="308" y="2018"/>
                </a:lnTo>
                <a:lnTo>
                  <a:pt x="336" y="2064"/>
                </a:lnTo>
                <a:lnTo>
                  <a:pt x="367" y="2109"/>
                </a:lnTo>
                <a:lnTo>
                  <a:pt x="401" y="2152"/>
                </a:lnTo>
                <a:lnTo>
                  <a:pt x="438" y="2193"/>
                </a:lnTo>
                <a:lnTo>
                  <a:pt x="478" y="2232"/>
                </a:lnTo>
                <a:lnTo>
                  <a:pt x="520" y="2269"/>
                </a:lnTo>
                <a:lnTo>
                  <a:pt x="566" y="2304"/>
                </a:lnTo>
                <a:lnTo>
                  <a:pt x="419" y="2434"/>
                </a:lnTo>
                <a:lnTo>
                  <a:pt x="367" y="2394"/>
                </a:lnTo>
                <a:lnTo>
                  <a:pt x="318" y="2350"/>
                </a:lnTo>
                <a:lnTo>
                  <a:pt x="272" y="2305"/>
                </a:lnTo>
                <a:lnTo>
                  <a:pt x="229" y="2258"/>
                </a:lnTo>
                <a:lnTo>
                  <a:pt x="190" y="2209"/>
                </a:lnTo>
                <a:lnTo>
                  <a:pt x="154" y="2157"/>
                </a:lnTo>
                <a:lnTo>
                  <a:pt x="122" y="2103"/>
                </a:lnTo>
                <a:lnTo>
                  <a:pt x="93" y="2049"/>
                </a:lnTo>
                <a:lnTo>
                  <a:pt x="69" y="1992"/>
                </a:lnTo>
                <a:lnTo>
                  <a:pt x="47" y="1934"/>
                </a:lnTo>
                <a:lnTo>
                  <a:pt x="30" y="1876"/>
                </a:lnTo>
                <a:lnTo>
                  <a:pt x="16" y="1815"/>
                </a:lnTo>
                <a:lnTo>
                  <a:pt x="7" y="1754"/>
                </a:lnTo>
                <a:lnTo>
                  <a:pt x="1" y="1693"/>
                </a:lnTo>
                <a:lnTo>
                  <a:pt x="0" y="1629"/>
                </a:lnTo>
                <a:lnTo>
                  <a:pt x="2" y="1567"/>
                </a:lnTo>
                <a:lnTo>
                  <a:pt x="8" y="1504"/>
                </a:lnTo>
                <a:lnTo>
                  <a:pt x="19" y="1441"/>
                </a:lnTo>
                <a:lnTo>
                  <a:pt x="33" y="1376"/>
                </a:lnTo>
                <a:lnTo>
                  <a:pt x="51" y="1314"/>
                </a:lnTo>
                <a:lnTo>
                  <a:pt x="72" y="1250"/>
                </a:lnTo>
                <a:lnTo>
                  <a:pt x="99" y="1188"/>
                </a:lnTo>
                <a:lnTo>
                  <a:pt x="127" y="1127"/>
                </a:lnTo>
                <a:lnTo>
                  <a:pt x="160" y="1066"/>
                </a:lnTo>
                <a:lnTo>
                  <a:pt x="197" y="1006"/>
                </a:lnTo>
                <a:lnTo>
                  <a:pt x="237" y="948"/>
                </a:lnTo>
                <a:lnTo>
                  <a:pt x="281" y="890"/>
                </a:lnTo>
                <a:lnTo>
                  <a:pt x="327" y="834"/>
                </a:lnTo>
                <a:lnTo>
                  <a:pt x="377" y="779"/>
                </a:lnTo>
                <a:lnTo>
                  <a:pt x="429" y="727"/>
                </a:lnTo>
                <a:lnTo>
                  <a:pt x="484" y="677"/>
                </a:lnTo>
                <a:lnTo>
                  <a:pt x="542" y="628"/>
                </a:lnTo>
                <a:lnTo>
                  <a:pt x="603" y="581"/>
                </a:lnTo>
                <a:lnTo>
                  <a:pt x="666" y="537"/>
                </a:lnTo>
                <a:lnTo>
                  <a:pt x="732" y="495"/>
                </a:lnTo>
                <a:lnTo>
                  <a:pt x="799" y="456"/>
                </a:lnTo>
                <a:lnTo>
                  <a:pt x="869" y="419"/>
                </a:lnTo>
                <a:lnTo>
                  <a:pt x="940" y="384"/>
                </a:lnTo>
                <a:lnTo>
                  <a:pt x="1012" y="353"/>
                </a:lnTo>
                <a:lnTo>
                  <a:pt x="1087" y="325"/>
                </a:lnTo>
                <a:lnTo>
                  <a:pt x="1162" y="299"/>
                </a:lnTo>
                <a:lnTo>
                  <a:pt x="1237" y="276"/>
                </a:lnTo>
                <a:lnTo>
                  <a:pt x="1314" y="257"/>
                </a:lnTo>
                <a:lnTo>
                  <a:pt x="1392" y="240"/>
                </a:lnTo>
                <a:lnTo>
                  <a:pt x="1469" y="227"/>
                </a:lnTo>
                <a:lnTo>
                  <a:pt x="1548" y="217"/>
                </a:lnTo>
                <a:lnTo>
                  <a:pt x="1625" y="209"/>
                </a:lnTo>
                <a:lnTo>
                  <a:pt x="1703" y="205"/>
                </a:lnTo>
                <a:lnTo>
                  <a:pt x="1731" y="0"/>
                </a:lnTo>
                <a:lnTo>
                  <a:pt x="2046" y="316"/>
                </a:lnTo>
                <a:lnTo>
                  <a:pt x="1652" y="579"/>
                </a:lnTo>
                <a:lnTo>
                  <a:pt x="1679" y="37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85880" y="4896000"/>
            <a:ext cx="473400" cy="671400"/>
          </a:xfrm>
          <a:custGeom>
            <a:avLst/>
            <a:gdLst/>
            <a:ahLst/>
            <a:rect l="l" t="t" r="r" b="b"/>
            <a:pathLst>
              <a:path w="1315" h="1865">
                <a:moveTo>
                  <a:pt x="1086" y="1599"/>
                </a:moveTo>
                <a:lnTo>
                  <a:pt x="1044" y="1602"/>
                </a:lnTo>
                <a:lnTo>
                  <a:pt x="1002" y="1603"/>
                </a:lnTo>
                <a:lnTo>
                  <a:pt x="959" y="1602"/>
                </a:lnTo>
                <a:lnTo>
                  <a:pt x="917" y="1599"/>
                </a:lnTo>
                <a:lnTo>
                  <a:pt x="874" y="1595"/>
                </a:lnTo>
                <a:lnTo>
                  <a:pt x="832" y="1588"/>
                </a:lnTo>
                <a:lnTo>
                  <a:pt x="790" y="1579"/>
                </a:lnTo>
                <a:lnTo>
                  <a:pt x="750" y="1568"/>
                </a:lnTo>
                <a:lnTo>
                  <a:pt x="708" y="1555"/>
                </a:lnTo>
                <a:lnTo>
                  <a:pt x="669" y="1541"/>
                </a:lnTo>
                <a:lnTo>
                  <a:pt x="629" y="1525"/>
                </a:lnTo>
                <a:lnTo>
                  <a:pt x="591" y="1507"/>
                </a:lnTo>
                <a:lnTo>
                  <a:pt x="554" y="1488"/>
                </a:lnTo>
                <a:lnTo>
                  <a:pt x="518" y="1466"/>
                </a:lnTo>
                <a:lnTo>
                  <a:pt x="482" y="1443"/>
                </a:lnTo>
                <a:lnTo>
                  <a:pt x="448" y="1419"/>
                </a:lnTo>
                <a:lnTo>
                  <a:pt x="415" y="1393"/>
                </a:lnTo>
                <a:lnTo>
                  <a:pt x="384" y="1365"/>
                </a:lnTo>
                <a:lnTo>
                  <a:pt x="353" y="1336"/>
                </a:lnTo>
                <a:lnTo>
                  <a:pt x="326" y="1306"/>
                </a:lnTo>
                <a:lnTo>
                  <a:pt x="299" y="1275"/>
                </a:lnTo>
                <a:lnTo>
                  <a:pt x="274" y="1242"/>
                </a:lnTo>
                <a:lnTo>
                  <a:pt x="251" y="1208"/>
                </a:lnTo>
                <a:lnTo>
                  <a:pt x="230" y="1174"/>
                </a:lnTo>
                <a:lnTo>
                  <a:pt x="211" y="1139"/>
                </a:lnTo>
                <a:lnTo>
                  <a:pt x="193" y="1102"/>
                </a:lnTo>
                <a:lnTo>
                  <a:pt x="178" y="1065"/>
                </a:lnTo>
                <a:lnTo>
                  <a:pt x="164" y="1028"/>
                </a:lnTo>
                <a:lnTo>
                  <a:pt x="153" y="989"/>
                </a:lnTo>
                <a:lnTo>
                  <a:pt x="143" y="951"/>
                </a:lnTo>
                <a:lnTo>
                  <a:pt x="136" y="912"/>
                </a:lnTo>
                <a:lnTo>
                  <a:pt x="132" y="874"/>
                </a:lnTo>
                <a:lnTo>
                  <a:pt x="129" y="835"/>
                </a:lnTo>
                <a:lnTo>
                  <a:pt x="128" y="795"/>
                </a:lnTo>
                <a:lnTo>
                  <a:pt x="129" y="757"/>
                </a:lnTo>
                <a:lnTo>
                  <a:pt x="133" y="718"/>
                </a:lnTo>
                <a:lnTo>
                  <a:pt x="138" y="680"/>
                </a:lnTo>
                <a:lnTo>
                  <a:pt x="146" y="641"/>
                </a:lnTo>
                <a:lnTo>
                  <a:pt x="156" y="605"/>
                </a:lnTo>
                <a:lnTo>
                  <a:pt x="168" y="567"/>
                </a:lnTo>
                <a:lnTo>
                  <a:pt x="181" y="531"/>
                </a:lnTo>
                <a:lnTo>
                  <a:pt x="197" y="495"/>
                </a:lnTo>
                <a:lnTo>
                  <a:pt x="215" y="461"/>
                </a:lnTo>
                <a:lnTo>
                  <a:pt x="235" y="427"/>
                </a:lnTo>
                <a:lnTo>
                  <a:pt x="257" y="394"/>
                </a:lnTo>
                <a:lnTo>
                  <a:pt x="281" y="363"/>
                </a:lnTo>
                <a:lnTo>
                  <a:pt x="305" y="333"/>
                </a:lnTo>
                <a:lnTo>
                  <a:pt x="333" y="303"/>
                </a:lnTo>
                <a:lnTo>
                  <a:pt x="361" y="275"/>
                </a:lnTo>
                <a:lnTo>
                  <a:pt x="391" y="249"/>
                </a:lnTo>
                <a:lnTo>
                  <a:pt x="422" y="225"/>
                </a:lnTo>
                <a:lnTo>
                  <a:pt x="457" y="201"/>
                </a:lnTo>
                <a:lnTo>
                  <a:pt x="491" y="179"/>
                </a:lnTo>
                <a:lnTo>
                  <a:pt x="526" y="160"/>
                </a:lnTo>
                <a:lnTo>
                  <a:pt x="563" y="142"/>
                </a:lnTo>
                <a:lnTo>
                  <a:pt x="600" y="125"/>
                </a:lnTo>
                <a:lnTo>
                  <a:pt x="638" y="110"/>
                </a:lnTo>
                <a:lnTo>
                  <a:pt x="592" y="0"/>
                </a:lnTo>
                <a:lnTo>
                  <a:pt x="547" y="17"/>
                </a:lnTo>
                <a:lnTo>
                  <a:pt x="503" y="35"/>
                </a:lnTo>
                <a:lnTo>
                  <a:pt x="461" y="56"/>
                </a:lnTo>
                <a:lnTo>
                  <a:pt x="420" y="79"/>
                </a:lnTo>
                <a:lnTo>
                  <a:pt x="380" y="104"/>
                </a:lnTo>
                <a:lnTo>
                  <a:pt x="342" y="131"/>
                </a:lnTo>
                <a:lnTo>
                  <a:pt x="305" y="159"/>
                </a:lnTo>
                <a:lnTo>
                  <a:pt x="271" y="189"/>
                </a:lnTo>
                <a:lnTo>
                  <a:pt x="237" y="221"/>
                </a:lnTo>
                <a:lnTo>
                  <a:pt x="207" y="255"/>
                </a:lnTo>
                <a:lnTo>
                  <a:pt x="178" y="289"/>
                </a:lnTo>
                <a:lnTo>
                  <a:pt x="150" y="326"/>
                </a:lnTo>
                <a:lnTo>
                  <a:pt x="125" y="363"/>
                </a:lnTo>
                <a:lnTo>
                  <a:pt x="102" y="402"/>
                </a:lnTo>
                <a:lnTo>
                  <a:pt x="81" y="442"/>
                </a:lnTo>
                <a:lnTo>
                  <a:pt x="63" y="483"/>
                </a:lnTo>
                <a:lnTo>
                  <a:pt x="47" y="525"/>
                </a:lnTo>
                <a:lnTo>
                  <a:pt x="33" y="567"/>
                </a:lnTo>
                <a:lnTo>
                  <a:pt x="22" y="611"/>
                </a:lnTo>
                <a:lnTo>
                  <a:pt x="12" y="654"/>
                </a:lnTo>
                <a:lnTo>
                  <a:pt x="6" y="699"/>
                </a:lnTo>
                <a:lnTo>
                  <a:pt x="2" y="743"/>
                </a:lnTo>
                <a:lnTo>
                  <a:pt x="0" y="788"/>
                </a:lnTo>
                <a:lnTo>
                  <a:pt x="1" y="833"/>
                </a:lnTo>
                <a:lnTo>
                  <a:pt x="5" y="878"/>
                </a:lnTo>
                <a:lnTo>
                  <a:pt x="10" y="923"/>
                </a:lnTo>
                <a:lnTo>
                  <a:pt x="18" y="968"/>
                </a:lnTo>
                <a:lnTo>
                  <a:pt x="29" y="1012"/>
                </a:lnTo>
                <a:lnTo>
                  <a:pt x="42" y="1056"/>
                </a:lnTo>
                <a:lnTo>
                  <a:pt x="57" y="1099"/>
                </a:lnTo>
                <a:lnTo>
                  <a:pt x="75" y="1141"/>
                </a:lnTo>
                <a:lnTo>
                  <a:pt x="95" y="1183"/>
                </a:lnTo>
                <a:lnTo>
                  <a:pt x="117" y="1224"/>
                </a:lnTo>
                <a:lnTo>
                  <a:pt x="141" y="1264"/>
                </a:lnTo>
                <a:lnTo>
                  <a:pt x="168" y="1302"/>
                </a:lnTo>
                <a:lnTo>
                  <a:pt x="196" y="1340"/>
                </a:lnTo>
                <a:lnTo>
                  <a:pt x="227" y="1377"/>
                </a:lnTo>
                <a:lnTo>
                  <a:pt x="260" y="1411"/>
                </a:lnTo>
                <a:lnTo>
                  <a:pt x="294" y="1445"/>
                </a:lnTo>
                <a:lnTo>
                  <a:pt x="330" y="1476"/>
                </a:lnTo>
                <a:lnTo>
                  <a:pt x="367" y="1506"/>
                </a:lnTo>
                <a:lnTo>
                  <a:pt x="406" y="1535"/>
                </a:lnTo>
                <a:lnTo>
                  <a:pt x="447" y="1561"/>
                </a:lnTo>
                <a:lnTo>
                  <a:pt x="489" y="1587"/>
                </a:lnTo>
                <a:lnTo>
                  <a:pt x="532" y="1609"/>
                </a:lnTo>
                <a:lnTo>
                  <a:pt x="576" y="1630"/>
                </a:lnTo>
                <a:lnTo>
                  <a:pt x="622" y="1649"/>
                </a:lnTo>
                <a:lnTo>
                  <a:pt x="667" y="1665"/>
                </a:lnTo>
                <a:lnTo>
                  <a:pt x="714" y="1680"/>
                </a:lnTo>
                <a:lnTo>
                  <a:pt x="761" y="1692"/>
                </a:lnTo>
                <a:lnTo>
                  <a:pt x="809" y="1703"/>
                </a:lnTo>
                <a:lnTo>
                  <a:pt x="858" y="1710"/>
                </a:lnTo>
                <a:lnTo>
                  <a:pt x="908" y="1716"/>
                </a:lnTo>
                <a:lnTo>
                  <a:pt x="956" y="1720"/>
                </a:lnTo>
                <a:lnTo>
                  <a:pt x="1005" y="1721"/>
                </a:lnTo>
                <a:lnTo>
                  <a:pt x="1054" y="1720"/>
                </a:lnTo>
                <a:lnTo>
                  <a:pt x="1102" y="1716"/>
                </a:lnTo>
                <a:lnTo>
                  <a:pt x="1124" y="1864"/>
                </a:lnTo>
                <a:lnTo>
                  <a:pt x="1314" y="1610"/>
                </a:lnTo>
                <a:lnTo>
                  <a:pt x="1062" y="1452"/>
                </a:lnTo>
                <a:lnTo>
                  <a:pt x="1086" y="159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070760" y="3048120"/>
            <a:ext cx="3441600" cy="3643200"/>
            <a:chOff x="7070760" y="3048120"/>
            <a:chExt cx="3441600" cy="3643200"/>
          </a:xfrm>
        </p:grpSpPr>
        <p:sp>
          <p:nvSpPr>
            <p:cNvPr id="117" name=""/>
            <p:cNvSpPr/>
            <p:nvPr/>
          </p:nvSpPr>
          <p:spPr>
            <a:xfrm>
              <a:off x="7070760" y="3048120"/>
              <a:ext cx="3441600" cy="3643200"/>
            </a:xfrm>
            <a:custGeom>
              <a:avLst/>
              <a:gdLst>
                <a:gd name="textAreaLeft" fmla="*/ 360 w 3441600"/>
                <a:gd name="textAreaRight" fmla="*/ 3441240 w 3441600"/>
                <a:gd name="textAreaTop" fmla="*/ 360 h 3643200"/>
                <a:gd name="textAreaBottom" fmla="*/ 3642840 h 3643200"/>
              </a:gdLst>
              <a:ahLst/>
              <a:rect l="textAreaLeft" t="textAreaTop" r="textAreaRight" b="textAreaBottom"/>
              <a:pathLst>
                <a:path w="21600" h="22865">
                  <a:moveTo>
                    <a:pt x="9" y="0"/>
                  </a:moveTo>
                  <a:arcTo wR="9" hR="9" stAng="16200000" swAng="-5400000"/>
                  <a:lnTo>
                    <a:pt x="0" y="22856"/>
                  </a:lnTo>
                  <a:arcTo wR="9" hR="9" stAng="10800000" swAng="-5400000"/>
                  <a:lnTo>
                    <a:pt x="21591" y="22865"/>
                  </a:lnTo>
                  <a:arcTo wR="9" hR="9" stAng="5400000" swAng="-5400000"/>
                  <a:lnTo>
                    <a:pt x="21600" y="9"/>
                  </a:lnTo>
                  <a:arcTo wR="9" hR="9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70760" y="3048120"/>
              <a:ext cx="344160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gularização Fundiá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gramas e Projetos H.I.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serva Fundiá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rdenamento da Expansão Urb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quipamentos Urbanos e Comunitá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Áreas de Laz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servação Ambie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teção de Áreas de Interesse Histórico, Cultural e Paisagíst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572000" y="5334120"/>
            <a:ext cx="2514600" cy="152280"/>
          </a:xfrm>
          <a:custGeom>
            <a:avLst/>
            <a:gdLst/>
            <a:ahLst/>
            <a:rect l="l" t="t" r="r" b="b"/>
            <a:pathLst>
              <a:path w="6986" h="424">
                <a:moveTo>
                  <a:pt x="0" y="105"/>
                </a:moveTo>
                <a:lnTo>
                  <a:pt x="5238" y="105"/>
                </a:lnTo>
                <a:lnTo>
                  <a:pt x="5238" y="0"/>
                </a:lnTo>
                <a:lnTo>
                  <a:pt x="6985" y="211"/>
                </a:lnTo>
                <a:lnTo>
                  <a:pt x="5238" y="423"/>
                </a:lnTo>
                <a:lnTo>
                  <a:pt x="5238" y="317"/>
                </a:lnTo>
                <a:lnTo>
                  <a:pt x="0" y="317"/>
                </a:lnTo>
                <a:lnTo>
                  <a:pt x="0" y="10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782640" y="1187280"/>
            <a:ext cx="9540720" cy="1549800"/>
            <a:chOff x="782640" y="1187280"/>
            <a:chExt cx="9540720" cy="1549800"/>
          </a:xfrm>
        </p:grpSpPr>
        <p:sp>
          <p:nvSpPr>
            <p:cNvPr id="121" name=""/>
            <p:cNvSpPr/>
            <p:nvPr/>
          </p:nvSpPr>
          <p:spPr>
            <a:xfrm>
              <a:off x="814320" y="1187280"/>
              <a:ext cx="9509040" cy="109548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4320" y="1459080"/>
              <a:ext cx="9509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Outorga Onerosa de Alteração de Uso</a:t>
              </a: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2640" y="2430360"/>
              <a:ext cx="94741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412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0560" y="2411280"/>
            <a:ext cx="9863280" cy="3602160"/>
            <a:chOff x="520560" y="2411280"/>
            <a:chExt cx="9863280" cy="3602160"/>
          </a:xfrm>
        </p:grpSpPr>
        <p:sp>
          <p:nvSpPr>
            <p:cNvPr id="125" name=""/>
            <p:cNvSpPr/>
            <p:nvPr/>
          </p:nvSpPr>
          <p:spPr>
            <a:xfrm>
              <a:off x="520560" y="2411280"/>
              <a:ext cx="9817200" cy="3602160"/>
            </a:xfrm>
            <a:prstGeom prst="roundRect">
              <a:avLst>
                <a:gd name="adj" fmla="val 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20560" y="2411280"/>
              <a:ext cx="9863280" cy="3400560"/>
              <a:chOff x="520560" y="2411280"/>
              <a:chExt cx="9863280" cy="3400560"/>
            </a:xfrm>
          </p:grpSpPr>
          <p:sp>
            <p:nvSpPr>
              <p:cNvPr id="127" name=""/>
              <p:cNvSpPr/>
              <p:nvPr/>
            </p:nvSpPr>
            <p:spPr>
              <a:xfrm>
                <a:off x="520560" y="2411280"/>
                <a:ext cx="9817200" cy="324504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520560" y="2411280"/>
                <a:ext cx="9863280" cy="3400560"/>
                <a:chOff x="520560" y="2411280"/>
                <a:chExt cx="9863280" cy="34005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20560" y="2411280"/>
                  <a:ext cx="9863280" cy="3400560"/>
                </a:xfrm>
                <a:prstGeom prst="roundRect">
                  <a:avLst>
                    <a:gd name="adj" fmla="val 4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2411280"/>
                  <a:ext cx="9863280" cy="32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ts val="3050"/>
                    </a:lnSpc>
                    <a:spcBef>
                      <a:spcPts val="700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O Plano Diretor pode definir áreas onde determinadas alterações de uso dos imóveis exigem pagamentos de contrapartida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3050"/>
                    </a:lnSpc>
                    <a:spcBef>
                      <a:spcPts val="700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A contrapartida não precisa ser necessariamente financeir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3050"/>
                    </a:lnSpc>
                    <a:spcBef>
                      <a:spcPts val="700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No caso de passagem de rural para urbano  a contrapartida pode ser participação na implantação da infraestrutura/espaços protegidos/espaços coletivos previamente definidos no Plano Diretor Participativo.</a:t>
                  </a: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82640" y="1096920"/>
            <a:ext cx="9540720" cy="1549800"/>
            <a:chOff x="782640" y="1096920"/>
            <a:chExt cx="9540720" cy="1549800"/>
          </a:xfrm>
        </p:grpSpPr>
        <p:sp>
          <p:nvSpPr>
            <p:cNvPr id="132" name=""/>
            <p:cNvSpPr/>
            <p:nvPr/>
          </p:nvSpPr>
          <p:spPr>
            <a:xfrm>
              <a:off x="814320" y="1096920"/>
              <a:ext cx="9509040" cy="109548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320" y="1370160"/>
              <a:ext cx="9509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"/>
                </a:rPr>
                <a:t>Direito de Preempç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2640" y="2340000"/>
              <a:ext cx="94741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412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136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6720" y="2073240"/>
            <a:ext cx="9559800" cy="7113600"/>
            <a:chOff x="666720" y="2073240"/>
            <a:chExt cx="9559800" cy="7113600"/>
          </a:xfrm>
        </p:grpSpPr>
        <p:sp>
          <p:nvSpPr>
            <p:cNvPr id="138" name=""/>
            <p:cNvSpPr/>
            <p:nvPr/>
          </p:nvSpPr>
          <p:spPr>
            <a:xfrm>
              <a:off x="666720" y="2073240"/>
              <a:ext cx="9559800" cy="7113600"/>
            </a:xfrm>
            <a:prstGeom prst="roundRect">
              <a:avLst>
                <a:gd name="adj" fmla="val 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66720" y="2075040"/>
              <a:ext cx="9553680" cy="7107120"/>
              <a:chOff x="666720" y="2075040"/>
              <a:chExt cx="9553680" cy="71071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20" y="2075040"/>
                <a:ext cx="9553680" cy="7107120"/>
              </a:xfrm>
              <a:prstGeom prst="roundRect">
                <a:avLst>
                  <a:gd name="adj" fmla="val 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666720" y="2075040"/>
                <a:ext cx="9550440" cy="7102440"/>
                <a:chOff x="666720" y="2075040"/>
                <a:chExt cx="9550440" cy="7102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66720" y="2075040"/>
                  <a:ext cx="9550440" cy="7102440"/>
                </a:xfrm>
                <a:prstGeom prst="roundRect">
                  <a:avLst>
                    <a:gd name="adj" fmla="val 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666720" y="2075040"/>
                  <a:ext cx="9547200" cy="7099200"/>
                  <a:chOff x="666720" y="2075040"/>
                  <a:chExt cx="9547200" cy="70992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66720" y="2075040"/>
                    <a:ext cx="9547200" cy="7099200"/>
                  </a:xfrm>
                  <a:prstGeom prst="roundRect">
                    <a:avLst>
                      <a:gd name="adj" fmla="val 1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666720" y="2075040"/>
                    <a:ext cx="9545760" cy="7097400"/>
                    <a:chOff x="666720" y="2075040"/>
                    <a:chExt cx="9545760" cy="70974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66720" y="2075040"/>
                      <a:ext cx="9545760" cy="7097400"/>
                    </a:xfrm>
                    <a:prstGeom prst="roundRect">
                      <a:avLst>
                        <a:gd name="adj" fmla="val 1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666720" y="2075040"/>
                      <a:ext cx="9543960" cy="7097400"/>
                      <a:chOff x="666720" y="2075040"/>
                      <a:chExt cx="9543960" cy="7097400"/>
                    </a:xfrm>
                  </p:grpSpPr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666720" y="2075040"/>
                        <a:ext cx="9543960" cy="7097400"/>
                      </a:xfrm>
                      <a:prstGeom prst="roundRect">
                        <a:avLst>
                          <a:gd name="adj" fmla="val 19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5367600" y="2075040"/>
                        <a:ext cx="140760" cy="27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416461">
                            <a:moveTo>
                              <a:pt x="4" y="0"/>
                            </a:moveTo>
                            <a:arcTo wR="4" hR="4" stAng="16200000" swAng="-5400000"/>
                            <a:lnTo>
                              <a:pt x="0" y="416457"/>
                            </a:lnTo>
                            <a:arcTo wR="4" hR="4" stAng="10800000" swAng="-5400000"/>
                            <a:lnTo>
                              <a:pt x="21596" y="416461"/>
                            </a:lnTo>
                            <a:arcTo wR="4" hR="4" stAng="5400000" swAng="-5400000"/>
                            <a:lnTo>
                              <a:pt x="21600" y="4"/>
                            </a:lnTo>
                            <a:arcTo wR="4" hR="4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2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410760"/>
                            <a:tab algn="l" pos="10058400"/>
                          </a:tabLst>
                        </a:pPr>
                        <a:r>
                          <a:rPr b="0" lang="en-GB" sz="2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</a:t>
                        </a: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50" name=""/>
          <p:cNvSpPr/>
          <p:nvPr/>
        </p:nvSpPr>
        <p:spPr>
          <a:xfrm>
            <a:off x="380880" y="2008080"/>
            <a:ext cx="100584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 poder público municipal tem preferência na aquisição de imóvel urbano colocado à venda no mercado. Poderá ser exercido sempre que o poder público necessitar de áreas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3124080"/>
            <a:ext cx="3882960" cy="3543840"/>
            <a:chOff x="533520" y="3124080"/>
            <a:chExt cx="3882960" cy="3543840"/>
          </a:xfrm>
        </p:grpSpPr>
        <p:sp>
          <p:nvSpPr>
            <p:cNvPr id="152" name=""/>
            <p:cNvSpPr/>
            <p:nvPr/>
          </p:nvSpPr>
          <p:spPr>
            <a:xfrm>
              <a:off x="533520" y="3124080"/>
              <a:ext cx="3882960" cy="3537000"/>
            </a:xfrm>
            <a:prstGeom prst="roundRect">
              <a:avLst>
                <a:gd name="adj" fmla="val 4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3124080"/>
              <a:ext cx="3882960" cy="35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gularização Fundiá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gramas de H.I.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serva Fundiá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xpansão Urb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quipamentos Urb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spaços Públ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eservação Ambi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eservação Patrimônio Histórico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91320" y="2895480"/>
            <a:ext cx="4340160" cy="3780000"/>
            <a:chOff x="5791320" y="2895480"/>
            <a:chExt cx="4340160" cy="3780000"/>
          </a:xfrm>
        </p:grpSpPr>
        <p:grpSp>
          <p:nvGrpSpPr>
            <p:cNvPr id="155" name=""/>
            <p:cNvGrpSpPr/>
            <p:nvPr/>
          </p:nvGrpSpPr>
          <p:grpSpPr>
            <a:xfrm>
              <a:off x="5791320" y="2895480"/>
              <a:ext cx="2587680" cy="951120"/>
              <a:chOff x="5791320" y="2895480"/>
              <a:chExt cx="2587680" cy="951120"/>
            </a:xfrm>
          </p:grpSpPr>
          <p:sp>
            <p:nvSpPr>
              <p:cNvPr id="156" name=""/>
              <p:cNvSpPr/>
              <p:nvPr/>
            </p:nvSpPr>
            <p:spPr>
              <a:xfrm>
                <a:off x="5791320" y="2895480"/>
                <a:ext cx="2587680" cy="951120"/>
              </a:xfrm>
              <a:prstGeom prst="roundRect">
                <a:avLst>
                  <a:gd name="adj" fmla="val 1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91320" y="2895480"/>
                <a:ext cx="2587680" cy="85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PODER PÚBLICO TEM PREFERÊNCIA DE COMP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791320" y="4282920"/>
              <a:ext cx="4340160" cy="2392560"/>
              <a:chOff x="5791320" y="4282920"/>
              <a:chExt cx="4340160" cy="2392560"/>
            </a:xfrm>
          </p:grpSpPr>
          <p:pic>
            <p:nvPicPr>
              <p:cNvPr id="159" name="" descr=""/>
              <p:cNvPicPr/>
              <p:nvPr/>
            </p:nvPicPr>
            <p:blipFill>
              <a:blip r:embed="rId1"/>
              <a:srcRect l="37918" t="37199" r="37037" b="37206"/>
              <a:stretch/>
            </p:blipFill>
            <p:spPr>
              <a:xfrm>
                <a:off x="5791320" y="4282920"/>
                <a:ext cx="4340160" cy="239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0" name=""/>
              <p:cNvGrpSpPr/>
              <p:nvPr/>
            </p:nvGrpSpPr>
            <p:grpSpPr>
              <a:xfrm>
                <a:off x="8302680" y="4572000"/>
                <a:ext cx="911160" cy="530280"/>
                <a:chOff x="8302680" y="4572000"/>
                <a:chExt cx="911160" cy="530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8302680" y="4572000"/>
                  <a:ext cx="142920" cy="522360"/>
                </a:xfrm>
                <a:custGeom>
                  <a:avLst/>
                  <a:gdLst/>
                  <a:ahLst/>
                  <a:rect l="l" t="t" r="r" b="b"/>
                  <a:pathLst>
                    <a:path w="396" h="1451">
                      <a:moveTo>
                        <a:pt x="168" y="1450"/>
                      </a:moveTo>
                      <a:lnTo>
                        <a:pt x="0" y="0"/>
                      </a:lnTo>
                      <a:lnTo>
                        <a:pt x="62" y="0"/>
                      </a:lnTo>
                      <a:lnTo>
                        <a:pt x="175" y="1056"/>
                      </a:lnTo>
                      <a:lnTo>
                        <a:pt x="181" y="1115"/>
                      </a:lnTo>
                      <a:lnTo>
                        <a:pt x="187" y="1178"/>
                      </a:lnTo>
                      <a:lnTo>
                        <a:pt x="192" y="1234"/>
                      </a:lnTo>
                      <a:lnTo>
                        <a:pt x="197" y="1292"/>
                      </a:lnTo>
                      <a:lnTo>
                        <a:pt x="203" y="1232"/>
                      </a:lnTo>
                      <a:lnTo>
                        <a:pt x="208" y="1174"/>
                      </a:lnTo>
                      <a:lnTo>
                        <a:pt x="215" y="1113"/>
                      </a:lnTo>
                      <a:lnTo>
                        <a:pt x="221" y="1056"/>
                      </a:lnTo>
                      <a:lnTo>
                        <a:pt x="336" y="0"/>
                      </a:lnTo>
                      <a:lnTo>
                        <a:pt x="395" y="0"/>
                      </a:lnTo>
                      <a:lnTo>
                        <a:pt x="227" y="1450"/>
                      </a:lnTo>
                      <a:lnTo>
                        <a:pt x="168" y="145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453520" y="4707000"/>
                  <a:ext cx="102960" cy="395280"/>
                </a:xfrm>
                <a:custGeom>
                  <a:avLst/>
                  <a:gdLst/>
                  <a:ahLst/>
                  <a:rect l="l" t="t" r="r" b="b"/>
                  <a:pathLst>
                    <a:path w="286" h="1097">
                      <a:moveTo>
                        <a:pt x="57" y="449"/>
                      </a:moveTo>
                      <a:lnTo>
                        <a:pt x="230" y="449"/>
                      </a:lnTo>
                      <a:lnTo>
                        <a:pt x="227" y="384"/>
                      </a:lnTo>
                      <a:lnTo>
                        <a:pt x="223" y="334"/>
                      </a:lnTo>
                      <a:lnTo>
                        <a:pt x="217" y="288"/>
                      </a:lnTo>
                      <a:lnTo>
                        <a:pt x="210" y="252"/>
                      </a:lnTo>
                      <a:lnTo>
                        <a:pt x="196" y="206"/>
                      </a:lnTo>
                      <a:lnTo>
                        <a:pt x="180" y="172"/>
                      </a:lnTo>
                      <a:lnTo>
                        <a:pt x="163" y="152"/>
                      </a:lnTo>
                      <a:lnTo>
                        <a:pt x="144" y="148"/>
                      </a:lnTo>
                      <a:lnTo>
                        <a:pt x="127" y="152"/>
                      </a:lnTo>
                      <a:lnTo>
                        <a:pt x="112" y="167"/>
                      </a:lnTo>
                      <a:lnTo>
                        <a:pt x="97" y="191"/>
                      </a:lnTo>
                      <a:lnTo>
                        <a:pt x="85" y="229"/>
                      </a:lnTo>
                      <a:lnTo>
                        <a:pt x="72" y="273"/>
                      </a:lnTo>
                      <a:lnTo>
                        <a:pt x="65" y="326"/>
                      </a:lnTo>
                      <a:lnTo>
                        <a:pt x="59" y="382"/>
                      </a:lnTo>
                      <a:lnTo>
                        <a:pt x="57" y="449"/>
                      </a:lnTo>
                      <a:lnTo>
                        <a:pt x="57" y="449"/>
                      </a:lnTo>
                      <a:lnTo>
                        <a:pt x="57" y="449"/>
                      </a:lnTo>
                      <a:close/>
                      <a:moveTo>
                        <a:pt x="229" y="737"/>
                      </a:moveTo>
                      <a:lnTo>
                        <a:pt x="283" y="762"/>
                      </a:lnTo>
                      <a:lnTo>
                        <a:pt x="275" y="835"/>
                      </a:lnTo>
                      <a:lnTo>
                        <a:pt x="265" y="902"/>
                      </a:lnTo>
                      <a:lnTo>
                        <a:pt x="252" y="958"/>
                      </a:lnTo>
                      <a:lnTo>
                        <a:pt x="236" y="1009"/>
                      </a:lnTo>
                      <a:lnTo>
                        <a:pt x="217" y="1048"/>
                      </a:lnTo>
                      <a:lnTo>
                        <a:pt x="196" y="1074"/>
                      </a:lnTo>
                      <a:lnTo>
                        <a:pt x="172" y="1088"/>
                      </a:lnTo>
                      <a:lnTo>
                        <a:pt x="147" y="1096"/>
                      </a:lnTo>
                      <a:lnTo>
                        <a:pt x="116" y="1086"/>
                      </a:lnTo>
                      <a:lnTo>
                        <a:pt x="87" y="1062"/>
                      </a:lnTo>
                      <a:lnTo>
                        <a:pt x="61" y="1016"/>
                      </a:lnTo>
                      <a:lnTo>
                        <a:pt x="39" y="956"/>
                      </a:lnTo>
                      <a:lnTo>
                        <a:pt x="22" y="877"/>
                      </a:lnTo>
                      <a:lnTo>
                        <a:pt x="9" y="788"/>
                      </a:lnTo>
                      <a:lnTo>
                        <a:pt x="2" y="680"/>
                      </a:lnTo>
                      <a:lnTo>
                        <a:pt x="0" y="560"/>
                      </a:lnTo>
                      <a:lnTo>
                        <a:pt x="2" y="432"/>
                      </a:lnTo>
                      <a:lnTo>
                        <a:pt x="10" y="323"/>
                      </a:lnTo>
                      <a:lnTo>
                        <a:pt x="23" y="227"/>
                      </a:lnTo>
                      <a:lnTo>
                        <a:pt x="40" y="148"/>
                      </a:lnTo>
                      <a:lnTo>
                        <a:pt x="61" y="83"/>
                      </a:lnTo>
                      <a:lnTo>
                        <a:pt x="87" y="35"/>
                      </a:lnTo>
                      <a:lnTo>
                        <a:pt x="114" y="6"/>
                      </a:lnTo>
                      <a:lnTo>
                        <a:pt x="144" y="0"/>
                      </a:lnTo>
                      <a:lnTo>
                        <a:pt x="173" y="6"/>
                      </a:lnTo>
                      <a:lnTo>
                        <a:pt x="200" y="35"/>
                      </a:lnTo>
                      <a:lnTo>
                        <a:pt x="224" y="78"/>
                      </a:lnTo>
                      <a:lnTo>
                        <a:pt x="246" y="143"/>
                      </a:lnTo>
                      <a:lnTo>
                        <a:pt x="263" y="223"/>
                      </a:lnTo>
                      <a:lnTo>
                        <a:pt x="275" y="317"/>
                      </a:lnTo>
                      <a:lnTo>
                        <a:pt x="282" y="422"/>
                      </a:lnTo>
                      <a:lnTo>
                        <a:pt x="285" y="548"/>
                      </a:lnTo>
                      <a:lnTo>
                        <a:pt x="285" y="556"/>
                      </a:lnTo>
                      <a:lnTo>
                        <a:pt x="285" y="567"/>
                      </a:lnTo>
                      <a:lnTo>
                        <a:pt x="285" y="579"/>
                      </a:lnTo>
                      <a:lnTo>
                        <a:pt x="285" y="596"/>
                      </a:lnTo>
                      <a:lnTo>
                        <a:pt x="54" y="596"/>
                      </a:lnTo>
                      <a:lnTo>
                        <a:pt x="56" y="674"/>
                      </a:lnTo>
                      <a:lnTo>
                        <a:pt x="62" y="747"/>
                      </a:lnTo>
                      <a:lnTo>
                        <a:pt x="70" y="810"/>
                      </a:lnTo>
                      <a:lnTo>
                        <a:pt x="83" y="861"/>
                      </a:lnTo>
                      <a:lnTo>
                        <a:pt x="97" y="899"/>
                      </a:lnTo>
                      <a:lnTo>
                        <a:pt x="112" y="928"/>
                      </a:lnTo>
                      <a:lnTo>
                        <a:pt x="129" y="945"/>
                      </a:lnTo>
                      <a:lnTo>
                        <a:pt x="147" y="951"/>
                      </a:lnTo>
                      <a:lnTo>
                        <a:pt x="161" y="947"/>
                      </a:lnTo>
                      <a:lnTo>
                        <a:pt x="173" y="938"/>
                      </a:lnTo>
                      <a:lnTo>
                        <a:pt x="185" y="923"/>
                      </a:lnTo>
                      <a:lnTo>
                        <a:pt x="197" y="902"/>
                      </a:lnTo>
                      <a:lnTo>
                        <a:pt x="206" y="871"/>
                      </a:lnTo>
                      <a:lnTo>
                        <a:pt x="215" y="833"/>
                      </a:lnTo>
                      <a:lnTo>
                        <a:pt x="222" y="788"/>
                      </a:lnTo>
                      <a:lnTo>
                        <a:pt x="229" y="737"/>
                      </a:lnTo>
                      <a:lnTo>
                        <a:pt x="229" y="737"/>
                      </a:lnTo>
                      <a:lnTo>
                        <a:pt x="229" y="7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580600" y="4707000"/>
                  <a:ext cx="90360" cy="387360"/>
                </a:xfrm>
                <a:custGeom>
                  <a:avLst/>
                  <a:gdLst/>
                  <a:ahLst/>
                  <a:rect l="l" t="t" r="r" b="b"/>
                  <a:pathLst>
                    <a:path w="251" h="1075">
                      <a:moveTo>
                        <a:pt x="0" y="1074"/>
                      </a:moveTo>
                      <a:lnTo>
                        <a:pt x="0" y="23"/>
                      </a:lnTo>
                      <a:lnTo>
                        <a:pt x="46" y="23"/>
                      </a:lnTo>
                      <a:lnTo>
                        <a:pt x="46" y="174"/>
                      </a:lnTo>
                      <a:lnTo>
                        <a:pt x="65" y="95"/>
                      </a:lnTo>
                      <a:lnTo>
                        <a:pt x="88" y="42"/>
                      </a:lnTo>
                      <a:lnTo>
                        <a:pt x="115" y="9"/>
                      </a:lnTo>
                      <a:lnTo>
                        <a:pt x="145" y="0"/>
                      </a:lnTo>
                      <a:lnTo>
                        <a:pt x="158" y="0"/>
                      </a:lnTo>
                      <a:lnTo>
                        <a:pt x="172" y="6"/>
                      </a:lnTo>
                      <a:lnTo>
                        <a:pt x="184" y="19"/>
                      </a:lnTo>
                      <a:lnTo>
                        <a:pt x="196" y="35"/>
                      </a:lnTo>
                      <a:lnTo>
                        <a:pt x="206" y="52"/>
                      </a:lnTo>
                      <a:lnTo>
                        <a:pt x="216" y="73"/>
                      </a:lnTo>
                      <a:lnTo>
                        <a:pt x="224" y="97"/>
                      </a:lnTo>
                      <a:lnTo>
                        <a:pt x="231" y="124"/>
                      </a:lnTo>
                      <a:lnTo>
                        <a:pt x="236" y="150"/>
                      </a:lnTo>
                      <a:lnTo>
                        <a:pt x="241" y="183"/>
                      </a:lnTo>
                      <a:lnTo>
                        <a:pt x="244" y="217"/>
                      </a:lnTo>
                      <a:lnTo>
                        <a:pt x="247" y="256"/>
                      </a:lnTo>
                      <a:lnTo>
                        <a:pt x="248" y="285"/>
                      </a:lnTo>
                      <a:lnTo>
                        <a:pt x="249" y="323"/>
                      </a:lnTo>
                      <a:lnTo>
                        <a:pt x="249" y="370"/>
                      </a:lnTo>
                      <a:lnTo>
                        <a:pt x="250" y="428"/>
                      </a:lnTo>
                      <a:lnTo>
                        <a:pt x="250" y="1074"/>
                      </a:lnTo>
                      <a:lnTo>
                        <a:pt x="198" y="1074"/>
                      </a:lnTo>
                      <a:lnTo>
                        <a:pt x="198" y="435"/>
                      </a:lnTo>
                      <a:lnTo>
                        <a:pt x="197" y="382"/>
                      </a:lnTo>
                      <a:lnTo>
                        <a:pt x="196" y="340"/>
                      </a:lnTo>
                      <a:lnTo>
                        <a:pt x="194" y="302"/>
                      </a:lnTo>
                      <a:lnTo>
                        <a:pt x="192" y="273"/>
                      </a:lnTo>
                      <a:lnTo>
                        <a:pt x="188" y="246"/>
                      </a:lnTo>
                      <a:lnTo>
                        <a:pt x="183" y="223"/>
                      </a:lnTo>
                      <a:lnTo>
                        <a:pt x="178" y="204"/>
                      </a:lnTo>
                      <a:lnTo>
                        <a:pt x="171" y="186"/>
                      </a:lnTo>
                      <a:lnTo>
                        <a:pt x="162" y="172"/>
                      </a:lnTo>
                      <a:lnTo>
                        <a:pt x="153" y="162"/>
                      </a:lnTo>
                      <a:lnTo>
                        <a:pt x="143" y="155"/>
                      </a:lnTo>
                      <a:lnTo>
                        <a:pt x="134" y="155"/>
                      </a:lnTo>
                      <a:lnTo>
                        <a:pt x="117" y="158"/>
                      </a:lnTo>
                      <a:lnTo>
                        <a:pt x="103" y="172"/>
                      </a:lnTo>
                      <a:lnTo>
                        <a:pt x="89" y="194"/>
                      </a:lnTo>
                      <a:lnTo>
                        <a:pt x="76" y="227"/>
                      </a:lnTo>
                      <a:lnTo>
                        <a:pt x="65" y="271"/>
                      </a:lnTo>
                      <a:lnTo>
                        <a:pt x="58" y="331"/>
                      </a:lnTo>
                      <a:lnTo>
                        <a:pt x="53" y="405"/>
                      </a:lnTo>
                      <a:lnTo>
                        <a:pt x="51" y="502"/>
                      </a:lnTo>
                      <a:lnTo>
                        <a:pt x="51" y="1074"/>
                      </a:lnTo>
                      <a:lnTo>
                        <a:pt x="0" y="107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693280" y="4572000"/>
                  <a:ext cx="96840" cy="530280"/>
                </a:xfrm>
                <a:custGeom>
                  <a:avLst/>
                  <a:gdLst/>
                  <a:ahLst/>
                  <a:rect l="l" t="t" r="r" b="b"/>
                  <a:pathLst>
                    <a:path w="269" h="1473">
                      <a:moveTo>
                        <a:pt x="54" y="926"/>
                      </a:moveTo>
                      <a:lnTo>
                        <a:pt x="55" y="1020"/>
                      </a:lnTo>
                      <a:lnTo>
                        <a:pt x="60" y="1104"/>
                      </a:lnTo>
                      <a:lnTo>
                        <a:pt x="68" y="1171"/>
                      </a:lnTo>
                      <a:lnTo>
                        <a:pt x="80" y="1227"/>
                      </a:lnTo>
                      <a:lnTo>
                        <a:pt x="93" y="1270"/>
                      </a:lnTo>
                      <a:lnTo>
                        <a:pt x="107" y="1302"/>
                      </a:lnTo>
                      <a:lnTo>
                        <a:pt x="122" y="1321"/>
                      </a:lnTo>
                      <a:lnTo>
                        <a:pt x="139" y="1327"/>
                      </a:lnTo>
                      <a:lnTo>
                        <a:pt x="155" y="1321"/>
                      </a:lnTo>
                      <a:lnTo>
                        <a:pt x="170" y="1304"/>
                      </a:lnTo>
                      <a:lnTo>
                        <a:pt x="184" y="1272"/>
                      </a:lnTo>
                      <a:lnTo>
                        <a:pt x="197" y="1232"/>
                      </a:lnTo>
                      <a:lnTo>
                        <a:pt x="207" y="1178"/>
                      </a:lnTo>
                      <a:lnTo>
                        <a:pt x="215" y="1113"/>
                      </a:lnTo>
                      <a:lnTo>
                        <a:pt x="219" y="1034"/>
                      </a:lnTo>
                      <a:lnTo>
                        <a:pt x="221" y="943"/>
                      </a:lnTo>
                      <a:lnTo>
                        <a:pt x="219" y="840"/>
                      </a:lnTo>
                      <a:lnTo>
                        <a:pt x="215" y="753"/>
                      </a:lnTo>
                      <a:lnTo>
                        <a:pt x="207" y="683"/>
                      </a:lnTo>
                      <a:lnTo>
                        <a:pt x="197" y="624"/>
                      </a:lnTo>
                      <a:lnTo>
                        <a:pt x="183" y="580"/>
                      </a:lnTo>
                      <a:lnTo>
                        <a:pt x="169" y="548"/>
                      </a:lnTo>
                      <a:lnTo>
                        <a:pt x="153" y="528"/>
                      </a:lnTo>
                      <a:lnTo>
                        <a:pt x="136" y="524"/>
                      </a:lnTo>
                      <a:lnTo>
                        <a:pt x="120" y="528"/>
                      </a:lnTo>
                      <a:lnTo>
                        <a:pt x="104" y="548"/>
                      </a:lnTo>
                      <a:lnTo>
                        <a:pt x="90" y="576"/>
                      </a:lnTo>
                      <a:lnTo>
                        <a:pt x="78" y="622"/>
                      </a:lnTo>
                      <a:lnTo>
                        <a:pt x="67" y="678"/>
                      </a:lnTo>
                      <a:lnTo>
                        <a:pt x="60" y="743"/>
                      </a:lnTo>
                      <a:lnTo>
                        <a:pt x="55" y="827"/>
                      </a:lnTo>
                      <a:lnTo>
                        <a:pt x="54" y="926"/>
                      </a:lnTo>
                      <a:lnTo>
                        <a:pt x="54" y="926"/>
                      </a:lnTo>
                      <a:lnTo>
                        <a:pt x="54" y="926"/>
                      </a:lnTo>
                      <a:close/>
                      <a:moveTo>
                        <a:pt x="220" y="1450"/>
                      </a:moveTo>
                      <a:lnTo>
                        <a:pt x="220" y="1318"/>
                      </a:lnTo>
                      <a:lnTo>
                        <a:pt x="203" y="1385"/>
                      </a:lnTo>
                      <a:lnTo>
                        <a:pt x="183" y="1433"/>
                      </a:lnTo>
                      <a:lnTo>
                        <a:pt x="160" y="1462"/>
                      </a:lnTo>
                      <a:lnTo>
                        <a:pt x="134" y="1472"/>
                      </a:lnTo>
                      <a:lnTo>
                        <a:pt x="115" y="1466"/>
                      </a:lnTo>
                      <a:lnTo>
                        <a:pt x="98" y="1455"/>
                      </a:lnTo>
                      <a:lnTo>
                        <a:pt x="82" y="1433"/>
                      </a:lnTo>
                      <a:lnTo>
                        <a:pt x="65" y="1404"/>
                      </a:lnTo>
                      <a:lnTo>
                        <a:pt x="51" y="1366"/>
                      </a:lnTo>
                      <a:lnTo>
                        <a:pt x="38" y="1321"/>
                      </a:lnTo>
                      <a:lnTo>
                        <a:pt x="27" y="1270"/>
                      </a:lnTo>
                      <a:lnTo>
                        <a:pt x="18" y="1213"/>
                      </a:lnTo>
                      <a:lnTo>
                        <a:pt x="10" y="1147"/>
                      </a:lnTo>
                      <a:lnTo>
                        <a:pt x="4" y="1077"/>
                      </a:lnTo>
                      <a:lnTo>
                        <a:pt x="1" y="1003"/>
                      </a:lnTo>
                      <a:lnTo>
                        <a:pt x="0" y="926"/>
                      </a:lnTo>
                      <a:lnTo>
                        <a:pt x="1" y="846"/>
                      </a:lnTo>
                      <a:lnTo>
                        <a:pt x="4" y="775"/>
                      </a:lnTo>
                      <a:lnTo>
                        <a:pt x="8" y="707"/>
                      </a:lnTo>
                      <a:lnTo>
                        <a:pt x="15" y="641"/>
                      </a:lnTo>
                      <a:lnTo>
                        <a:pt x="24" y="580"/>
                      </a:lnTo>
                      <a:lnTo>
                        <a:pt x="34" y="526"/>
                      </a:lnTo>
                      <a:lnTo>
                        <a:pt x="47" y="480"/>
                      </a:lnTo>
                      <a:lnTo>
                        <a:pt x="62" y="444"/>
                      </a:lnTo>
                      <a:lnTo>
                        <a:pt x="78" y="414"/>
                      </a:lnTo>
                      <a:lnTo>
                        <a:pt x="95" y="392"/>
                      </a:lnTo>
                      <a:lnTo>
                        <a:pt x="113" y="378"/>
                      </a:lnTo>
                      <a:lnTo>
                        <a:pt x="132" y="376"/>
                      </a:lnTo>
                      <a:lnTo>
                        <a:pt x="145" y="378"/>
                      </a:lnTo>
                      <a:lnTo>
                        <a:pt x="158" y="385"/>
                      </a:lnTo>
                      <a:lnTo>
                        <a:pt x="169" y="397"/>
                      </a:lnTo>
                      <a:lnTo>
                        <a:pt x="181" y="416"/>
                      </a:lnTo>
                      <a:lnTo>
                        <a:pt x="191" y="435"/>
                      </a:lnTo>
                      <a:lnTo>
                        <a:pt x="201" y="461"/>
                      </a:lnTo>
                      <a:lnTo>
                        <a:pt x="209" y="490"/>
                      </a:lnTo>
                      <a:lnTo>
                        <a:pt x="216" y="521"/>
                      </a:lnTo>
                      <a:lnTo>
                        <a:pt x="216" y="0"/>
                      </a:lnTo>
                      <a:lnTo>
                        <a:pt x="268" y="0"/>
                      </a:lnTo>
                      <a:lnTo>
                        <a:pt x="268" y="1450"/>
                      </a:lnTo>
                      <a:lnTo>
                        <a:pt x="220" y="1450"/>
                      </a:lnTo>
                      <a:lnTo>
                        <a:pt x="220" y="1450"/>
                      </a:lnTo>
                      <a:lnTo>
                        <a:pt x="220" y="14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813880" y="4707000"/>
                  <a:ext cx="102960" cy="395280"/>
                </a:xfrm>
                <a:custGeom>
                  <a:avLst/>
                  <a:gdLst/>
                  <a:ahLst/>
                  <a:rect l="l" t="t" r="r" b="b"/>
                  <a:pathLst>
                    <a:path w="286" h="1097">
                      <a:moveTo>
                        <a:pt x="55" y="449"/>
                      </a:moveTo>
                      <a:lnTo>
                        <a:pt x="230" y="449"/>
                      </a:lnTo>
                      <a:lnTo>
                        <a:pt x="228" y="384"/>
                      </a:lnTo>
                      <a:lnTo>
                        <a:pt x="223" y="334"/>
                      </a:lnTo>
                      <a:lnTo>
                        <a:pt x="218" y="288"/>
                      </a:lnTo>
                      <a:lnTo>
                        <a:pt x="211" y="252"/>
                      </a:lnTo>
                      <a:lnTo>
                        <a:pt x="197" y="206"/>
                      </a:lnTo>
                      <a:lnTo>
                        <a:pt x="180" y="172"/>
                      </a:lnTo>
                      <a:lnTo>
                        <a:pt x="163" y="152"/>
                      </a:lnTo>
                      <a:lnTo>
                        <a:pt x="144" y="148"/>
                      </a:lnTo>
                      <a:lnTo>
                        <a:pt x="127" y="152"/>
                      </a:lnTo>
                      <a:lnTo>
                        <a:pt x="111" y="167"/>
                      </a:lnTo>
                      <a:lnTo>
                        <a:pt x="97" y="191"/>
                      </a:lnTo>
                      <a:lnTo>
                        <a:pt x="83" y="229"/>
                      </a:lnTo>
                      <a:lnTo>
                        <a:pt x="72" y="273"/>
                      </a:lnTo>
                      <a:lnTo>
                        <a:pt x="63" y="326"/>
                      </a:lnTo>
                      <a:lnTo>
                        <a:pt x="58" y="382"/>
                      </a:lnTo>
                      <a:lnTo>
                        <a:pt x="55" y="449"/>
                      </a:lnTo>
                      <a:lnTo>
                        <a:pt x="55" y="449"/>
                      </a:lnTo>
                      <a:lnTo>
                        <a:pt x="55" y="449"/>
                      </a:lnTo>
                      <a:close/>
                      <a:moveTo>
                        <a:pt x="230" y="737"/>
                      </a:moveTo>
                      <a:lnTo>
                        <a:pt x="284" y="762"/>
                      </a:lnTo>
                      <a:lnTo>
                        <a:pt x="275" y="835"/>
                      </a:lnTo>
                      <a:lnTo>
                        <a:pt x="265" y="902"/>
                      </a:lnTo>
                      <a:lnTo>
                        <a:pt x="252" y="958"/>
                      </a:lnTo>
                      <a:lnTo>
                        <a:pt x="237" y="1009"/>
                      </a:lnTo>
                      <a:lnTo>
                        <a:pt x="218" y="1048"/>
                      </a:lnTo>
                      <a:lnTo>
                        <a:pt x="197" y="1074"/>
                      </a:lnTo>
                      <a:lnTo>
                        <a:pt x="172" y="1088"/>
                      </a:lnTo>
                      <a:lnTo>
                        <a:pt x="147" y="1096"/>
                      </a:lnTo>
                      <a:lnTo>
                        <a:pt x="115" y="1086"/>
                      </a:lnTo>
                      <a:lnTo>
                        <a:pt x="85" y="1062"/>
                      </a:lnTo>
                      <a:lnTo>
                        <a:pt x="59" y="1016"/>
                      </a:lnTo>
                      <a:lnTo>
                        <a:pt x="39" y="956"/>
                      </a:lnTo>
                      <a:lnTo>
                        <a:pt x="21" y="877"/>
                      </a:lnTo>
                      <a:lnTo>
                        <a:pt x="9" y="788"/>
                      </a:lnTo>
                      <a:lnTo>
                        <a:pt x="2" y="680"/>
                      </a:lnTo>
                      <a:lnTo>
                        <a:pt x="0" y="560"/>
                      </a:lnTo>
                      <a:lnTo>
                        <a:pt x="2" y="432"/>
                      </a:lnTo>
                      <a:lnTo>
                        <a:pt x="9" y="323"/>
                      </a:lnTo>
                      <a:lnTo>
                        <a:pt x="22" y="227"/>
                      </a:lnTo>
                      <a:lnTo>
                        <a:pt x="40" y="148"/>
                      </a:lnTo>
                      <a:lnTo>
                        <a:pt x="60" y="83"/>
                      </a:lnTo>
                      <a:lnTo>
                        <a:pt x="85" y="35"/>
                      </a:lnTo>
                      <a:lnTo>
                        <a:pt x="114" y="6"/>
                      </a:lnTo>
                      <a:lnTo>
                        <a:pt x="144" y="0"/>
                      </a:lnTo>
                      <a:lnTo>
                        <a:pt x="172" y="6"/>
                      </a:lnTo>
                      <a:lnTo>
                        <a:pt x="201" y="35"/>
                      </a:lnTo>
                      <a:lnTo>
                        <a:pt x="225" y="78"/>
                      </a:lnTo>
                      <a:lnTo>
                        <a:pt x="247" y="143"/>
                      </a:lnTo>
                      <a:lnTo>
                        <a:pt x="263" y="223"/>
                      </a:lnTo>
                      <a:lnTo>
                        <a:pt x="275" y="317"/>
                      </a:lnTo>
                      <a:lnTo>
                        <a:pt x="282" y="422"/>
                      </a:lnTo>
                      <a:lnTo>
                        <a:pt x="285" y="548"/>
                      </a:lnTo>
                      <a:lnTo>
                        <a:pt x="285" y="556"/>
                      </a:lnTo>
                      <a:lnTo>
                        <a:pt x="285" y="567"/>
                      </a:lnTo>
                      <a:lnTo>
                        <a:pt x="285" y="579"/>
                      </a:lnTo>
                      <a:lnTo>
                        <a:pt x="285" y="596"/>
                      </a:lnTo>
                      <a:lnTo>
                        <a:pt x="52" y="596"/>
                      </a:lnTo>
                      <a:lnTo>
                        <a:pt x="55" y="674"/>
                      </a:lnTo>
                      <a:lnTo>
                        <a:pt x="60" y="747"/>
                      </a:lnTo>
                      <a:lnTo>
                        <a:pt x="70" y="810"/>
                      </a:lnTo>
                      <a:lnTo>
                        <a:pt x="82" y="861"/>
                      </a:lnTo>
                      <a:lnTo>
                        <a:pt x="96" y="899"/>
                      </a:lnTo>
                      <a:lnTo>
                        <a:pt x="111" y="928"/>
                      </a:lnTo>
                      <a:lnTo>
                        <a:pt x="128" y="945"/>
                      </a:lnTo>
                      <a:lnTo>
                        <a:pt x="147" y="951"/>
                      </a:lnTo>
                      <a:lnTo>
                        <a:pt x="161" y="947"/>
                      </a:lnTo>
                      <a:lnTo>
                        <a:pt x="173" y="938"/>
                      </a:lnTo>
                      <a:lnTo>
                        <a:pt x="185" y="923"/>
                      </a:lnTo>
                      <a:lnTo>
                        <a:pt x="197" y="902"/>
                      </a:lnTo>
                      <a:lnTo>
                        <a:pt x="207" y="871"/>
                      </a:lnTo>
                      <a:lnTo>
                        <a:pt x="216" y="833"/>
                      </a:lnTo>
                      <a:lnTo>
                        <a:pt x="223" y="788"/>
                      </a:lnTo>
                      <a:lnTo>
                        <a:pt x="230" y="737"/>
                      </a:lnTo>
                      <a:lnTo>
                        <a:pt x="230" y="737"/>
                      </a:lnTo>
                      <a:lnTo>
                        <a:pt x="230" y="7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931240" y="4871880"/>
                  <a:ext cx="58680" cy="65160"/>
                </a:xfrm>
                <a:custGeom>
                  <a:avLst/>
                  <a:gdLst/>
                  <a:ahLst/>
                  <a:rect l="l" t="t" r="r" b="b"/>
                  <a:pathLst>
                    <a:path w="163" h="182">
                      <a:moveTo>
                        <a:pt x="0" y="181"/>
                      </a:moveTo>
                      <a:lnTo>
                        <a:pt x="0" y="0"/>
                      </a:lnTo>
                      <a:lnTo>
                        <a:pt x="162" y="0"/>
                      </a:lnTo>
                      <a:lnTo>
                        <a:pt x="162" y="181"/>
                      </a:lnTo>
                      <a:lnTo>
                        <a:pt x="0" y="181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02880" y="4707000"/>
                  <a:ext cx="93600" cy="395280"/>
                </a:xfrm>
                <a:custGeom>
                  <a:avLst/>
                  <a:gdLst/>
                  <a:ahLst/>
                  <a:rect l="l" t="t" r="r" b="b"/>
                  <a:pathLst>
                    <a:path w="260" h="1097">
                      <a:moveTo>
                        <a:pt x="0" y="762"/>
                      </a:moveTo>
                      <a:lnTo>
                        <a:pt x="52" y="735"/>
                      </a:lnTo>
                      <a:lnTo>
                        <a:pt x="54" y="783"/>
                      </a:lnTo>
                      <a:lnTo>
                        <a:pt x="59" y="826"/>
                      </a:lnTo>
                      <a:lnTo>
                        <a:pt x="67" y="863"/>
                      </a:lnTo>
                      <a:lnTo>
                        <a:pt x="76" y="896"/>
                      </a:lnTo>
                      <a:lnTo>
                        <a:pt x="87" y="919"/>
                      </a:lnTo>
                      <a:lnTo>
                        <a:pt x="100" y="938"/>
                      </a:lnTo>
                      <a:lnTo>
                        <a:pt x="115" y="947"/>
                      </a:lnTo>
                      <a:lnTo>
                        <a:pt x="134" y="951"/>
                      </a:lnTo>
                      <a:lnTo>
                        <a:pt x="150" y="947"/>
                      </a:lnTo>
                      <a:lnTo>
                        <a:pt x="165" y="938"/>
                      </a:lnTo>
                      <a:lnTo>
                        <a:pt x="176" y="923"/>
                      </a:lnTo>
                      <a:lnTo>
                        <a:pt x="187" y="902"/>
                      </a:lnTo>
                      <a:lnTo>
                        <a:pt x="195" y="875"/>
                      </a:lnTo>
                      <a:lnTo>
                        <a:pt x="200" y="847"/>
                      </a:lnTo>
                      <a:lnTo>
                        <a:pt x="203" y="816"/>
                      </a:lnTo>
                      <a:lnTo>
                        <a:pt x="206" y="785"/>
                      </a:lnTo>
                      <a:lnTo>
                        <a:pt x="203" y="756"/>
                      </a:lnTo>
                      <a:lnTo>
                        <a:pt x="200" y="730"/>
                      </a:lnTo>
                      <a:lnTo>
                        <a:pt x="195" y="708"/>
                      </a:lnTo>
                      <a:lnTo>
                        <a:pt x="189" y="691"/>
                      </a:lnTo>
                      <a:lnTo>
                        <a:pt x="181" y="677"/>
                      </a:lnTo>
                      <a:lnTo>
                        <a:pt x="170" y="662"/>
                      </a:lnTo>
                      <a:lnTo>
                        <a:pt x="155" y="646"/>
                      </a:lnTo>
                      <a:lnTo>
                        <a:pt x="136" y="630"/>
                      </a:lnTo>
                      <a:lnTo>
                        <a:pt x="107" y="606"/>
                      </a:lnTo>
                      <a:lnTo>
                        <a:pt x="85" y="584"/>
                      </a:lnTo>
                      <a:lnTo>
                        <a:pt x="66" y="562"/>
                      </a:lnTo>
                      <a:lnTo>
                        <a:pt x="54" y="546"/>
                      </a:lnTo>
                      <a:lnTo>
                        <a:pt x="43" y="524"/>
                      </a:lnTo>
                      <a:lnTo>
                        <a:pt x="34" y="502"/>
                      </a:lnTo>
                      <a:lnTo>
                        <a:pt x="26" y="474"/>
                      </a:lnTo>
                      <a:lnTo>
                        <a:pt x="20" y="445"/>
                      </a:lnTo>
                      <a:lnTo>
                        <a:pt x="15" y="411"/>
                      </a:lnTo>
                      <a:lnTo>
                        <a:pt x="11" y="374"/>
                      </a:lnTo>
                      <a:lnTo>
                        <a:pt x="9" y="340"/>
                      </a:lnTo>
                      <a:lnTo>
                        <a:pt x="9" y="304"/>
                      </a:lnTo>
                      <a:lnTo>
                        <a:pt x="9" y="269"/>
                      </a:lnTo>
                      <a:lnTo>
                        <a:pt x="11" y="234"/>
                      </a:lnTo>
                      <a:lnTo>
                        <a:pt x="14" y="204"/>
                      </a:lnTo>
                      <a:lnTo>
                        <a:pt x="18" y="174"/>
                      </a:lnTo>
                      <a:lnTo>
                        <a:pt x="23" y="143"/>
                      </a:lnTo>
                      <a:lnTo>
                        <a:pt x="29" y="116"/>
                      </a:lnTo>
                      <a:lnTo>
                        <a:pt x="36" y="93"/>
                      </a:lnTo>
                      <a:lnTo>
                        <a:pt x="44" y="73"/>
                      </a:lnTo>
                      <a:lnTo>
                        <a:pt x="50" y="57"/>
                      </a:lnTo>
                      <a:lnTo>
                        <a:pt x="58" y="42"/>
                      </a:lnTo>
                      <a:lnTo>
                        <a:pt x="66" y="31"/>
                      </a:lnTo>
                      <a:lnTo>
                        <a:pt x="77" y="21"/>
                      </a:lnTo>
                      <a:lnTo>
                        <a:pt x="87" y="11"/>
                      </a:lnTo>
                      <a:lnTo>
                        <a:pt x="100" y="4"/>
                      </a:lnTo>
                      <a:lnTo>
                        <a:pt x="111" y="0"/>
                      </a:lnTo>
                      <a:lnTo>
                        <a:pt x="124" y="0"/>
                      </a:lnTo>
                      <a:lnTo>
                        <a:pt x="141" y="0"/>
                      </a:lnTo>
                      <a:lnTo>
                        <a:pt x="158" y="6"/>
                      </a:lnTo>
                      <a:lnTo>
                        <a:pt x="173" y="19"/>
                      </a:lnTo>
                      <a:lnTo>
                        <a:pt x="188" y="35"/>
                      </a:lnTo>
                      <a:lnTo>
                        <a:pt x="200" y="55"/>
                      </a:lnTo>
                      <a:lnTo>
                        <a:pt x="213" y="76"/>
                      </a:lnTo>
                      <a:lnTo>
                        <a:pt x="222" y="102"/>
                      </a:lnTo>
                      <a:lnTo>
                        <a:pt x="229" y="133"/>
                      </a:lnTo>
                      <a:lnTo>
                        <a:pt x="235" y="164"/>
                      </a:lnTo>
                      <a:lnTo>
                        <a:pt x="241" y="204"/>
                      </a:lnTo>
                      <a:lnTo>
                        <a:pt x="244" y="246"/>
                      </a:lnTo>
                      <a:lnTo>
                        <a:pt x="248" y="297"/>
                      </a:lnTo>
                      <a:lnTo>
                        <a:pt x="195" y="321"/>
                      </a:lnTo>
                      <a:lnTo>
                        <a:pt x="193" y="280"/>
                      </a:lnTo>
                      <a:lnTo>
                        <a:pt x="188" y="246"/>
                      </a:lnTo>
                      <a:lnTo>
                        <a:pt x="182" y="217"/>
                      </a:lnTo>
                      <a:lnTo>
                        <a:pt x="175" y="194"/>
                      </a:lnTo>
                      <a:lnTo>
                        <a:pt x="165" y="172"/>
                      </a:lnTo>
                      <a:lnTo>
                        <a:pt x="155" y="158"/>
                      </a:lnTo>
                      <a:lnTo>
                        <a:pt x="142" y="150"/>
                      </a:lnTo>
                      <a:lnTo>
                        <a:pt x="127" y="148"/>
                      </a:lnTo>
                      <a:lnTo>
                        <a:pt x="110" y="148"/>
                      </a:lnTo>
                      <a:lnTo>
                        <a:pt x="96" y="158"/>
                      </a:lnTo>
                      <a:lnTo>
                        <a:pt x="83" y="169"/>
                      </a:lnTo>
                      <a:lnTo>
                        <a:pt x="75" y="189"/>
                      </a:lnTo>
                      <a:lnTo>
                        <a:pt x="68" y="208"/>
                      </a:lnTo>
                      <a:lnTo>
                        <a:pt x="63" y="232"/>
                      </a:lnTo>
                      <a:lnTo>
                        <a:pt x="60" y="256"/>
                      </a:lnTo>
                      <a:lnTo>
                        <a:pt x="59" y="283"/>
                      </a:lnTo>
                      <a:lnTo>
                        <a:pt x="59" y="300"/>
                      </a:lnTo>
                      <a:lnTo>
                        <a:pt x="61" y="317"/>
                      </a:lnTo>
                      <a:lnTo>
                        <a:pt x="63" y="331"/>
                      </a:lnTo>
                      <a:lnTo>
                        <a:pt x="66" y="345"/>
                      </a:lnTo>
                      <a:lnTo>
                        <a:pt x="69" y="357"/>
                      </a:lnTo>
                      <a:lnTo>
                        <a:pt x="73" y="370"/>
                      </a:lnTo>
                      <a:lnTo>
                        <a:pt x="79" y="380"/>
                      </a:lnTo>
                      <a:lnTo>
                        <a:pt x="86" y="391"/>
                      </a:lnTo>
                      <a:lnTo>
                        <a:pt x="92" y="397"/>
                      </a:lnTo>
                      <a:lnTo>
                        <a:pt x="102" y="405"/>
                      </a:lnTo>
                      <a:lnTo>
                        <a:pt x="115" y="420"/>
                      </a:lnTo>
                      <a:lnTo>
                        <a:pt x="134" y="437"/>
                      </a:lnTo>
                      <a:lnTo>
                        <a:pt x="159" y="461"/>
                      </a:lnTo>
                      <a:lnTo>
                        <a:pt x="181" y="483"/>
                      </a:lnTo>
                      <a:lnTo>
                        <a:pt x="198" y="502"/>
                      </a:lnTo>
                      <a:lnTo>
                        <a:pt x="213" y="522"/>
                      </a:lnTo>
                      <a:lnTo>
                        <a:pt x="222" y="539"/>
                      </a:lnTo>
                      <a:lnTo>
                        <a:pt x="232" y="560"/>
                      </a:lnTo>
                      <a:lnTo>
                        <a:pt x="240" y="587"/>
                      </a:lnTo>
                      <a:lnTo>
                        <a:pt x="247" y="615"/>
                      </a:lnTo>
                      <a:lnTo>
                        <a:pt x="252" y="646"/>
                      </a:lnTo>
                      <a:lnTo>
                        <a:pt x="255" y="682"/>
                      </a:lnTo>
                      <a:lnTo>
                        <a:pt x="257" y="723"/>
                      </a:lnTo>
                      <a:lnTo>
                        <a:pt x="259" y="766"/>
                      </a:lnTo>
                      <a:lnTo>
                        <a:pt x="257" y="810"/>
                      </a:lnTo>
                      <a:lnTo>
                        <a:pt x="255" y="852"/>
                      </a:lnTo>
                      <a:lnTo>
                        <a:pt x="250" y="894"/>
                      </a:lnTo>
                      <a:lnTo>
                        <a:pt x="244" y="936"/>
                      </a:lnTo>
                      <a:lnTo>
                        <a:pt x="235" y="968"/>
                      </a:lnTo>
                      <a:lnTo>
                        <a:pt x="225" y="1002"/>
                      </a:lnTo>
                      <a:lnTo>
                        <a:pt x="213" y="1031"/>
                      </a:lnTo>
                      <a:lnTo>
                        <a:pt x="199" y="1055"/>
                      </a:lnTo>
                      <a:lnTo>
                        <a:pt x="184" y="1071"/>
                      </a:lnTo>
                      <a:lnTo>
                        <a:pt x="168" y="1084"/>
                      </a:lnTo>
                      <a:lnTo>
                        <a:pt x="151" y="1090"/>
                      </a:lnTo>
                      <a:lnTo>
                        <a:pt x="134" y="1096"/>
                      </a:lnTo>
                      <a:lnTo>
                        <a:pt x="104" y="1090"/>
                      </a:lnTo>
                      <a:lnTo>
                        <a:pt x="78" y="1076"/>
                      </a:lnTo>
                      <a:lnTo>
                        <a:pt x="57" y="1050"/>
                      </a:lnTo>
                      <a:lnTo>
                        <a:pt x="40" y="1014"/>
                      </a:lnTo>
                      <a:lnTo>
                        <a:pt x="26" y="963"/>
                      </a:lnTo>
                      <a:lnTo>
                        <a:pt x="15" y="907"/>
                      </a:lnTo>
                      <a:lnTo>
                        <a:pt x="6" y="840"/>
                      </a:lnTo>
                      <a:lnTo>
                        <a:pt x="0" y="76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110520" y="4707000"/>
                  <a:ext cx="103320" cy="395280"/>
                </a:xfrm>
                <a:custGeom>
                  <a:avLst/>
                  <a:gdLst/>
                  <a:ahLst/>
                  <a:rect l="l" t="t" r="r" b="b"/>
                  <a:pathLst>
                    <a:path w="287" h="1097">
                      <a:moveTo>
                        <a:pt x="57" y="449"/>
                      </a:moveTo>
                      <a:lnTo>
                        <a:pt x="230" y="449"/>
                      </a:lnTo>
                      <a:lnTo>
                        <a:pt x="227" y="384"/>
                      </a:lnTo>
                      <a:lnTo>
                        <a:pt x="223" y="334"/>
                      </a:lnTo>
                      <a:lnTo>
                        <a:pt x="218" y="288"/>
                      </a:lnTo>
                      <a:lnTo>
                        <a:pt x="211" y="252"/>
                      </a:lnTo>
                      <a:lnTo>
                        <a:pt x="197" y="206"/>
                      </a:lnTo>
                      <a:lnTo>
                        <a:pt x="181" y="172"/>
                      </a:lnTo>
                      <a:lnTo>
                        <a:pt x="164" y="152"/>
                      </a:lnTo>
                      <a:lnTo>
                        <a:pt x="145" y="148"/>
                      </a:lnTo>
                      <a:lnTo>
                        <a:pt x="128" y="152"/>
                      </a:lnTo>
                      <a:lnTo>
                        <a:pt x="111" y="167"/>
                      </a:lnTo>
                      <a:lnTo>
                        <a:pt x="97" y="191"/>
                      </a:lnTo>
                      <a:lnTo>
                        <a:pt x="84" y="229"/>
                      </a:lnTo>
                      <a:lnTo>
                        <a:pt x="73" y="273"/>
                      </a:lnTo>
                      <a:lnTo>
                        <a:pt x="65" y="326"/>
                      </a:lnTo>
                      <a:lnTo>
                        <a:pt x="59" y="382"/>
                      </a:lnTo>
                      <a:lnTo>
                        <a:pt x="57" y="449"/>
                      </a:lnTo>
                      <a:lnTo>
                        <a:pt x="57" y="449"/>
                      </a:lnTo>
                      <a:lnTo>
                        <a:pt x="57" y="449"/>
                      </a:lnTo>
                      <a:close/>
                      <a:moveTo>
                        <a:pt x="230" y="737"/>
                      </a:moveTo>
                      <a:lnTo>
                        <a:pt x="285" y="762"/>
                      </a:lnTo>
                      <a:lnTo>
                        <a:pt x="276" y="835"/>
                      </a:lnTo>
                      <a:lnTo>
                        <a:pt x="266" y="902"/>
                      </a:lnTo>
                      <a:lnTo>
                        <a:pt x="253" y="958"/>
                      </a:lnTo>
                      <a:lnTo>
                        <a:pt x="238" y="1009"/>
                      </a:lnTo>
                      <a:lnTo>
                        <a:pt x="218" y="1048"/>
                      </a:lnTo>
                      <a:lnTo>
                        <a:pt x="197" y="1074"/>
                      </a:lnTo>
                      <a:lnTo>
                        <a:pt x="173" y="1088"/>
                      </a:lnTo>
                      <a:lnTo>
                        <a:pt x="148" y="1096"/>
                      </a:lnTo>
                      <a:lnTo>
                        <a:pt x="115" y="1086"/>
                      </a:lnTo>
                      <a:lnTo>
                        <a:pt x="86" y="1062"/>
                      </a:lnTo>
                      <a:lnTo>
                        <a:pt x="61" y="1016"/>
                      </a:lnTo>
                      <a:lnTo>
                        <a:pt x="40" y="956"/>
                      </a:lnTo>
                      <a:lnTo>
                        <a:pt x="23" y="877"/>
                      </a:lnTo>
                      <a:lnTo>
                        <a:pt x="10" y="788"/>
                      </a:lnTo>
                      <a:lnTo>
                        <a:pt x="3" y="680"/>
                      </a:lnTo>
                      <a:lnTo>
                        <a:pt x="0" y="560"/>
                      </a:lnTo>
                      <a:lnTo>
                        <a:pt x="3" y="432"/>
                      </a:lnTo>
                      <a:lnTo>
                        <a:pt x="10" y="323"/>
                      </a:lnTo>
                      <a:lnTo>
                        <a:pt x="24" y="227"/>
                      </a:lnTo>
                      <a:lnTo>
                        <a:pt x="40" y="148"/>
                      </a:lnTo>
                      <a:lnTo>
                        <a:pt x="62" y="83"/>
                      </a:lnTo>
                      <a:lnTo>
                        <a:pt x="86" y="35"/>
                      </a:lnTo>
                      <a:lnTo>
                        <a:pt x="113" y="6"/>
                      </a:lnTo>
                      <a:lnTo>
                        <a:pt x="145" y="0"/>
                      </a:lnTo>
                      <a:lnTo>
                        <a:pt x="174" y="6"/>
                      </a:lnTo>
                      <a:lnTo>
                        <a:pt x="201" y="35"/>
                      </a:lnTo>
                      <a:lnTo>
                        <a:pt x="225" y="78"/>
                      </a:lnTo>
                      <a:lnTo>
                        <a:pt x="247" y="143"/>
                      </a:lnTo>
                      <a:lnTo>
                        <a:pt x="264" y="223"/>
                      </a:lnTo>
                      <a:lnTo>
                        <a:pt x="276" y="317"/>
                      </a:lnTo>
                      <a:lnTo>
                        <a:pt x="283" y="422"/>
                      </a:lnTo>
                      <a:lnTo>
                        <a:pt x="286" y="548"/>
                      </a:lnTo>
                      <a:lnTo>
                        <a:pt x="286" y="556"/>
                      </a:lnTo>
                      <a:lnTo>
                        <a:pt x="286" y="567"/>
                      </a:lnTo>
                      <a:lnTo>
                        <a:pt x="286" y="579"/>
                      </a:lnTo>
                      <a:lnTo>
                        <a:pt x="286" y="596"/>
                      </a:lnTo>
                      <a:lnTo>
                        <a:pt x="54" y="596"/>
                      </a:lnTo>
                      <a:lnTo>
                        <a:pt x="57" y="674"/>
                      </a:lnTo>
                      <a:lnTo>
                        <a:pt x="62" y="747"/>
                      </a:lnTo>
                      <a:lnTo>
                        <a:pt x="71" y="810"/>
                      </a:lnTo>
                      <a:lnTo>
                        <a:pt x="83" y="861"/>
                      </a:lnTo>
                      <a:lnTo>
                        <a:pt x="96" y="899"/>
                      </a:lnTo>
                      <a:lnTo>
                        <a:pt x="111" y="928"/>
                      </a:lnTo>
                      <a:lnTo>
                        <a:pt x="129" y="945"/>
                      </a:lnTo>
                      <a:lnTo>
                        <a:pt x="148" y="951"/>
                      </a:lnTo>
                      <a:lnTo>
                        <a:pt x="162" y="947"/>
                      </a:lnTo>
                      <a:lnTo>
                        <a:pt x="175" y="938"/>
                      </a:lnTo>
                      <a:lnTo>
                        <a:pt x="186" y="923"/>
                      </a:lnTo>
                      <a:lnTo>
                        <a:pt x="197" y="902"/>
                      </a:lnTo>
                      <a:lnTo>
                        <a:pt x="206" y="871"/>
                      </a:lnTo>
                      <a:lnTo>
                        <a:pt x="215" y="833"/>
                      </a:lnTo>
                      <a:lnTo>
                        <a:pt x="223" y="788"/>
                      </a:lnTo>
                      <a:lnTo>
                        <a:pt x="230" y="737"/>
                      </a:lnTo>
                      <a:lnTo>
                        <a:pt x="230" y="737"/>
                      </a:lnTo>
                      <a:lnTo>
                        <a:pt x="230" y="7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781680" y="3886200"/>
              <a:ext cx="304920" cy="992160"/>
            </a:xfrm>
            <a:custGeom>
              <a:avLst/>
              <a:gdLst/>
              <a:ahLst/>
              <a:rect l="l" t="t" r="r" b="b"/>
              <a:pathLst>
                <a:path w="848" h="2756">
                  <a:moveTo>
                    <a:pt x="211" y="0"/>
                  </a:moveTo>
                  <a:lnTo>
                    <a:pt x="211" y="2066"/>
                  </a:lnTo>
                  <a:lnTo>
                    <a:pt x="0" y="2066"/>
                  </a:lnTo>
                  <a:lnTo>
                    <a:pt x="423" y="2755"/>
                  </a:lnTo>
                  <a:lnTo>
                    <a:pt x="847" y="2066"/>
                  </a:lnTo>
                  <a:lnTo>
                    <a:pt x="635" y="2066"/>
                  </a:lnTo>
                  <a:lnTo>
                    <a:pt x="635" y="0"/>
                  </a:lnTo>
                  <a:lnTo>
                    <a:pt x="211" y="0"/>
                  </a:lnTo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762120" y="1143000"/>
            <a:ext cx="9542520" cy="1502280"/>
            <a:chOff x="762120" y="1143000"/>
            <a:chExt cx="9542520" cy="1502280"/>
          </a:xfrm>
        </p:grpSpPr>
        <p:sp>
          <p:nvSpPr>
            <p:cNvPr id="171" name=""/>
            <p:cNvSpPr/>
            <p:nvPr/>
          </p:nvSpPr>
          <p:spPr>
            <a:xfrm>
              <a:off x="793800" y="1143000"/>
              <a:ext cx="9510840" cy="1052640"/>
            </a:xfrm>
            <a:prstGeom prst="roundRect">
              <a:avLst>
                <a:gd name="adj" fmla="val 1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3800" y="1393920"/>
              <a:ext cx="95108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 Black"/>
                </a:rPr>
                <a:t>Operações Urbanas Consorcia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2338560"/>
              <a:ext cx="947556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412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2070000"/>
            <a:ext cx="104630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49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 por objetivo alcançar transformações urbanísticas estruturais, melhorias sociais e a valorizaçã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5800" y="3368520"/>
            <a:ext cx="9293400" cy="3943440"/>
            <a:chOff x="685800" y="3368520"/>
            <a:chExt cx="9293400" cy="3943440"/>
          </a:xfrm>
        </p:grpSpPr>
        <p:grpSp>
          <p:nvGrpSpPr>
            <p:cNvPr id="176" name=""/>
            <p:cNvGrpSpPr/>
            <p:nvPr/>
          </p:nvGrpSpPr>
          <p:grpSpPr>
            <a:xfrm>
              <a:off x="685800" y="3368520"/>
              <a:ext cx="9293400" cy="3943440"/>
              <a:chOff x="685800" y="3368520"/>
              <a:chExt cx="9293400" cy="3943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62120" y="6770520"/>
                <a:ext cx="2209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2120" y="6923160"/>
                <a:ext cx="220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4080" y="6770520"/>
                <a:ext cx="2210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24080" y="6923160"/>
                <a:ext cx="2210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62120" y="6923160"/>
                <a:ext cx="14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62120" y="6386040"/>
                <a:ext cx="1440" cy="38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" y="6389640"/>
                <a:ext cx="4724280" cy="912960"/>
              </a:xfrm>
              <a:prstGeom prst="roundRect">
                <a:avLst>
                  <a:gd name="adj" fmla="val 171"/>
                </a:avLst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71800" y="6386040"/>
                <a:ext cx="1440" cy="38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124080" y="6386040"/>
                <a:ext cx="1800" cy="38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334120" y="6386040"/>
                <a:ext cx="1440" cy="38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4120" y="6923160"/>
                <a:ext cx="14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4080" y="6923160"/>
                <a:ext cx="180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71800" y="6923160"/>
                <a:ext cx="14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2120" y="5102280"/>
                <a:ext cx="220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2120" y="5253120"/>
                <a:ext cx="220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24080" y="5102280"/>
                <a:ext cx="2210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5253120"/>
                <a:ext cx="2210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2120" y="5253120"/>
                <a:ext cx="14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62120" y="4712760"/>
                <a:ext cx="144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800" y="4721400"/>
                <a:ext cx="4724280" cy="912600"/>
              </a:xfrm>
              <a:prstGeom prst="roundRect">
                <a:avLst>
                  <a:gd name="adj" fmla="val 171"/>
                </a:avLst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05040" y="6315120"/>
                <a:ext cx="39024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14640" y="6238800"/>
                <a:ext cx="780840" cy="47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2240" y="6770520"/>
                <a:ext cx="39024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5240" y="6846840"/>
                <a:ext cx="31428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09600" y="6389640"/>
                <a:ext cx="69552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05440" y="6846840"/>
                <a:ext cx="61884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67000" y="6315120"/>
                <a:ext cx="61920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95320" y="6694560"/>
                <a:ext cx="39996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05440" y="6238800"/>
                <a:ext cx="39024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43320" y="6770520"/>
                <a:ext cx="542880" cy="46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5760" y="6315120"/>
                <a:ext cx="39060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91240" y="6694560"/>
                <a:ext cx="61884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895400" y="6770520"/>
                <a:ext cx="46692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5659560" y="3436920"/>
                <a:ext cx="757080" cy="585720"/>
              </a:xfrm>
              <a:custGeom>
                <a:avLst/>
                <a:gdLst/>
                <a:ahLst/>
                <a:rect l="l" t="t" r="r" b="b"/>
                <a:pathLst>
                  <a:path w="2103" h="1626">
                    <a:moveTo>
                      <a:pt x="281" y="0"/>
                    </a:moveTo>
                    <a:lnTo>
                      <a:pt x="1752" y="598"/>
                    </a:lnTo>
                    <a:lnTo>
                      <a:pt x="1892" y="256"/>
                    </a:lnTo>
                    <a:lnTo>
                      <a:pt x="2102" y="1142"/>
                    </a:lnTo>
                    <a:lnTo>
                      <a:pt x="1332" y="1625"/>
                    </a:lnTo>
                    <a:lnTo>
                      <a:pt x="1471" y="1284"/>
                    </a:lnTo>
                    <a:lnTo>
                      <a:pt x="0" y="685"/>
                    </a:lnTo>
                    <a:lnTo>
                      <a:pt x="281" y="0"/>
                    </a:ln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77120" y="3776760"/>
                <a:ext cx="1082520" cy="820800"/>
                <a:chOff x="6477120" y="3776760"/>
                <a:chExt cx="1082520" cy="820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477120" y="3776760"/>
                  <a:ext cx="1082520" cy="82080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477120" y="3776760"/>
                  <a:ext cx="1082520" cy="820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4" name=""/>
              <p:cNvSpPr/>
              <p:nvPr/>
            </p:nvSpPr>
            <p:spPr>
              <a:xfrm flipV="1">
                <a:off x="2971800" y="4712760"/>
                <a:ext cx="144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124080" y="4712760"/>
                <a:ext cx="180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5334120" y="4712760"/>
                <a:ext cx="144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34120" y="5253120"/>
                <a:ext cx="14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24080" y="5253120"/>
                <a:ext cx="180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1800" y="5253120"/>
                <a:ext cx="14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85800" y="3368520"/>
                <a:ext cx="4721400" cy="706680"/>
                <a:chOff x="685800" y="3368520"/>
                <a:chExt cx="4721400" cy="7066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85800" y="3368520"/>
                  <a:ext cx="4721400" cy="706680"/>
                </a:xfrm>
                <a:prstGeom prst="roundRect">
                  <a:avLst>
                    <a:gd name="adj" fmla="val 22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85800" y="3368520"/>
                  <a:ext cx="4721400" cy="66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oder público + Proprietários + Usuários permanentes + Investido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531280" y="4645080"/>
                <a:ext cx="1447920" cy="1139760"/>
              </a:xfrm>
              <a:prstGeom prst="roundRect">
                <a:avLst>
                  <a:gd name="adj" fmla="val 139"/>
                </a:avLst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683560" y="4645080"/>
                <a:ext cx="712800" cy="1141200"/>
              </a:xfrm>
              <a:custGeom>
                <a:avLst/>
                <a:gdLst/>
                <a:ahLst/>
                <a:rect l="l" t="t" r="r" b="b"/>
                <a:pathLst>
                  <a:path w="1979" h="3169">
                    <a:moveTo>
                      <a:pt x="0" y="0"/>
                    </a:moveTo>
                    <a:cubicBezTo>
                      <a:pt x="141" y="175"/>
                      <a:pt x="282" y="351"/>
                      <a:pt x="421" y="422"/>
                    </a:cubicBezTo>
                    <a:cubicBezTo>
                      <a:pt x="562" y="492"/>
                      <a:pt x="633" y="351"/>
                      <a:pt x="846" y="422"/>
                    </a:cubicBezTo>
                    <a:cubicBezTo>
                      <a:pt x="1059" y="492"/>
                      <a:pt x="1519" y="562"/>
                      <a:pt x="1695" y="843"/>
                    </a:cubicBezTo>
                    <a:cubicBezTo>
                      <a:pt x="1872" y="1125"/>
                      <a:pt x="1978" y="1831"/>
                      <a:pt x="1907" y="2112"/>
                    </a:cubicBezTo>
                    <a:cubicBezTo>
                      <a:pt x="1836" y="2393"/>
                      <a:pt x="1413" y="2358"/>
                      <a:pt x="1270" y="2534"/>
                    </a:cubicBezTo>
                    <a:cubicBezTo>
                      <a:pt x="1129" y="2710"/>
                      <a:pt x="1094" y="3062"/>
                      <a:pt x="1059" y="3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12160" y="4645080"/>
                <a:ext cx="609840" cy="1141200"/>
              </a:xfrm>
              <a:custGeom>
                <a:avLst/>
                <a:gdLst/>
                <a:ahLst/>
                <a:rect l="l" t="t" r="r" b="b"/>
                <a:pathLst>
                  <a:path w="1694" h="3169">
                    <a:moveTo>
                      <a:pt x="0" y="0"/>
                    </a:moveTo>
                    <a:cubicBezTo>
                      <a:pt x="120" y="175"/>
                      <a:pt x="241" y="351"/>
                      <a:pt x="362" y="422"/>
                    </a:cubicBezTo>
                    <a:cubicBezTo>
                      <a:pt x="483" y="492"/>
                      <a:pt x="543" y="351"/>
                      <a:pt x="725" y="422"/>
                    </a:cubicBezTo>
                    <a:cubicBezTo>
                      <a:pt x="906" y="492"/>
                      <a:pt x="1299" y="562"/>
                      <a:pt x="1451" y="843"/>
                    </a:cubicBezTo>
                    <a:cubicBezTo>
                      <a:pt x="1602" y="1125"/>
                      <a:pt x="1693" y="1831"/>
                      <a:pt x="1632" y="2112"/>
                    </a:cubicBezTo>
                    <a:cubicBezTo>
                      <a:pt x="1572" y="2393"/>
                      <a:pt x="1209" y="2358"/>
                      <a:pt x="1088" y="2534"/>
                    </a:cubicBezTo>
                    <a:cubicBezTo>
                      <a:pt x="967" y="2710"/>
                      <a:pt x="936" y="3062"/>
                      <a:pt x="906" y="3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683560" y="5025960"/>
                <a:ext cx="152640" cy="76320"/>
              </a:xfrm>
              <a:prstGeom prst="roundRect">
                <a:avLst>
                  <a:gd name="adj" fmla="val 2083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683560" y="5327640"/>
                <a:ext cx="152640" cy="76320"/>
              </a:xfrm>
              <a:prstGeom prst="roundRect">
                <a:avLst>
                  <a:gd name="adj" fmla="val 2083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988480" y="4950000"/>
                <a:ext cx="152280" cy="75960"/>
              </a:xfrm>
              <a:prstGeom prst="roundRect">
                <a:avLst>
                  <a:gd name="adj" fmla="val 2083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88480" y="5176800"/>
                <a:ext cx="152280" cy="152280"/>
              </a:xfrm>
              <a:prstGeom prst="roundRect">
                <a:avLst>
                  <a:gd name="adj" fmla="val 104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9522000" y="4797360"/>
                <a:ext cx="228600" cy="152640"/>
              </a:xfrm>
              <a:prstGeom prst="roundRect">
                <a:avLst>
                  <a:gd name="adj" fmla="val 104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597960" y="5102280"/>
                <a:ext cx="228600" cy="228600"/>
              </a:xfrm>
              <a:prstGeom prst="roundRect">
                <a:avLst>
                  <a:gd name="adj" fmla="val 694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522000" y="5479920"/>
                <a:ext cx="152280" cy="304920"/>
              </a:xfrm>
              <a:custGeom>
                <a:avLst/>
                <a:gdLst>
                  <a:gd name="textAreaLeft" fmla="*/ 360 w 152280"/>
                  <a:gd name="textAreaRight" fmla="*/ 151920 w 152280"/>
                  <a:gd name="textAreaTop" fmla="*/ 360 h 304920"/>
                  <a:gd name="textAreaBottom" fmla="*/ 304560 h 30492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225" y="0"/>
                    </a:moveTo>
                    <a:arcTo wR="225" hR="225" stAng="16200000" swAng="-5400000"/>
                    <a:lnTo>
                      <a:pt x="0" y="42975"/>
                    </a:lnTo>
                    <a:arcTo wR="225" hR="225" stAng="10800000" swAng="-5400000"/>
                    <a:lnTo>
                      <a:pt x="21375" y="43200"/>
                    </a:lnTo>
                    <a:arcTo wR="225" hR="225" stAng="5400000" swAng="-5400000"/>
                    <a:lnTo>
                      <a:pt x="21600" y="225"/>
                    </a:lnTo>
                    <a:arcTo wR="225" hR="225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750600" y="5479920"/>
                <a:ext cx="152280" cy="152640"/>
              </a:xfrm>
              <a:custGeom>
                <a:avLst/>
                <a:gdLst>
                  <a:gd name="textAreaLeft" fmla="*/ 360 w 152280"/>
                  <a:gd name="textAreaRight" fmla="*/ 151920 w 152280"/>
                  <a:gd name="textAreaTop" fmla="*/ 360 h 152640"/>
                  <a:gd name="textAreaBottom" fmla="*/ 152280 h 152640"/>
                </a:gdLst>
                <a:ahLst/>
                <a:rect l="textAreaLeft" t="textAreaTop" r="textAreaRight" b="textAreaBottom"/>
                <a:pathLst>
                  <a:path w="21600" h="21651">
                    <a:moveTo>
                      <a:pt x="225" y="0"/>
                    </a:moveTo>
                    <a:arcTo wR="225" hR="225" stAng="16200000" swAng="-5400000"/>
                    <a:lnTo>
                      <a:pt x="0" y="21426"/>
                    </a:lnTo>
                    <a:arcTo wR="225" hR="225" stAng="10800000" swAng="-5400000"/>
                    <a:lnTo>
                      <a:pt x="21375" y="21651"/>
                    </a:lnTo>
                    <a:arcTo wR="225" hR="225" stAng="5400000" swAng="-5400000"/>
                    <a:lnTo>
                      <a:pt x="21600" y="225"/>
                    </a:lnTo>
                    <a:arcTo wR="225" hR="225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912160" y="5479920"/>
                <a:ext cx="152640" cy="152640"/>
              </a:xfrm>
              <a:prstGeom prst="roundRect">
                <a:avLst>
                  <a:gd name="adj" fmla="val 104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293400" y="4645080"/>
                <a:ext cx="152280" cy="152280"/>
              </a:xfrm>
              <a:prstGeom prst="roundRect">
                <a:avLst>
                  <a:gd name="adj" fmla="val 104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683560" y="5554800"/>
                <a:ext cx="152640" cy="152280"/>
              </a:xfrm>
              <a:prstGeom prst="roundRect">
                <a:avLst>
                  <a:gd name="adj" fmla="val 104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15360" y="4683240"/>
                <a:ext cx="807840" cy="473040"/>
              </a:xfrm>
              <a:custGeom>
                <a:avLst/>
                <a:gdLst/>
                <a:ahLst/>
                <a:rect l="l" t="t" r="r" b="b"/>
                <a:pathLst>
                  <a:path w="2245" h="1314">
                    <a:moveTo>
                      <a:pt x="118" y="0"/>
                    </a:moveTo>
                    <a:lnTo>
                      <a:pt x="1756" y="905"/>
                    </a:lnTo>
                    <a:lnTo>
                      <a:pt x="1815" y="799"/>
                    </a:lnTo>
                    <a:lnTo>
                      <a:pt x="2244" y="1313"/>
                    </a:lnTo>
                    <a:lnTo>
                      <a:pt x="1580" y="1222"/>
                    </a:lnTo>
                    <a:lnTo>
                      <a:pt x="1638" y="1117"/>
                    </a:lnTo>
                    <a:lnTo>
                      <a:pt x="0" y="212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67480" y="4597560"/>
                <a:ext cx="830160" cy="604800"/>
              </a:xfrm>
              <a:custGeom>
                <a:avLst/>
                <a:gdLst/>
                <a:ahLst/>
                <a:rect l="l" t="t" r="r" b="b"/>
                <a:pathLst>
                  <a:path w="2305" h="1680">
                    <a:moveTo>
                      <a:pt x="2183" y="0"/>
                    </a:moveTo>
                    <a:lnTo>
                      <a:pt x="499" y="1195"/>
                    </a:lnTo>
                    <a:lnTo>
                      <a:pt x="438" y="1109"/>
                    </a:lnTo>
                    <a:lnTo>
                      <a:pt x="0" y="1679"/>
                    </a:lnTo>
                    <a:lnTo>
                      <a:pt x="684" y="1453"/>
                    </a:lnTo>
                    <a:lnTo>
                      <a:pt x="622" y="1367"/>
                    </a:lnTo>
                    <a:lnTo>
                      <a:pt x="2304" y="171"/>
                    </a:lnTo>
                    <a:lnTo>
                      <a:pt x="2183" y="0"/>
                    </a:lnTo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95480" y="5708520"/>
                <a:ext cx="304920" cy="532080"/>
              </a:xfrm>
              <a:custGeom>
                <a:avLst/>
                <a:gdLst/>
                <a:ahLst/>
                <a:rect l="l" t="t" r="r" b="b"/>
                <a:pathLst>
                  <a:path w="848" h="1476">
                    <a:moveTo>
                      <a:pt x="211" y="0"/>
                    </a:moveTo>
                    <a:lnTo>
                      <a:pt x="211" y="1107"/>
                    </a:lnTo>
                    <a:lnTo>
                      <a:pt x="0" y="1107"/>
                    </a:lnTo>
                    <a:lnTo>
                      <a:pt x="423" y="1475"/>
                    </a:lnTo>
                    <a:lnTo>
                      <a:pt x="847" y="1107"/>
                    </a:lnTo>
                    <a:lnTo>
                      <a:pt x="635" y="1107"/>
                    </a:lnTo>
                    <a:lnTo>
                      <a:pt x="635" y="0"/>
                    </a:lnTo>
                    <a:lnTo>
                      <a:pt x="211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445680" y="4950000"/>
                <a:ext cx="533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445680" y="5025960"/>
                <a:ext cx="533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607600" y="4797360"/>
                <a:ext cx="152280" cy="152640"/>
              </a:xfrm>
              <a:custGeom>
                <a:avLst/>
                <a:gdLst>
                  <a:gd name="textAreaLeft" fmla="*/ 360 w 152280"/>
                  <a:gd name="textAreaRight" fmla="*/ 151920 w 152280"/>
                  <a:gd name="textAreaTop" fmla="*/ 360 h 152640"/>
                  <a:gd name="textAreaBottom" fmla="*/ 152280 h 152640"/>
                </a:gdLst>
                <a:ahLst/>
                <a:rect l="textAreaLeft" t="textAreaTop" r="textAreaRight" b="textAreaBottom"/>
                <a:pathLst>
                  <a:path w="21600" h="21651">
                    <a:moveTo>
                      <a:pt x="225" y="0"/>
                    </a:moveTo>
                    <a:arcTo wR="225" hR="225" stAng="16200000" swAng="-5400000"/>
                    <a:lnTo>
                      <a:pt x="0" y="21426"/>
                    </a:lnTo>
                    <a:arcTo wR="225" hR="225" stAng="10800000" swAng="-5400000"/>
                    <a:lnTo>
                      <a:pt x="21375" y="21651"/>
                    </a:lnTo>
                    <a:arcTo wR="225" hR="225" stAng="5400000" swAng="-5400000"/>
                    <a:lnTo>
                      <a:pt x="21600" y="225"/>
                    </a:lnTo>
                    <a:arcTo wR="225" hR="225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19320" y="7149960"/>
                <a:ext cx="75960" cy="763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29200" y="707544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00600" y="7149960"/>
                <a:ext cx="152280" cy="152640"/>
              </a:xfrm>
              <a:prstGeom prst="ellipse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0" y="6315120"/>
                <a:ext cx="304920" cy="304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62320" y="6997680"/>
                <a:ext cx="75960" cy="763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8800" y="699768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19520" y="6541920"/>
                <a:ext cx="152280" cy="152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24080" y="6997680"/>
                <a:ext cx="152640" cy="152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86200" y="6997680"/>
                <a:ext cx="152280" cy="152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86200" y="6541920"/>
                <a:ext cx="152280" cy="152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783400" y="6149880"/>
              <a:ext cx="3238560" cy="311400"/>
              <a:chOff x="5783400" y="6149880"/>
              <a:chExt cx="3238560" cy="311400"/>
            </a:xfrm>
          </p:grpSpPr>
          <p:sp>
            <p:nvSpPr>
              <p:cNvPr id="254" name=""/>
              <p:cNvSpPr/>
              <p:nvPr/>
            </p:nvSpPr>
            <p:spPr>
              <a:xfrm>
                <a:off x="5791320" y="6149880"/>
                <a:ext cx="3224160" cy="311400"/>
              </a:xfrm>
              <a:prstGeom prst="roundRect">
                <a:avLst>
                  <a:gd name="adj" fmla="val 50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783400" y="6149880"/>
                <a:ext cx="3238560" cy="309600"/>
                <a:chOff x="5783400" y="6149880"/>
                <a:chExt cx="3238560" cy="3096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791320" y="6149880"/>
                  <a:ext cx="3222360" cy="309600"/>
                </a:xfrm>
                <a:prstGeom prst="roundRect">
                  <a:avLst>
                    <a:gd name="adj" fmla="val 51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5783400" y="6149880"/>
                  <a:ext cx="3238560" cy="309600"/>
                  <a:chOff x="5783400" y="6149880"/>
                  <a:chExt cx="3238560" cy="3096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791320" y="6149880"/>
                    <a:ext cx="3222360" cy="309600"/>
                  </a:xfrm>
                  <a:prstGeom prst="roundRect">
                    <a:avLst>
                      <a:gd name="adj" fmla="val 51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783400" y="6149880"/>
                    <a:ext cx="3238560" cy="292680"/>
                  </a:xfrm>
                  <a:prstGeom prst="roundRect">
                    <a:avLst>
                      <a:gd name="adj" fmla="val 51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erímetro Descontínuo da Op. Urban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0" name=""/>
            <p:cNvSpPr/>
            <p:nvPr/>
          </p:nvSpPr>
          <p:spPr>
            <a:xfrm flipH="1" flipV="1">
              <a:off x="5405040" y="5634000"/>
              <a:ext cx="3906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991720" y="5785920"/>
              <a:ext cx="30456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593640" y="1116000"/>
            <a:ext cx="9541080" cy="1549800"/>
            <a:chOff x="593640" y="1116000"/>
            <a:chExt cx="9541080" cy="1549800"/>
          </a:xfrm>
        </p:grpSpPr>
        <p:sp>
          <p:nvSpPr>
            <p:cNvPr id="263" name=""/>
            <p:cNvSpPr/>
            <p:nvPr/>
          </p:nvSpPr>
          <p:spPr>
            <a:xfrm>
              <a:off x="625320" y="1116000"/>
              <a:ext cx="9509400" cy="109548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320" y="1361520"/>
              <a:ext cx="95094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"/>
                </a:rPr>
                <a:t>Consórcio Imobiliário</a:t>
              </a:r>
              <a:r>
                <a:rPr b="1" lang="en-GB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3640" y="2359080"/>
              <a:ext cx="94741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412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267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842760" y="2430360"/>
            <a:ext cx="150840" cy="2940120"/>
            <a:chOff x="842760" y="2430360"/>
            <a:chExt cx="150840" cy="2940120"/>
          </a:xfrm>
        </p:grpSpPr>
        <p:sp>
          <p:nvSpPr>
            <p:cNvPr id="269" name=""/>
            <p:cNvSpPr/>
            <p:nvPr/>
          </p:nvSpPr>
          <p:spPr>
            <a:xfrm>
              <a:off x="849240" y="2430360"/>
              <a:ext cx="144360" cy="2940120"/>
            </a:xfrm>
            <a:custGeom>
              <a:avLst/>
              <a:gdLst>
                <a:gd name="textAreaLeft" fmla="*/ 360 w 144360"/>
                <a:gd name="textAreaRight" fmla="*/ 144000 w 144360"/>
                <a:gd name="textAreaTop" fmla="*/ 360 h 2940120"/>
                <a:gd name="textAreaBottom" fmla="*/ 2939760 h 2940120"/>
              </a:gdLst>
              <a:ahLst/>
              <a:rect l="textAreaLeft" t="textAreaTop" r="textAreaRight" b="textAreaBottom"/>
              <a:pathLst>
                <a:path w="21600" h="438878">
                  <a:moveTo>
                    <a:pt x="240" y="0"/>
                  </a:moveTo>
                  <a:arcTo wR="240" hR="240" stAng="16200000" swAng="-5400000"/>
                  <a:lnTo>
                    <a:pt x="0" y="438638"/>
                  </a:lnTo>
                  <a:arcTo wR="240" hR="240" stAng="10800000" swAng="-5400000"/>
                  <a:lnTo>
                    <a:pt x="21360" y="438878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842760" y="2430360"/>
              <a:ext cx="144720" cy="2933640"/>
              <a:chOff x="842760" y="2430360"/>
              <a:chExt cx="144720" cy="2933640"/>
            </a:xfrm>
          </p:grpSpPr>
          <p:sp>
            <p:nvSpPr>
              <p:cNvPr id="271" name=""/>
              <p:cNvSpPr/>
              <p:nvPr/>
            </p:nvSpPr>
            <p:spPr>
              <a:xfrm>
                <a:off x="849240" y="2430360"/>
                <a:ext cx="138240" cy="2933640"/>
              </a:xfrm>
              <a:custGeom>
                <a:avLst/>
                <a:gdLst>
                  <a:gd name="textAreaLeft" fmla="*/ 360 w 138240"/>
                  <a:gd name="textAreaRight" fmla="*/ 137880 w 138240"/>
                  <a:gd name="textAreaTop" fmla="*/ 360 h 2933640"/>
                  <a:gd name="textAreaBottom" fmla="*/ 2933280 h 2933640"/>
                </a:gdLst>
                <a:ahLst/>
                <a:rect l="textAreaLeft" t="textAreaTop" r="textAreaRight" b="textAreaBottom"/>
                <a:pathLst>
                  <a:path w="21600" h="457247">
                    <a:moveTo>
                      <a:pt x="251" y="0"/>
                    </a:moveTo>
                    <a:arcTo wR="251" hR="251" stAng="16200000" swAng="-5400000"/>
                    <a:lnTo>
                      <a:pt x="0" y="456996"/>
                    </a:lnTo>
                    <a:arcTo wR="251" hR="251" stAng="10800000" swAng="-5400000"/>
                    <a:lnTo>
                      <a:pt x="21349" y="457247"/>
                    </a:lnTo>
                    <a:arcTo wR="251" hR="251" stAng="5400000" swAng="-5400000"/>
                    <a:lnTo>
                      <a:pt x="21600" y="251"/>
                    </a:lnTo>
                    <a:arcTo wR="251" hR="25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842760" y="2430360"/>
                <a:ext cx="141480" cy="2932200"/>
                <a:chOff x="842760" y="2430360"/>
                <a:chExt cx="141480" cy="2932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849240" y="2430360"/>
                  <a:ext cx="135000" cy="2932200"/>
                </a:xfrm>
                <a:custGeom>
                  <a:avLst/>
                  <a:gdLst>
                    <a:gd name="textAreaLeft" fmla="*/ 360 w 135000"/>
                    <a:gd name="textAreaRight" fmla="*/ 134640 w 135000"/>
                    <a:gd name="textAreaTop" fmla="*/ 360 h 2932200"/>
                    <a:gd name="textAreaBottom" fmla="*/ 2931840 h 2932200"/>
                  </a:gdLst>
                  <a:ahLst/>
                  <a:rect l="textAreaLeft" t="textAreaTop" r="textAreaRight" b="textAreaBottom"/>
                  <a:pathLst>
                    <a:path w="21600" h="467962">
                      <a:moveTo>
                        <a:pt x="257" y="0"/>
                      </a:moveTo>
                      <a:arcTo wR="257" hR="257" stAng="16200000" swAng="-5400000"/>
                      <a:lnTo>
                        <a:pt x="0" y="467705"/>
                      </a:lnTo>
                      <a:arcTo wR="257" hR="257" stAng="10800000" swAng="-5400000"/>
                      <a:lnTo>
                        <a:pt x="21343" y="467962"/>
                      </a:lnTo>
                      <a:arcTo wR="257" hR="257" stAng="5400000" swAng="-5400000"/>
                      <a:lnTo>
                        <a:pt x="21600" y="257"/>
                      </a:lnTo>
                      <a:arcTo wR="257" hR="257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842760" y="2430360"/>
                  <a:ext cx="141480" cy="2928960"/>
                  <a:chOff x="842760" y="2430360"/>
                  <a:chExt cx="141480" cy="2928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849240" y="2430360"/>
                    <a:ext cx="131760" cy="2928960"/>
                  </a:xfrm>
                  <a:custGeom>
                    <a:avLst/>
                    <a:gdLst>
                      <a:gd name="textAreaLeft" fmla="*/ 360 w 131760"/>
                      <a:gd name="textAreaRight" fmla="*/ 131400 w 131760"/>
                      <a:gd name="textAreaTop" fmla="*/ 360 h 2928960"/>
                      <a:gd name="textAreaBottom" fmla="*/ 2928600 h 2928960"/>
                    </a:gdLst>
                    <a:ahLst/>
                    <a:rect l="textAreaLeft" t="textAreaTop" r="textAreaRight" b="textAreaBottom"/>
                    <a:pathLst>
                      <a:path w="21600" h="478908">
                        <a:moveTo>
                          <a:pt x="263" y="0"/>
                        </a:moveTo>
                        <a:arcTo wR="263" hR="263" stAng="16200000" swAng="-5400000"/>
                        <a:lnTo>
                          <a:pt x="0" y="478645"/>
                        </a:lnTo>
                        <a:arcTo wR="263" hR="263" stAng="10800000" swAng="-5400000"/>
                        <a:lnTo>
                          <a:pt x="21337" y="478908"/>
                        </a:lnTo>
                        <a:arcTo wR="263" hR="263" stAng="5400000" swAng="-5400000"/>
                        <a:lnTo>
                          <a:pt x="21600" y="263"/>
                        </a:lnTo>
                        <a:arcTo wR="263" hR="263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842760" y="2430360"/>
                    <a:ext cx="141480" cy="2925720"/>
                    <a:chOff x="842760" y="2430360"/>
                    <a:chExt cx="141480" cy="29257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49240" y="2430360"/>
                      <a:ext cx="130320" cy="2925720"/>
                    </a:xfrm>
                    <a:custGeom>
                      <a:avLst/>
                      <a:gdLst>
                        <a:gd name="textAreaLeft" fmla="*/ 360 w 130320"/>
                        <a:gd name="textAreaRight" fmla="*/ 129960 w 130320"/>
                        <a:gd name="textAreaTop" fmla="*/ 360 h 2925720"/>
                        <a:gd name="textAreaBottom" fmla="*/ 2925360 h 2925720"/>
                      </a:gdLst>
                      <a:ahLst/>
                      <a:rect l="textAreaLeft" t="textAreaTop" r="textAreaRight" b="textAreaBottom"/>
                      <a:pathLst>
                        <a:path w="21600" h="483650">
                          <a:moveTo>
                            <a:pt x="263" y="0"/>
                          </a:moveTo>
                          <a:arcTo wR="263" hR="263" stAng="16200000" swAng="-5400000"/>
                          <a:lnTo>
                            <a:pt x="0" y="483387"/>
                          </a:lnTo>
                          <a:arcTo wR="263" hR="263" stAng="10800000" swAng="-5400000"/>
                          <a:lnTo>
                            <a:pt x="21337" y="483650"/>
                          </a:lnTo>
                          <a:arcTo wR="263" hR="263" stAng="5400000" swAng="-5400000"/>
                          <a:lnTo>
                            <a:pt x="21600" y="263"/>
                          </a:lnTo>
                          <a:arcTo wR="263" hR="263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842760" y="2430360"/>
                      <a:ext cx="141480" cy="2924280"/>
                      <a:chOff x="842760" y="2430360"/>
                      <a:chExt cx="141480" cy="2924280"/>
                    </a:xfrm>
                  </p:grpSpPr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849240" y="2430360"/>
                        <a:ext cx="128520" cy="2924280"/>
                      </a:xfrm>
                      <a:custGeom>
                        <a:avLst/>
                        <a:gdLst>
                          <a:gd name="textAreaLeft" fmla="*/ 360 w 128520"/>
                          <a:gd name="textAreaRight" fmla="*/ 128160 w 128520"/>
                          <a:gd name="textAreaTop" fmla="*/ 360 h 2924280"/>
                          <a:gd name="textAreaBottom" fmla="*/ 2923920 h 2924280"/>
                        </a:gdLst>
                        <a:ahLst/>
                        <a:rect l="textAreaLeft" t="textAreaTop" r="textAreaRight" b="textAreaBottom"/>
                        <a:pathLst>
                          <a:path w="21600" h="490163">
                            <a:moveTo>
                              <a:pt x="270" y="0"/>
                            </a:moveTo>
                            <a:arcTo wR="270" hR="270" stAng="16200000" swAng="-5400000"/>
                            <a:lnTo>
                              <a:pt x="0" y="489893"/>
                            </a:lnTo>
                            <a:arcTo wR="270" hR="270" stAng="10800000" swAng="-5400000"/>
                            <a:lnTo>
                              <a:pt x="21330" y="490163"/>
                            </a:lnTo>
                            <a:arcTo wR="270" hR="270" stAng="5400000" swAng="-5400000"/>
                            <a:lnTo>
                              <a:pt x="21600" y="270"/>
                            </a:lnTo>
                            <a:arcTo wR="270" hR="27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842760" y="2430360"/>
                        <a:ext cx="141480" cy="2721240"/>
                      </a:xfrm>
                      <a:custGeom>
                        <a:avLst/>
                        <a:gdLst>
                          <a:gd name="textAreaLeft" fmla="*/ 360 w 141480"/>
                          <a:gd name="textAreaRight" fmla="*/ 141120 w 141480"/>
                          <a:gd name="textAreaTop" fmla="*/ 360 h 2721240"/>
                          <a:gd name="textAreaBottom" fmla="*/ 2720880 h 2721240"/>
                        </a:gdLst>
                        <a:ahLst/>
                        <a:rect l="textAreaLeft" t="textAreaTop" r="textAreaRight" b="textAreaBottom"/>
                        <a:pathLst>
                          <a:path w="21600" h="414457">
                            <a:moveTo>
                              <a:pt x="270" y="0"/>
                            </a:moveTo>
                            <a:arcTo wR="270" hR="270" stAng="16200000" swAng="-5400000"/>
                            <a:lnTo>
                              <a:pt x="0" y="414187"/>
                            </a:lnTo>
                            <a:arcTo wR="270" hR="270" stAng="10800000" swAng="-5400000"/>
                            <a:lnTo>
                              <a:pt x="21330" y="414457"/>
                            </a:lnTo>
                            <a:arcTo wR="270" hR="270" stAng="5400000" swAng="-5400000"/>
                            <a:lnTo>
                              <a:pt x="21600" y="270"/>
                            </a:lnTo>
                            <a:arcTo wR="270" hR="27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2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</a:t>
                        </a: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81" name=""/>
          <p:cNvSpPr/>
          <p:nvPr/>
        </p:nvSpPr>
        <p:spPr>
          <a:xfrm>
            <a:off x="565200" y="1860480"/>
            <a:ext cx="9478800" cy="8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2920" y="2286000"/>
            <a:ext cx="10080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Consórcio Imobiliário é facultativo. Pode ser realizado em parceria com os proprietários destas áreas e/ou com loteadores ou constr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66680" y="3973680"/>
            <a:ext cx="8836200" cy="1738080"/>
            <a:chOff x="1066680" y="3973680"/>
            <a:chExt cx="8836200" cy="173808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rcRect l="0" t="0" r="0" b="52189"/>
            <a:stretch/>
          </p:blipFill>
          <p:spPr>
            <a:xfrm>
              <a:off x="1066680" y="4038480"/>
              <a:ext cx="8836200" cy="167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"/>
            <p:cNvGrpSpPr/>
            <p:nvPr/>
          </p:nvGrpSpPr>
          <p:grpSpPr>
            <a:xfrm>
              <a:off x="3105720" y="3973680"/>
              <a:ext cx="1517040" cy="514080"/>
              <a:chOff x="3105720" y="3973680"/>
              <a:chExt cx="1517040" cy="514080"/>
            </a:xfrm>
          </p:grpSpPr>
          <p:sp>
            <p:nvSpPr>
              <p:cNvPr id="286" name=""/>
              <p:cNvSpPr/>
              <p:nvPr/>
            </p:nvSpPr>
            <p:spPr>
              <a:xfrm>
                <a:off x="3108240" y="3973680"/>
                <a:ext cx="1514520" cy="514080"/>
              </a:xfrm>
              <a:prstGeom prst="roundRect">
                <a:avLst>
                  <a:gd name="adj" fmla="val 3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3105720" y="3973680"/>
                <a:ext cx="1516320" cy="512640"/>
                <a:chOff x="3105720" y="3973680"/>
                <a:chExt cx="1516320" cy="5126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108240" y="3973680"/>
                  <a:ext cx="1513080" cy="512640"/>
                </a:xfrm>
                <a:prstGeom prst="roundRect">
                  <a:avLst>
                    <a:gd name="adj" fmla="val 31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3105720" y="3973680"/>
                  <a:ext cx="1516320" cy="512640"/>
                  <a:chOff x="3105720" y="3973680"/>
                  <a:chExt cx="1516320" cy="51264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3108240" y="3973680"/>
                    <a:ext cx="1513080" cy="512640"/>
                  </a:xfrm>
                  <a:prstGeom prst="roundRect">
                    <a:avLst>
                      <a:gd name="adj" fmla="val 31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105720" y="3973680"/>
                    <a:ext cx="1516320" cy="505800"/>
                  </a:xfrm>
                  <a:prstGeom prst="roundRect">
                    <a:avLst>
                      <a:gd name="adj" fmla="val 31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INVESTIMEN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PÚBL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82640" y="1327320"/>
            <a:ext cx="9675720" cy="113796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8000" y="1404000"/>
            <a:ext cx="100090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nstrumentos da gestão social da valorização fundiária e o Plano Dire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3181320"/>
            <a:ext cx="1022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8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Plano Diretor Participativo deve definir  as áreas e as regras de aplicação dos intrumentos de gestão da valorização imobili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mbinação de instrumentos pode ser mais efic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ZEIS + Edificação ou parcelamento compulsório + consórcio imobili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296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42760" y="2430360"/>
            <a:ext cx="150840" cy="2940120"/>
            <a:chOff x="842760" y="2430360"/>
            <a:chExt cx="150840" cy="2940120"/>
          </a:xfrm>
        </p:grpSpPr>
        <p:sp>
          <p:nvSpPr>
            <p:cNvPr id="298" name=""/>
            <p:cNvSpPr/>
            <p:nvPr/>
          </p:nvSpPr>
          <p:spPr>
            <a:xfrm>
              <a:off x="849240" y="2430360"/>
              <a:ext cx="144360" cy="2940120"/>
            </a:xfrm>
            <a:custGeom>
              <a:avLst/>
              <a:gdLst>
                <a:gd name="textAreaLeft" fmla="*/ 360 w 144360"/>
                <a:gd name="textAreaRight" fmla="*/ 144000 w 144360"/>
                <a:gd name="textAreaTop" fmla="*/ 360 h 2940120"/>
                <a:gd name="textAreaBottom" fmla="*/ 2939760 h 2940120"/>
              </a:gdLst>
              <a:ahLst/>
              <a:rect l="textAreaLeft" t="textAreaTop" r="textAreaRight" b="textAreaBottom"/>
              <a:pathLst>
                <a:path w="21600" h="438878">
                  <a:moveTo>
                    <a:pt x="240" y="0"/>
                  </a:moveTo>
                  <a:arcTo wR="240" hR="240" stAng="16200000" swAng="-5400000"/>
                  <a:lnTo>
                    <a:pt x="0" y="438638"/>
                  </a:lnTo>
                  <a:arcTo wR="240" hR="240" stAng="10800000" swAng="-5400000"/>
                  <a:lnTo>
                    <a:pt x="21360" y="438878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842760" y="2430360"/>
              <a:ext cx="144720" cy="2933640"/>
              <a:chOff x="842760" y="2430360"/>
              <a:chExt cx="144720" cy="2933640"/>
            </a:xfrm>
          </p:grpSpPr>
          <p:sp>
            <p:nvSpPr>
              <p:cNvPr id="300" name=""/>
              <p:cNvSpPr/>
              <p:nvPr/>
            </p:nvSpPr>
            <p:spPr>
              <a:xfrm>
                <a:off x="849240" y="2430360"/>
                <a:ext cx="138240" cy="2933640"/>
              </a:xfrm>
              <a:custGeom>
                <a:avLst/>
                <a:gdLst>
                  <a:gd name="textAreaLeft" fmla="*/ 360 w 138240"/>
                  <a:gd name="textAreaRight" fmla="*/ 137880 w 138240"/>
                  <a:gd name="textAreaTop" fmla="*/ 360 h 2933640"/>
                  <a:gd name="textAreaBottom" fmla="*/ 2933280 h 2933640"/>
                </a:gdLst>
                <a:ahLst/>
                <a:rect l="textAreaLeft" t="textAreaTop" r="textAreaRight" b="textAreaBottom"/>
                <a:pathLst>
                  <a:path w="21600" h="457247">
                    <a:moveTo>
                      <a:pt x="251" y="0"/>
                    </a:moveTo>
                    <a:arcTo wR="251" hR="251" stAng="16200000" swAng="-5400000"/>
                    <a:lnTo>
                      <a:pt x="0" y="456996"/>
                    </a:lnTo>
                    <a:arcTo wR="251" hR="251" stAng="10800000" swAng="-5400000"/>
                    <a:lnTo>
                      <a:pt x="21349" y="457247"/>
                    </a:lnTo>
                    <a:arcTo wR="251" hR="251" stAng="5400000" swAng="-5400000"/>
                    <a:lnTo>
                      <a:pt x="21600" y="251"/>
                    </a:lnTo>
                    <a:arcTo wR="251" hR="25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842760" y="2430360"/>
                <a:ext cx="141480" cy="2932200"/>
                <a:chOff x="842760" y="2430360"/>
                <a:chExt cx="141480" cy="2932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849240" y="2430360"/>
                  <a:ext cx="135000" cy="2932200"/>
                </a:xfrm>
                <a:custGeom>
                  <a:avLst/>
                  <a:gdLst>
                    <a:gd name="textAreaLeft" fmla="*/ 360 w 135000"/>
                    <a:gd name="textAreaRight" fmla="*/ 134640 w 135000"/>
                    <a:gd name="textAreaTop" fmla="*/ 360 h 2932200"/>
                    <a:gd name="textAreaBottom" fmla="*/ 2931840 h 2932200"/>
                  </a:gdLst>
                  <a:ahLst/>
                  <a:rect l="textAreaLeft" t="textAreaTop" r="textAreaRight" b="textAreaBottom"/>
                  <a:pathLst>
                    <a:path w="21600" h="467962">
                      <a:moveTo>
                        <a:pt x="257" y="0"/>
                      </a:moveTo>
                      <a:arcTo wR="257" hR="257" stAng="16200000" swAng="-5400000"/>
                      <a:lnTo>
                        <a:pt x="0" y="467705"/>
                      </a:lnTo>
                      <a:arcTo wR="257" hR="257" stAng="10800000" swAng="-5400000"/>
                      <a:lnTo>
                        <a:pt x="21343" y="467962"/>
                      </a:lnTo>
                      <a:arcTo wR="257" hR="257" stAng="5400000" swAng="-5400000"/>
                      <a:lnTo>
                        <a:pt x="21600" y="257"/>
                      </a:lnTo>
                      <a:arcTo wR="257" hR="257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842760" y="2430360"/>
                  <a:ext cx="141480" cy="2928960"/>
                  <a:chOff x="842760" y="2430360"/>
                  <a:chExt cx="141480" cy="29289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849240" y="2430360"/>
                    <a:ext cx="131760" cy="2928960"/>
                  </a:xfrm>
                  <a:custGeom>
                    <a:avLst/>
                    <a:gdLst>
                      <a:gd name="textAreaLeft" fmla="*/ 360 w 131760"/>
                      <a:gd name="textAreaRight" fmla="*/ 131400 w 131760"/>
                      <a:gd name="textAreaTop" fmla="*/ 360 h 2928960"/>
                      <a:gd name="textAreaBottom" fmla="*/ 2928600 h 2928960"/>
                    </a:gdLst>
                    <a:ahLst/>
                    <a:rect l="textAreaLeft" t="textAreaTop" r="textAreaRight" b="textAreaBottom"/>
                    <a:pathLst>
                      <a:path w="21600" h="478908">
                        <a:moveTo>
                          <a:pt x="263" y="0"/>
                        </a:moveTo>
                        <a:arcTo wR="263" hR="263" stAng="16200000" swAng="-5400000"/>
                        <a:lnTo>
                          <a:pt x="0" y="478645"/>
                        </a:lnTo>
                        <a:arcTo wR="263" hR="263" stAng="10800000" swAng="-5400000"/>
                        <a:lnTo>
                          <a:pt x="21337" y="478908"/>
                        </a:lnTo>
                        <a:arcTo wR="263" hR="263" stAng="5400000" swAng="-5400000"/>
                        <a:lnTo>
                          <a:pt x="21600" y="263"/>
                        </a:lnTo>
                        <a:arcTo wR="263" hR="263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842760" y="2430360"/>
                    <a:ext cx="141480" cy="2925720"/>
                    <a:chOff x="842760" y="2430360"/>
                    <a:chExt cx="141480" cy="29257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849240" y="2430360"/>
                      <a:ext cx="130320" cy="2925720"/>
                    </a:xfrm>
                    <a:custGeom>
                      <a:avLst/>
                      <a:gdLst>
                        <a:gd name="textAreaLeft" fmla="*/ 360 w 130320"/>
                        <a:gd name="textAreaRight" fmla="*/ 129960 w 130320"/>
                        <a:gd name="textAreaTop" fmla="*/ 360 h 2925720"/>
                        <a:gd name="textAreaBottom" fmla="*/ 2925360 h 2925720"/>
                      </a:gdLst>
                      <a:ahLst/>
                      <a:rect l="textAreaLeft" t="textAreaTop" r="textAreaRight" b="textAreaBottom"/>
                      <a:pathLst>
                        <a:path w="21600" h="483650">
                          <a:moveTo>
                            <a:pt x="263" y="0"/>
                          </a:moveTo>
                          <a:arcTo wR="263" hR="263" stAng="16200000" swAng="-5400000"/>
                          <a:lnTo>
                            <a:pt x="0" y="483387"/>
                          </a:lnTo>
                          <a:arcTo wR="263" hR="263" stAng="10800000" swAng="-5400000"/>
                          <a:lnTo>
                            <a:pt x="21337" y="483650"/>
                          </a:lnTo>
                          <a:arcTo wR="263" hR="263" stAng="5400000" swAng="-5400000"/>
                          <a:lnTo>
                            <a:pt x="21600" y="263"/>
                          </a:lnTo>
                          <a:arcTo wR="263" hR="263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842760" y="2430360"/>
                      <a:ext cx="141480" cy="2924280"/>
                      <a:chOff x="842760" y="2430360"/>
                      <a:chExt cx="141480" cy="292428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849240" y="2430360"/>
                        <a:ext cx="128520" cy="2924280"/>
                      </a:xfrm>
                      <a:custGeom>
                        <a:avLst/>
                        <a:gdLst>
                          <a:gd name="textAreaLeft" fmla="*/ 360 w 128520"/>
                          <a:gd name="textAreaRight" fmla="*/ 128160 w 128520"/>
                          <a:gd name="textAreaTop" fmla="*/ 360 h 2924280"/>
                          <a:gd name="textAreaBottom" fmla="*/ 2923920 h 2924280"/>
                        </a:gdLst>
                        <a:ahLst/>
                        <a:rect l="textAreaLeft" t="textAreaTop" r="textAreaRight" b="textAreaBottom"/>
                        <a:pathLst>
                          <a:path w="21600" h="490163">
                            <a:moveTo>
                              <a:pt x="270" y="0"/>
                            </a:moveTo>
                            <a:arcTo wR="270" hR="270" stAng="16200000" swAng="-5400000"/>
                            <a:lnTo>
                              <a:pt x="0" y="489893"/>
                            </a:lnTo>
                            <a:arcTo wR="270" hR="270" stAng="10800000" swAng="-5400000"/>
                            <a:lnTo>
                              <a:pt x="21330" y="490163"/>
                            </a:lnTo>
                            <a:arcTo wR="270" hR="270" stAng="5400000" swAng="-5400000"/>
                            <a:lnTo>
                              <a:pt x="21600" y="270"/>
                            </a:lnTo>
                            <a:arcTo wR="270" hR="27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842760" y="2430360"/>
                        <a:ext cx="141480" cy="2721240"/>
                      </a:xfrm>
                      <a:custGeom>
                        <a:avLst/>
                        <a:gdLst>
                          <a:gd name="textAreaLeft" fmla="*/ 360 w 141480"/>
                          <a:gd name="textAreaRight" fmla="*/ 141120 w 141480"/>
                          <a:gd name="textAreaTop" fmla="*/ 360 h 2721240"/>
                          <a:gd name="textAreaBottom" fmla="*/ 2720880 h 2721240"/>
                        </a:gdLst>
                        <a:ahLst/>
                        <a:rect l="textAreaLeft" t="textAreaTop" r="textAreaRight" b="textAreaBottom"/>
                        <a:pathLst>
                          <a:path w="21600" h="414457">
                            <a:moveTo>
                              <a:pt x="270" y="0"/>
                            </a:moveTo>
                            <a:arcTo wR="270" hR="270" stAng="16200000" swAng="-5400000"/>
                            <a:lnTo>
                              <a:pt x="0" y="414187"/>
                            </a:lnTo>
                            <a:arcTo wR="270" hR="270" stAng="10800000" swAng="-5400000"/>
                            <a:lnTo>
                              <a:pt x="21330" y="414457"/>
                            </a:lnTo>
                            <a:arcTo wR="270" hR="270" stAng="5400000" swAng="-5400000"/>
                            <a:lnTo>
                              <a:pt x="21600" y="270"/>
                            </a:lnTo>
                            <a:arcTo wR="270" hR="27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2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</a:t>
                        </a: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310" name=""/>
          <p:cNvGrpSpPr/>
          <p:nvPr/>
        </p:nvGrpSpPr>
        <p:grpSpPr>
          <a:xfrm>
            <a:off x="465120" y="3062160"/>
            <a:ext cx="223920" cy="327240"/>
            <a:chOff x="465120" y="3062160"/>
            <a:chExt cx="223920" cy="327240"/>
          </a:xfrm>
        </p:grpSpPr>
        <p:sp>
          <p:nvSpPr>
            <p:cNvPr id="311" name=""/>
            <p:cNvSpPr/>
            <p:nvPr/>
          </p:nvSpPr>
          <p:spPr>
            <a:xfrm>
              <a:off x="468360" y="3062160"/>
              <a:ext cx="220680" cy="327240"/>
            </a:xfrm>
            <a:custGeom>
              <a:avLst/>
              <a:gdLst>
                <a:gd name="textAreaLeft" fmla="*/ 360 w 220680"/>
                <a:gd name="textAreaRight" fmla="*/ 220320 w 220680"/>
                <a:gd name="textAreaTop" fmla="*/ 360 h 327240"/>
                <a:gd name="textAreaBottom" fmla="*/ 326880 h 327240"/>
              </a:gdLst>
              <a:ahLst/>
              <a:rect l="textAreaLeft" t="textAreaTop" r="textAreaRight" b="textAreaBottom"/>
              <a:pathLst>
                <a:path w="21600" h="32013">
                  <a:moveTo>
                    <a:pt x="156" y="0"/>
                  </a:moveTo>
                  <a:arcTo wR="156" hR="156" stAng="16200000" swAng="-5400000"/>
                  <a:lnTo>
                    <a:pt x="0" y="31857"/>
                  </a:lnTo>
                  <a:arcTo wR="156" hR="156" stAng="10800000" swAng="-5400000"/>
                  <a:lnTo>
                    <a:pt x="21444" y="32013"/>
                  </a:lnTo>
                  <a:arcTo wR="156" hR="156" stAng="5400000" swAng="-5400000"/>
                  <a:lnTo>
                    <a:pt x="21600" y="156"/>
                  </a:lnTo>
                  <a:arcTo wR="156" hR="15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65120" y="3062160"/>
              <a:ext cx="217440" cy="322560"/>
              <a:chOff x="465120" y="3062160"/>
              <a:chExt cx="217440" cy="322560"/>
            </a:xfrm>
          </p:grpSpPr>
          <p:sp>
            <p:nvSpPr>
              <p:cNvPr id="313" name=""/>
              <p:cNvSpPr/>
              <p:nvPr/>
            </p:nvSpPr>
            <p:spPr>
              <a:xfrm>
                <a:off x="468360" y="3062160"/>
                <a:ext cx="214200" cy="322560"/>
              </a:xfrm>
              <a:custGeom>
                <a:avLst/>
                <a:gdLst>
                  <a:gd name="textAreaLeft" fmla="*/ 360 w 214200"/>
                  <a:gd name="textAreaRight" fmla="*/ 213840 w 214200"/>
                  <a:gd name="textAreaTop" fmla="*/ 360 h 322560"/>
                  <a:gd name="textAreaBottom" fmla="*/ 322200 h 322560"/>
                </a:gdLst>
                <a:ahLst/>
                <a:rect l="textAreaLeft" t="textAreaTop" r="textAreaRight" b="textAreaBottom"/>
                <a:pathLst>
                  <a:path w="21600" h="32509">
                    <a:moveTo>
                      <a:pt x="161" y="0"/>
                    </a:moveTo>
                    <a:arcTo wR="161" hR="161" stAng="16200000" swAng="-5400000"/>
                    <a:lnTo>
                      <a:pt x="0" y="32348"/>
                    </a:lnTo>
                    <a:arcTo wR="161" hR="161" stAng="10800000" swAng="-5400000"/>
                    <a:lnTo>
                      <a:pt x="21439" y="32509"/>
                    </a:lnTo>
                    <a:arcTo wR="161" hR="161" stAng="5400000" swAng="-5400000"/>
                    <a:lnTo>
                      <a:pt x="21600" y="161"/>
                    </a:lnTo>
                    <a:arcTo wR="161" hR="16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465120" y="3062160"/>
                <a:ext cx="212760" cy="317520"/>
                <a:chOff x="465120" y="3062160"/>
                <a:chExt cx="212760" cy="3175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68360" y="3062160"/>
                  <a:ext cx="209520" cy="317520"/>
                </a:xfrm>
                <a:custGeom>
                  <a:avLst/>
                  <a:gdLst>
                    <a:gd name="textAreaLeft" fmla="*/ 360 w 209520"/>
                    <a:gd name="textAreaRight" fmla="*/ 209160 w 209520"/>
                    <a:gd name="textAreaTop" fmla="*/ 360 h 317520"/>
                    <a:gd name="textAreaBottom" fmla="*/ 317160 h 317520"/>
                  </a:gdLst>
                  <a:ahLst/>
                  <a:rect l="textAreaLeft" t="textAreaTop" r="textAreaRight" b="textAreaBottom"/>
                  <a:pathLst>
                    <a:path w="21600" h="32715">
                      <a:moveTo>
                        <a:pt x="163" y="0"/>
                      </a:moveTo>
                      <a:arcTo wR="163" hR="163" stAng="16200000" swAng="-5400000"/>
                      <a:lnTo>
                        <a:pt x="0" y="32552"/>
                      </a:lnTo>
                      <a:arcTo wR="163" hR="163" stAng="10800000" swAng="-5400000"/>
                      <a:lnTo>
                        <a:pt x="21437" y="32715"/>
                      </a:lnTo>
                      <a:arcTo wR="163" hR="163" stAng="5400000" swAng="-5400000"/>
                      <a:lnTo>
                        <a:pt x="21600" y="163"/>
                      </a:lnTo>
                      <a:arcTo wR="163" hR="163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65120" y="3062160"/>
                  <a:ext cx="211680" cy="314280"/>
                  <a:chOff x="465120" y="3062160"/>
                  <a:chExt cx="211680" cy="3142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68360" y="3062160"/>
                    <a:ext cx="206280" cy="314280"/>
                  </a:xfrm>
                  <a:custGeom>
                    <a:avLst/>
                    <a:gdLst>
                      <a:gd name="textAreaLeft" fmla="*/ 360 w 206280"/>
                      <a:gd name="textAreaRight" fmla="*/ 205920 w 206280"/>
                      <a:gd name="textAreaTop" fmla="*/ 360 h 314280"/>
                      <a:gd name="textAreaBottom" fmla="*/ 313920 h 314280"/>
                    </a:gdLst>
                    <a:ahLst/>
                    <a:rect l="textAreaLeft" t="textAreaTop" r="textAreaRight" b="textAreaBottom"/>
                    <a:pathLst>
                      <a:path w="21600" h="32889">
                        <a:moveTo>
                          <a:pt x="166" y="0"/>
                        </a:moveTo>
                        <a:arcTo wR="166" hR="166" stAng="16200000" swAng="-5400000"/>
                        <a:lnTo>
                          <a:pt x="0" y="32723"/>
                        </a:lnTo>
                        <a:arcTo wR="166" hR="166" stAng="10800000" swAng="-5400000"/>
                        <a:lnTo>
                          <a:pt x="21434" y="32889"/>
                        </a:lnTo>
                        <a:arcTo wR="166" hR="166" stAng="5400000" swAng="-5400000"/>
                        <a:lnTo>
                          <a:pt x="21600" y="166"/>
                        </a:lnTo>
                        <a:arcTo wR="166" hR="16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465120" y="3062160"/>
                    <a:ext cx="211680" cy="311400"/>
                    <a:chOff x="465120" y="3062160"/>
                    <a:chExt cx="211680" cy="3114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68360" y="3062160"/>
                      <a:ext cx="204840" cy="311400"/>
                    </a:xfrm>
                    <a:custGeom>
                      <a:avLst/>
                      <a:gdLst>
                        <a:gd name="textAreaLeft" fmla="*/ 360 w 204840"/>
                        <a:gd name="textAreaRight" fmla="*/ 204480 w 204840"/>
                        <a:gd name="textAreaTop" fmla="*/ 360 h 311400"/>
                        <a:gd name="textAreaBottom" fmla="*/ 311040 h 311400"/>
                      </a:gdLst>
                      <a:ahLst/>
                      <a:rect l="textAreaLeft" t="textAreaTop" r="textAreaRight" b="textAreaBottom"/>
                      <a:pathLst>
                        <a:path w="21600" h="32817">
                          <a:moveTo>
                            <a:pt x="168" y="0"/>
                          </a:moveTo>
                          <a:arcTo wR="168" hR="168" stAng="16200000" swAng="-5400000"/>
                          <a:lnTo>
                            <a:pt x="0" y="32649"/>
                          </a:lnTo>
                          <a:arcTo wR="168" hR="168" stAng="10800000" swAng="-5400000"/>
                          <a:lnTo>
                            <a:pt x="21432" y="32817"/>
                          </a:lnTo>
                          <a:arcTo wR="168" hR="168" stAng="5400000" swAng="-5400000"/>
                          <a:lnTo>
                            <a:pt x="21600" y="168"/>
                          </a:lnTo>
                          <a:arcTo wR="168" hR="168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465120" y="3062160"/>
                      <a:ext cx="211680" cy="311400"/>
                      <a:chOff x="465120" y="3062160"/>
                      <a:chExt cx="211680" cy="311400"/>
                    </a:xfrm>
                  </p:grpSpPr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468360" y="3062160"/>
                        <a:ext cx="204840" cy="311400"/>
                      </a:xfrm>
                      <a:custGeom>
                        <a:avLst/>
                        <a:gdLst>
                          <a:gd name="textAreaLeft" fmla="*/ 360 w 204840"/>
                          <a:gd name="textAreaRight" fmla="*/ 204480 w 204840"/>
                          <a:gd name="textAreaTop" fmla="*/ 360 h 311400"/>
                          <a:gd name="textAreaBottom" fmla="*/ 311040 h 311400"/>
                        </a:gdLst>
                        <a:ahLst/>
                        <a:rect l="textAreaLeft" t="textAreaTop" r="textAreaRight" b="textAreaBottom"/>
                        <a:pathLst>
                          <a:path w="21600" h="32817">
                            <a:moveTo>
                              <a:pt x="168" y="0"/>
                            </a:moveTo>
                            <a:arcTo wR="168" hR="168" stAng="16200000" swAng="-5400000"/>
                            <a:lnTo>
                              <a:pt x="0" y="32649"/>
                            </a:lnTo>
                            <a:arcTo wR="168" hR="168" stAng="10800000" swAng="-5400000"/>
                            <a:lnTo>
                              <a:pt x="21432" y="32817"/>
                            </a:lnTo>
                            <a:arcTo wR="168" hR="168" stAng="5400000" swAng="-5400000"/>
                            <a:lnTo>
                              <a:pt x="21600" y="168"/>
                            </a:lnTo>
                            <a:arcTo wR="168" hR="168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465120" y="3062160"/>
                        <a:ext cx="211680" cy="294480"/>
                      </a:xfrm>
                      <a:custGeom>
                        <a:avLst/>
                        <a:gdLst>
                          <a:gd name="textAreaLeft" fmla="*/ 360 w 211680"/>
                          <a:gd name="textAreaRight" fmla="*/ 211320 w 211680"/>
                          <a:gd name="textAreaTop" fmla="*/ 360 h 294480"/>
                          <a:gd name="textAreaBottom" fmla="*/ 294120 h 294480"/>
                        </a:gdLst>
                        <a:ahLst/>
                        <a:rect l="textAreaLeft" t="textAreaTop" r="textAreaRight" b="textAreaBottom"/>
                        <a:pathLst>
                          <a:path w="21600" h="30035">
                            <a:moveTo>
                              <a:pt x="168" y="0"/>
                            </a:moveTo>
                            <a:arcTo wR="168" hR="168" stAng="16200000" swAng="-5400000"/>
                            <a:lnTo>
                              <a:pt x="0" y="29867"/>
                            </a:lnTo>
                            <a:arcTo wR="168" hR="168" stAng="10800000" swAng="-5400000"/>
                            <a:lnTo>
                              <a:pt x="21432" y="30035"/>
                            </a:lnTo>
                            <a:arcTo wR="168" hR="168" stAng="5400000" swAng="-5400000"/>
                            <a:lnTo>
                              <a:pt x="21600" y="168"/>
                            </a:lnTo>
                            <a:arcTo wR="168" hR="168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</a:t>
                        </a: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12880" y="1049400"/>
            <a:ext cx="951552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12880" y="1503360"/>
            <a:ext cx="9515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Redistribuição da Valorização Imobiliá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124080"/>
            <a:ext cx="100807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recursos obtidos com a aplicação dos instrumentos de redistribuição da valorização imobiliária deve compor um Fundo Municipal gerido democrat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stinação desses recursos deve obedecer as diretrizes do Estatuto da C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327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42760" y="2430360"/>
            <a:ext cx="150840" cy="2940120"/>
            <a:chOff x="842760" y="2430360"/>
            <a:chExt cx="150840" cy="2940120"/>
          </a:xfrm>
        </p:grpSpPr>
        <p:sp>
          <p:nvSpPr>
            <p:cNvPr id="329" name=""/>
            <p:cNvSpPr/>
            <p:nvPr/>
          </p:nvSpPr>
          <p:spPr>
            <a:xfrm>
              <a:off x="849240" y="2430360"/>
              <a:ext cx="144360" cy="2940120"/>
            </a:xfrm>
            <a:custGeom>
              <a:avLst/>
              <a:gdLst>
                <a:gd name="textAreaLeft" fmla="*/ 360 w 144360"/>
                <a:gd name="textAreaRight" fmla="*/ 144000 w 144360"/>
                <a:gd name="textAreaTop" fmla="*/ 360 h 2940120"/>
                <a:gd name="textAreaBottom" fmla="*/ 2939760 h 2940120"/>
              </a:gdLst>
              <a:ahLst/>
              <a:rect l="textAreaLeft" t="textAreaTop" r="textAreaRight" b="textAreaBottom"/>
              <a:pathLst>
                <a:path w="21600" h="438878">
                  <a:moveTo>
                    <a:pt x="240" y="0"/>
                  </a:moveTo>
                  <a:arcTo wR="240" hR="240" stAng="16200000" swAng="-5400000"/>
                  <a:lnTo>
                    <a:pt x="0" y="438638"/>
                  </a:lnTo>
                  <a:arcTo wR="240" hR="240" stAng="10800000" swAng="-5400000"/>
                  <a:lnTo>
                    <a:pt x="21360" y="438878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842760" y="2430360"/>
              <a:ext cx="144720" cy="2933640"/>
              <a:chOff x="842760" y="2430360"/>
              <a:chExt cx="144720" cy="2933640"/>
            </a:xfrm>
          </p:grpSpPr>
          <p:sp>
            <p:nvSpPr>
              <p:cNvPr id="331" name=""/>
              <p:cNvSpPr/>
              <p:nvPr/>
            </p:nvSpPr>
            <p:spPr>
              <a:xfrm>
                <a:off x="849240" y="2430360"/>
                <a:ext cx="138240" cy="2933640"/>
              </a:xfrm>
              <a:custGeom>
                <a:avLst/>
                <a:gdLst>
                  <a:gd name="textAreaLeft" fmla="*/ 360 w 138240"/>
                  <a:gd name="textAreaRight" fmla="*/ 137880 w 138240"/>
                  <a:gd name="textAreaTop" fmla="*/ 360 h 2933640"/>
                  <a:gd name="textAreaBottom" fmla="*/ 2933280 h 2933640"/>
                </a:gdLst>
                <a:ahLst/>
                <a:rect l="textAreaLeft" t="textAreaTop" r="textAreaRight" b="textAreaBottom"/>
                <a:pathLst>
                  <a:path w="21600" h="457247">
                    <a:moveTo>
                      <a:pt x="251" y="0"/>
                    </a:moveTo>
                    <a:arcTo wR="251" hR="251" stAng="16200000" swAng="-5400000"/>
                    <a:lnTo>
                      <a:pt x="0" y="456996"/>
                    </a:lnTo>
                    <a:arcTo wR="251" hR="251" stAng="10800000" swAng="-5400000"/>
                    <a:lnTo>
                      <a:pt x="21349" y="457247"/>
                    </a:lnTo>
                    <a:arcTo wR="251" hR="251" stAng="5400000" swAng="-5400000"/>
                    <a:lnTo>
                      <a:pt x="21600" y="251"/>
                    </a:lnTo>
                    <a:arcTo wR="251" hR="25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842760" y="2430360"/>
                <a:ext cx="141480" cy="2932200"/>
                <a:chOff x="842760" y="2430360"/>
                <a:chExt cx="141480" cy="29322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49240" y="2430360"/>
                  <a:ext cx="135000" cy="2932200"/>
                </a:xfrm>
                <a:custGeom>
                  <a:avLst/>
                  <a:gdLst>
                    <a:gd name="textAreaLeft" fmla="*/ 360 w 135000"/>
                    <a:gd name="textAreaRight" fmla="*/ 134640 w 135000"/>
                    <a:gd name="textAreaTop" fmla="*/ 360 h 2932200"/>
                    <a:gd name="textAreaBottom" fmla="*/ 2931840 h 2932200"/>
                  </a:gdLst>
                  <a:ahLst/>
                  <a:rect l="textAreaLeft" t="textAreaTop" r="textAreaRight" b="textAreaBottom"/>
                  <a:pathLst>
                    <a:path w="21600" h="467962">
                      <a:moveTo>
                        <a:pt x="257" y="0"/>
                      </a:moveTo>
                      <a:arcTo wR="257" hR="257" stAng="16200000" swAng="-5400000"/>
                      <a:lnTo>
                        <a:pt x="0" y="467705"/>
                      </a:lnTo>
                      <a:arcTo wR="257" hR="257" stAng="10800000" swAng="-5400000"/>
                      <a:lnTo>
                        <a:pt x="21343" y="467962"/>
                      </a:lnTo>
                      <a:arcTo wR="257" hR="257" stAng="5400000" swAng="-5400000"/>
                      <a:lnTo>
                        <a:pt x="21600" y="257"/>
                      </a:lnTo>
                      <a:arcTo wR="257" hR="257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842760" y="2430360"/>
                  <a:ext cx="141480" cy="2928960"/>
                  <a:chOff x="842760" y="2430360"/>
                  <a:chExt cx="141480" cy="29289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849240" y="2430360"/>
                    <a:ext cx="131760" cy="2928960"/>
                  </a:xfrm>
                  <a:custGeom>
                    <a:avLst/>
                    <a:gdLst>
                      <a:gd name="textAreaLeft" fmla="*/ 360 w 131760"/>
                      <a:gd name="textAreaRight" fmla="*/ 131400 w 131760"/>
                      <a:gd name="textAreaTop" fmla="*/ 360 h 2928960"/>
                      <a:gd name="textAreaBottom" fmla="*/ 2928600 h 2928960"/>
                    </a:gdLst>
                    <a:ahLst/>
                    <a:rect l="textAreaLeft" t="textAreaTop" r="textAreaRight" b="textAreaBottom"/>
                    <a:pathLst>
                      <a:path w="21600" h="478908">
                        <a:moveTo>
                          <a:pt x="263" y="0"/>
                        </a:moveTo>
                        <a:arcTo wR="263" hR="263" stAng="16200000" swAng="-5400000"/>
                        <a:lnTo>
                          <a:pt x="0" y="478645"/>
                        </a:lnTo>
                        <a:arcTo wR="263" hR="263" stAng="10800000" swAng="-5400000"/>
                        <a:lnTo>
                          <a:pt x="21337" y="478908"/>
                        </a:lnTo>
                        <a:arcTo wR="263" hR="263" stAng="5400000" swAng="-5400000"/>
                        <a:lnTo>
                          <a:pt x="21600" y="263"/>
                        </a:lnTo>
                        <a:arcTo wR="263" hR="263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842760" y="2430360"/>
                    <a:ext cx="141480" cy="2925720"/>
                    <a:chOff x="842760" y="2430360"/>
                    <a:chExt cx="141480" cy="29257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849240" y="2430360"/>
                      <a:ext cx="130320" cy="2925720"/>
                    </a:xfrm>
                    <a:custGeom>
                      <a:avLst/>
                      <a:gdLst>
                        <a:gd name="textAreaLeft" fmla="*/ 360 w 130320"/>
                        <a:gd name="textAreaRight" fmla="*/ 129960 w 130320"/>
                        <a:gd name="textAreaTop" fmla="*/ 360 h 2925720"/>
                        <a:gd name="textAreaBottom" fmla="*/ 2925360 h 2925720"/>
                      </a:gdLst>
                      <a:ahLst/>
                      <a:rect l="textAreaLeft" t="textAreaTop" r="textAreaRight" b="textAreaBottom"/>
                      <a:pathLst>
                        <a:path w="21600" h="483650">
                          <a:moveTo>
                            <a:pt x="263" y="0"/>
                          </a:moveTo>
                          <a:arcTo wR="263" hR="263" stAng="16200000" swAng="-5400000"/>
                          <a:lnTo>
                            <a:pt x="0" y="483387"/>
                          </a:lnTo>
                          <a:arcTo wR="263" hR="263" stAng="10800000" swAng="-5400000"/>
                          <a:lnTo>
                            <a:pt x="21337" y="483650"/>
                          </a:lnTo>
                          <a:arcTo wR="263" hR="263" stAng="5400000" swAng="-5400000"/>
                          <a:lnTo>
                            <a:pt x="21600" y="263"/>
                          </a:lnTo>
                          <a:arcTo wR="263" hR="263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8" name=""/>
                    <p:cNvGrpSpPr/>
                    <p:nvPr/>
                  </p:nvGrpSpPr>
                  <p:grpSpPr>
                    <a:xfrm>
                      <a:off x="842760" y="2430360"/>
                      <a:ext cx="141480" cy="2924280"/>
                      <a:chOff x="842760" y="2430360"/>
                      <a:chExt cx="141480" cy="2924280"/>
                    </a:xfrm>
                  </p:grpSpPr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49240" y="2430360"/>
                        <a:ext cx="128520" cy="2924280"/>
                      </a:xfrm>
                      <a:custGeom>
                        <a:avLst/>
                        <a:gdLst>
                          <a:gd name="textAreaLeft" fmla="*/ 360 w 128520"/>
                          <a:gd name="textAreaRight" fmla="*/ 128160 w 128520"/>
                          <a:gd name="textAreaTop" fmla="*/ 360 h 2924280"/>
                          <a:gd name="textAreaBottom" fmla="*/ 2923920 h 2924280"/>
                        </a:gdLst>
                        <a:ahLst/>
                        <a:rect l="textAreaLeft" t="textAreaTop" r="textAreaRight" b="textAreaBottom"/>
                        <a:pathLst>
                          <a:path w="21600" h="490163">
                            <a:moveTo>
                              <a:pt x="270" y="0"/>
                            </a:moveTo>
                            <a:arcTo wR="270" hR="270" stAng="16200000" swAng="-5400000"/>
                            <a:lnTo>
                              <a:pt x="0" y="489893"/>
                            </a:lnTo>
                            <a:arcTo wR="270" hR="270" stAng="10800000" swAng="-5400000"/>
                            <a:lnTo>
                              <a:pt x="21330" y="490163"/>
                            </a:lnTo>
                            <a:arcTo wR="270" hR="270" stAng="5400000" swAng="-5400000"/>
                            <a:lnTo>
                              <a:pt x="21600" y="270"/>
                            </a:lnTo>
                            <a:arcTo wR="270" hR="27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42760" y="2430360"/>
                        <a:ext cx="141480" cy="2721240"/>
                      </a:xfrm>
                      <a:custGeom>
                        <a:avLst/>
                        <a:gdLst>
                          <a:gd name="textAreaLeft" fmla="*/ 360 w 141480"/>
                          <a:gd name="textAreaRight" fmla="*/ 141120 w 141480"/>
                          <a:gd name="textAreaTop" fmla="*/ 360 h 2721240"/>
                          <a:gd name="textAreaBottom" fmla="*/ 2720880 h 2721240"/>
                        </a:gdLst>
                        <a:ahLst/>
                        <a:rect l="textAreaLeft" t="textAreaTop" r="textAreaRight" b="textAreaBottom"/>
                        <a:pathLst>
                          <a:path w="21600" h="414457">
                            <a:moveTo>
                              <a:pt x="270" y="0"/>
                            </a:moveTo>
                            <a:arcTo wR="270" hR="270" stAng="16200000" swAng="-5400000"/>
                            <a:lnTo>
                              <a:pt x="0" y="414187"/>
                            </a:lnTo>
                            <a:arcTo wR="270" hR="270" stAng="10800000" swAng="-5400000"/>
                            <a:lnTo>
                              <a:pt x="21330" y="414457"/>
                            </a:lnTo>
                            <a:arcTo wR="270" hR="270" stAng="5400000" swAng="-5400000"/>
                            <a:lnTo>
                              <a:pt x="21600" y="270"/>
                            </a:lnTo>
                            <a:arcTo wR="270" hR="27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2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ts val="231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</a:t>
                        </a:r>
                        <a:endPara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28600" y="2819520"/>
            <a:ext cx="10207800" cy="3804840"/>
            <a:chOff x="228600" y="2819520"/>
            <a:chExt cx="10207800" cy="3804840"/>
          </a:xfrm>
        </p:grpSpPr>
        <p:sp>
          <p:nvSpPr>
            <p:cNvPr id="43" name=""/>
            <p:cNvSpPr/>
            <p:nvPr/>
          </p:nvSpPr>
          <p:spPr>
            <a:xfrm>
              <a:off x="228600" y="2819520"/>
              <a:ext cx="10207800" cy="2511360"/>
            </a:xfrm>
            <a:prstGeom prst="roundRect">
              <a:avLst>
                <a:gd name="adj" fmla="val 6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8600" y="2819520"/>
              <a:ext cx="10207800" cy="38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33360" indent="-333360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333360"/>
                  <a:tab algn="l" pos="781200"/>
                  <a:tab algn="l" pos="1230480"/>
                  <a:tab algn="l" pos="1679400"/>
                  <a:tab algn="l" pos="2128680"/>
                  <a:tab algn="l" pos="2577960"/>
                  <a:tab algn="l" pos="3027240"/>
                  <a:tab algn="l" pos="3476520"/>
                  <a:tab algn="l" pos="3925800"/>
                  <a:tab algn="l" pos="4375080"/>
                  <a:tab algn="l" pos="4824360"/>
                  <a:tab algn="l" pos="5273640"/>
                  <a:tab algn="l" pos="5722920"/>
                  <a:tab algn="l" pos="6172200"/>
                  <a:tab algn="l" pos="6621480"/>
                  <a:tab algn="l" pos="7070760"/>
                  <a:tab algn="l" pos="7520040"/>
                  <a:tab algn="l" pos="7969320"/>
                  <a:tab algn="l" pos="8418600"/>
                  <a:tab algn="l" pos="8867880"/>
                  <a:tab algn="l" pos="9317160"/>
                  <a:tab algn="l" pos="9410760"/>
                  <a:tab algn="l" pos="1013472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 território urbano e rural é produto de investimentos e trabalhos coletivos. Portanto, são riquezas sociais. A valorização imobiliária é definida por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3360" indent="-333360">
                <a:lnSpc>
                  <a:spcPct val="93000"/>
                </a:lnSpc>
                <a:spcBef>
                  <a:spcPts val="799"/>
                </a:spcBef>
                <a:buClr>
                  <a:srgbClr val="000000"/>
                </a:buClr>
                <a:buSzPct val="200000"/>
                <a:buFont typeface="Arial"/>
                <a:buChar char="•"/>
                <a:tabLst>
                  <a:tab algn="l" pos="333360"/>
                  <a:tab algn="l" pos="781200"/>
                  <a:tab algn="l" pos="1230480"/>
                  <a:tab algn="l" pos="1679400"/>
                  <a:tab algn="l" pos="2128680"/>
                  <a:tab algn="l" pos="2577960"/>
                  <a:tab algn="l" pos="3027240"/>
                  <a:tab algn="l" pos="3476520"/>
                  <a:tab algn="l" pos="3925800"/>
                  <a:tab algn="l" pos="4375080"/>
                  <a:tab algn="l" pos="4824360"/>
                  <a:tab algn="l" pos="5273640"/>
                  <a:tab algn="l" pos="5722920"/>
                  <a:tab algn="l" pos="6172200"/>
                  <a:tab algn="l" pos="6621480"/>
                  <a:tab algn="l" pos="7070760"/>
                  <a:tab algn="l" pos="7520040"/>
                  <a:tab algn="l" pos="7969320"/>
                  <a:tab algn="l" pos="8418600"/>
                  <a:tab algn="l" pos="8867880"/>
                  <a:tab algn="l" pos="9317160"/>
                  <a:tab algn="l" pos="9410760"/>
                  <a:tab algn="l" pos="1013472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stribuição de investimentos públicos em infra-estrutura, equipamentos e serviços públicos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3360" indent="-333360">
                <a:lnSpc>
                  <a:spcPct val="93000"/>
                </a:lnSpc>
                <a:spcBef>
                  <a:spcPts val="799"/>
                </a:spcBef>
                <a:buClr>
                  <a:srgbClr val="000000"/>
                </a:buClr>
                <a:buSzPct val="200000"/>
                <a:buFont typeface="Arial"/>
                <a:buChar char="•"/>
                <a:tabLst>
                  <a:tab algn="l" pos="333360"/>
                  <a:tab algn="l" pos="781200"/>
                  <a:tab algn="l" pos="1230480"/>
                  <a:tab algn="l" pos="1679400"/>
                  <a:tab algn="l" pos="2128680"/>
                  <a:tab algn="l" pos="2577960"/>
                  <a:tab algn="l" pos="3027240"/>
                  <a:tab algn="l" pos="3476520"/>
                  <a:tab algn="l" pos="3925800"/>
                  <a:tab algn="l" pos="4375080"/>
                  <a:tab algn="l" pos="4824360"/>
                  <a:tab algn="l" pos="5273640"/>
                  <a:tab algn="l" pos="5722920"/>
                  <a:tab algn="l" pos="6172200"/>
                  <a:tab algn="l" pos="6621480"/>
                  <a:tab algn="l" pos="7070760"/>
                  <a:tab algn="l" pos="7520040"/>
                  <a:tab algn="l" pos="7969320"/>
                  <a:tab algn="l" pos="8418600"/>
                  <a:tab algn="l" pos="8867880"/>
                  <a:tab algn="l" pos="9317160"/>
                  <a:tab algn="l" pos="9410760"/>
                  <a:tab algn="l" pos="1013472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udança do solo rural para solo urbano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3360" indent="-333360">
                <a:lnSpc>
                  <a:spcPct val="93000"/>
                </a:lnSpc>
                <a:spcBef>
                  <a:spcPts val="799"/>
                </a:spcBef>
                <a:buClr>
                  <a:srgbClr val="000000"/>
                </a:buClr>
                <a:buSzPct val="200000"/>
                <a:buFont typeface="Arial"/>
                <a:buChar char="•"/>
                <a:tabLst>
                  <a:tab algn="l" pos="333360"/>
                  <a:tab algn="l" pos="781200"/>
                  <a:tab algn="l" pos="1230480"/>
                  <a:tab algn="l" pos="1679400"/>
                  <a:tab algn="l" pos="2128680"/>
                  <a:tab algn="l" pos="2577960"/>
                  <a:tab algn="l" pos="3027240"/>
                  <a:tab algn="l" pos="3476520"/>
                  <a:tab algn="l" pos="3925800"/>
                  <a:tab algn="l" pos="4375080"/>
                  <a:tab algn="l" pos="4824360"/>
                  <a:tab algn="l" pos="5273640"/>
                  <a:tab algn="l" pos="5722920"/>
                  <a:tab algn="l" pos="6172200"/>
                  <a:tab algn="l" pos="6621480"/>
                  <a:tab algn="l" pos="7070760"/>
                  <a:tab algn="l" pos="7520040"/>
                  <a:tab algn="l" pos="7969320"/>
                  <a:tab algn="l" pos="8418600"/>
                  <a:tab algn="l" pos="8867880"/>
                  <a:tab algn="l" pos="9317160"/>
                  <a:tab algn="l" pos="9410760"/>
                  <a:tab algn="l" pos="1013472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arâmetros de uso, ocupação e parcelamento do solo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3360" indent="-333360">
                <a:lnSpc>
                  <a:spcPct val="93000"/>
                </a:lnSpc>
                <a:spcBef>
                  <a:spcPts val="799"/>
                </a:spcBef>
                <a:buClr>
                  <a:srgbClr val="000000"/>
                </a:buClr>
                <a:buSzPct val="200000"/>
                <a:buFont typeface="Arial"/>
                <a:buChar char="•"/>
                <a:tabLst>
                  <a:tab algn="l" pos="333360"/>
                  <a:tab algn="l" pos="781200"/>
                  <a:tab algn="l" pos="1230480"/>
                  <a:tab algn="l" pos="1679400"/>
                  <a:tab algn="l" pos="2128680"/>
                  <a:tab algn="l" pos="2577960"/>
                  <a:tab algn="l" pos="3027240"/>
                  <a:tab algn="l" pos="3476520"/>
                  <a:tab algn="l" pos="3925800"/>
                  <a:tab algn="l" pos="4375080"/>
                  <a:tab algn="l" pos="4824360"/>
                  <a:tab algn="l" pos="5273640"/>
                  <a:tab algn="l" pos="5722920"/>
                  <a:tab algn="l" pos="6172200"/>
                  <a:tab algn="l" pos="6621480"/>
                  <a:tab algn="l" pos="7070760"/>
                  <a:tab algn="l" pos="7520040"/>
                  <a:tab algn="l" pos="7969320"/>
                  <a:tab algn="l" pos="8418600"/>
                  <a:tab algn="l" pos="8867880"/>
                  <a:tab algn="l" pos="9317160"/>
                  <a:tab algn="l" pos="9410760"/>
                  <a:tab algn="l" pos="1013472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esenvolvimento econômico e investimentos privados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857160" y="1373040"/>
            <a:ext cx="8963280" cy="1090800"/>
            <a:chOff x="857160" y="1373040"/>
            <a:chExt cx="8963280" cy="1090800"/>
          </a:xfrm>
        </p:grpSpPr>
        <p:sp>
          <p:nvSpPr>
            <p:cNvPr id="46" name=""/>
            <p:cNvSpPr/>
            <p:nvPr/>
          </p:nvSpPr>
          <p:spPr>
            <a:xfrm>
              <a:off x="857160" y="1373040"/>
              <a:ext cx="8963280" cy="109080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57160" y="1646280"/>
              <a:ext cx="89632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 Black"/>
                </a:rPr>
                <a:t>Produção social da valorização imobiliár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12720" y="3222720"/>
            <a:ext cx="962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84120" indent="-38412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8412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936792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O sentido da gestão social da valorização imobiliária é REDISTRIBUIR os custos e benefícios da produção das cida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12720" y="3222720"/>
            <a:ext cx="962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84120" indent="-384120">
              <a:lnSpc>
                <a:spcPct val="93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38412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936792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MO IMPLEMENTAR  UMA ESTRATÉGIA DE GESTÃO SOCIAL  DA VALORIZAÇÃO DA TERRA EM SUA CID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819520"/>
            <a:ext cx="1021068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A valorização decorrente de ações públicas normalmente é apropriada de forma privada pelo proprietário do imóvel, sem que haja qualquer retorno à coletivida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Esse padrão de apropriação da valorização imobiliária produzida coletivamente aprofunda a exclusão e desigualde sócio-territori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57160" y="1373040"/>
            <a:ext cx="8963280" cy="1090800"/>
            <a:chOff x="857160" y="1373040"/>
            <a:chExt cx="8963280" cy="1090800"/>
          </a:xfrm>
        </p:grpSpPr>
        <p:sp>
          <p:nvSpPr>
            <p:cNvPr id="50" name=""/>
            <p:cNvSpPr/>
            <p:nvPr/>
          </p:nvSpPr>
          <p:spPr>
            <a:xfrm>
              <a:off x="857160" y="1373040"/>
              <a:ext cx="8963280" cy="109080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7160" y="1419840"/>
              <a:ext cx="89632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 Black"/>
                </a:rPr>
                <a:t>Apropriação privada da valorização imobiliár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09480" y="1332000"/>
            <a:ext cx="9377640" cy="1128600"/>
            <a:chOff x="609480" y="1332000"/>
            <a:chExt cx="9377640" cy="1128600"/>
          </a:xfrm>
        </p:grpSpPr>
        <p:sp>
          <p:nvSpPr>
            <p:cNvPr id="53" name=""/>
            <p:cNvSpPr/>
            <p:nvPr/>
          </p:nvSpPr>
          <p:spPr>
            <a:xfrm>
              <a:off x="609480" y="1332000"/>
              <a:ext cx="9377640" cy="11286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1396080"/>
              <a:ext cx="93776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 Black"/>
                </a:rPr>
                <a:t>Redistribuição da Valorização Fundiár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99"/>
                  </a:solidFill>
                  <a:latin typeface="Arial Black"/>
                </a:rPr>
                <a:t>Estatuto da Cida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28600" y="2786040"/>
            <a:ext cx="10210680" cy="26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rtigo 2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X – justa distribuição dos benefícios e ônus decorrentes do processo de urban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XI – recuperação dos investimentos do Poder Público de que tenha resultado a valorização imobili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335600"/>
            <a:ext cx="8975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nstrumentos para gestão social da valorização da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532240"/>
            <a:ext cx="1021068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 tributário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mposto Predial e Territorial Urbano (IPTU) e Imposto de Transmissão de Bens Intervivos (ITBI); Imposto Territorial Rural (ITR); contribuição de melhoria, isenções e benefícios fiscais,  Taxas (de esgoto, limpeza urbana e etc) preços públicos/ tarifas (licença de uso e autorização de funcionamento ou habite-se);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 urbanístic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 Outorga Onerosa, Operação Urbana, Direito de Preempção e Consórcio Imobiliár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stão democrática e particip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3960" y="1116000"/>
            <a:ext cx="861876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0320" y="1432080"/>
            <a:ext cx="86187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nstrumentos tribu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00" y="3486240"/>
            <a:ext cx="9110520" cy="19987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8000" y="2425680"/>
            <a:ext cx="10150200" cy="4707720"/>
            <a:chOff x="378000" y="2425680"/>
            <a:chExt cx="10150200" cy="4707720"/>
          </a:xfrm>
        </p:grpSpPr>
        <p:sp>
          <p:nvSpPr>
            <p:cNvPr id="62" name=""/>
            <p:cNvSpPr/>
            <p:nvPr/>
          </p:nvSpPr>
          <p:spPr>
            <a:xfrm>
              <a:off x="378000" y="2425680"/>
              <a:ext cx="9107280" cy="190188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8000" y="2425680"/>
              <a:ext cx="10150200" cy="4707720"/>
              <a:chOff x="378000" y="2425680"/>
              <a:chExt cx="10150200" cy="4707720"/>
            </a:xfrm>
          </p:grpSpPr>
          <p:sp>
            <p:nvSpPr>
              <p:cNvPr id="64" name=""/>
              <p:cNvSpPr/>
              <p:nvPr/>
            </p:nvSpPr>
            <p:spPr>
              <a:xfrm>
                <a:off x="378000" y="2425680"/>
                <a:ext cx="9107280" cy="1811520"/>
              </a:xfrm>
              <a:prstGeom prst="roundRect">
                <a:avLst>
                  <a:gd name="adj" fmla="val 8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78000" y="2425680"/>
                <a:ext cx="10150200" cy="4707720"/>
                <a:chOff x="378000" y="2425680"/>
                <a:chExt cx="10150200" cy="4707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8000" y="2425680"/>
                  <a:ext cx="10150200" cy="2927520"/>
                </a:xfrm>
                <a:prstGeom prst="roundRect">
                  <a:avLst>
                    <a:gd name="adj" fmla="val 10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79440" y="2425680"/>
                  <a:ext cx="10148760" cy="47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13472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Podem ser utilizados tanto para fins arrecadatórios (função fiscal) como para fins urbanísticos (função extrafiscal)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13472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13472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Deve existir articulação entre a política tributária e a política urbana.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13472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Ex1: IPTU progressivo no tempo, que pode ser utilizado para induzir ocupação de imóveis vazios ou simplesmente alíquotas diferenciadas de IPTU para estimular/desestimular formas de uso e ocupaçã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410760"/>
                      <a:tab algn="l" pos="1013472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Ex2: ITR dialogando com a função social da propriedade rural estabelecidas na Constituição Federal e no PDP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" name=""/>
          <p:cNvGrpSpPr/>
          <p:nvPr/>
        </p:nvGrpSpPr>
        <p:grpSpPr>
          <a:xfrm>
            <a:off x="1224000" y="1835280"/>
            <a:ext cx="8751960" cy="4089240"/>
            <a:chOff x="1224000" y="1835280"/>
            <a:chExt cx="8751960" cy="4089240"/>
          </a:xfrm>
        </p:grpSpPr>
        <p:sp>
          <p:nvSpPr>
            <p:cNvPr id="69" name=""/>
            <p:cNvSpPr/>
            <p:nvPr/>
          </p:nvSpPr>
          <p:spPr>
            <a:xfrm>
              <a:off x="1224000" y="183528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2880" y="1042920"/>
            <a:ext cx="951552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640" y="1546560"/>
            <a:ext cx="9515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P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994896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cessita de planta genérica de valores e cadastro imobiliário atu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Plano Diretor Participativo é uma oportunidade para a atualização dessas bases de inform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74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82640" y="971640"/>
            <a:ext cx="9513720" cy="11383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8360" y="1401840"/>
            <a:ext cx="9513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Progressividade do IP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8000" y="1835280"/>
            <a:ext cx="1008036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349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vidade em relação ao VALOR do imóvel: quanto mais alto o valor  o imóvel, maior a alíquota (art. 156, I, Constituição Feder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349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vidade em relação ao USO E LOCALIZAÇÃO conferido ao imóvel: usos e regiões mais valorizadas podem ter alíquota maior.(art. 156, II, Constituição Feder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349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vidade no TEMPO: alíquota progressiva no tempo para induzir a ocupação de imóveis não utilizados ou subutilizados (art. 182, 4, II, Constituição Federal e Estatuto da Cidad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24000" y="2017800"/>
            <a:ext cx="8751960" cy="4089240"/>
            <a:chOff x="1224000" y="2017800"/>
            <a:chExt cx="8751960" cy="4089240"/>
          </a:xfrm>
        </p:grpSpPr>
        <p:sp>
          <p:nvSpPr>
            <p:cNvPr id="79" name=""/>
            <p:cNvSpPr/>
            <p:nvPr/>
          </p:nvSpPr>
          <p:spPr>
            <a:xfrm>
              <a:off x="1224000" y="2017800"/>
              <a:ext cx="8751960" cy="4089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93640" y="1546560"/>
            <a:ext cx="9515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276720"/>
            <a:ext cx="99489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enda Constitucional 42/200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Município pode optar pela cobrança da totalidade do ITR desde que “não implique redução do imposto ou qualquer outra forma de reunúncia fiscal” (Artigo 153, Parágrafo 4º, Inciso 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