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02920" y="4952880"/>
            <a:ext cx="5856120" cy="34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otações que não aparecem no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12840"/>
            <a:ext cx="82216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2200"/>
            <a:ext cx="9144000" cy="68580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553080" y="6248520"/>
            <a:ext cx="218124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33000"/>
            <a:ext cx="914400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 – PROCESSO DE ELABORAÇÃO E IMPLEMENTAÇÃO DO PLANO DIRETOR PARTICIP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1385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09680"/>
            <a:ext cx="914400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mplar diferentes meios de comunicação, adequados às diferentes realidades e aos diferentes segmentos sociais do municíp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zar linguagem acessível e identificada com a realidade loc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ulgar eventos emblemáticos: lançamento do processo de elaboração do Plano; aprovação do PL a ser encaminhado à Câmara; aprovação do Plano pelo legislativo; instalação do Conse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2470320"/>
            <a:ext cx="9144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operar os novos instrumentos de política territor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práticas democráticas de planejamento e gestão territor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participar da pactuação do Plano Diretor Participativo entre diferentes setores técnicos, empresariais, popular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98720" y="1249200"/>
            <a:ext cx="5964120" cy="582120"/>
            <a:chOff x="1998720" y="1249200"/>
            <a:chExt cx="5964120" cy="582120"/>
          </a:xfrm>
        </p:grpSpPr>
        <p:sp>
          <p:nvSpPr>
            <p:cNvPr id="266" name=""/>
            <p:cNvSpPr/>
            <p:nvPr/>
          </p:nvSpPr>
          <p:spPr>
            <a:xfrm>
              <a:off x="1998720" y="1249200"/>
              <a:ext cx="5964120" cy="57492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998720" y="1249200"/>
              <a:ext cx="5960880" cy="582120"/>
              <a:chOff x="1998720" y="1249200"/>
              <a:chExt cx="5960880" cy="582120"/>
            </a:xfrm>
          </p:grpSpPr>
          <p:sp>
            <p:nvSpPr>
              <p:cNvPr id="268" name=""/>
              <p:cNvSpPr/>
              <p:nvPr/>
            </p:nvSpPr>
            <p:spPr>
              <a:xfrm>
                <a:off x="1998720" y="1249200"/>
                <a:ext cx="5960880" cy="57168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998720" y="1249200"/>
                <a:ext cx="5959440" cy="582120"/>
                <a:chOff x="1998720" y="1249200"/>
                <a:chExt cx="5959440" cy="582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998720" y="1249200"/>
                  <a:ext cx="5959440" cy="57024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1998720" y="1249200"/>
                  <a:ext cx="5959440" cy="582120"/>
                  <a:chOff x="1998720" y="1249200"/>
                  <a:chExt cx="5959440" cy="582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998720" y="1249200"/>
                    <a:ext cx="5959440" cy="57024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498760" y="1249200"/>
                    <a:ext cx="4959360" cy="5821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Capacitação dos técnicos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2241720"/>
            <a:ext cx="830592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elaboração do Plano Diretor Participativo como processo pedagógico para a construção permanente de conhecimentos, decisões e propostas cole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zada em todas as etapas do proce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 trabalhar os conteúdos do Plano Diretor Participativo a partir das realidades sócio-territoriais loc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36840" y="1249200"/>
            <a:ext cx="6078240" cy="582120"/>
            <a:chOff x="1536840" y="1249200"/>
            <a:chExt cx="6078240" cy="582120"/>
          </a:xfrm>
        </p:grpSpPr>
        <p:sp>
          <p:nvSpPr>
            <p:cNvPr id="276" name=""/>
            <p:cNvSpPr/>
            <p:nvPr/>
          </p:nvSpPr>
          <p:spPr>
            <a:xfrm>
              <a:off x="1536840" y="1249200"/>
              <a:ext cx="6078240" cy="57492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36840" y="1249200"/>
              <a:ext cx="6075360" cy="582120"/>
              <a:chOff x="1536840" y="1249200"/>
              <a:chExt cx="6075360" cy="582120"/>
            </a:xfrm>
          </p:grpSpPr>
          <p:sp>
            <p:nvSpPr>
              <p:cNvPr id="278" name=""/>
              <p:cNvSpPr/>
              <p:nvPr/>
            </p:nvSpPr>
            <p:spPr>
              <a:xfrm>
                <a:off x="1536840" y="1249200"/>
                <a:ext cx="6075360" cy="57168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536840" y="1249200"/>
                <a:ext cx="6073560" cy="582120"/>
                <a:chOff x="1536840" y="1249200"/>
                <a:chExt cx="6073560" cy="582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536840" y="1249200"/>
                  <a:ext cx="6073560" cy="57024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1536840" y="1249200"/>
                  <a:ext cx="6073560" cy="582120"/>
                  <a:chOff x="1536840" y="1249200"/>
                  <a:chExt cx="6073560" cy="5821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536840" y="1249200"/>
                    <a:ext cx="6073560" cy="57024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17800" y="1249200"/>
                    <a:ext cx="5111640" cy="5821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Capacitação da sociedade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932040" y="1219320"/>
            <a:ext cx="7275240" cy="1258920"/>
            <a:chOff x="932040" y="1219320"/>
            <a:chExt cx="7275240" cy="1258920"/>
          </a:xfrm>
        </p:grpSpPr>
        <p:sp>
          <p:nvSpPr>
            <p:cNvPr id="285" name=""/>
            <p:cNvSpPr/>
            <p:nvPr/>
          </p:nvSpPr>
          <p:spPr>
            <a:xfrm>
              <a:off x="932040" y="1219320"/>
              <a:ext cx="3165120" cy="1258920"/>
            </a:xfrm>
            <a:prstGeom prst="roundRect">
              <a:avLst>
                <a:gd name="adj" fmla="val 1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932040" y="1219320"/>
              <a:ext cx="7275240" cy="1071000"/>
              <a:chOff x="932040" y="1219320"/>
              <a:chExt cx="7275240" cy="1071000"/>
            </a:xfrm>
          </p:grpSpPr>
          <p:sp>
            <p:nvSpPr>
              <p:cNvPr id="287" name=""/>
              <p:cNvSpPr/>
              <p:nvPr/>
            </p:nvSpPr>
            <p:spPr>
              <a:xfrm>
                <a:off x="932040" y="1219320"/>
                <a:ext cx="7275240" cy="1062000"/>
              </a:xfrm>
              <a:prstGeom prst="roundRect">
                <a:avLst>
                  <a:gd name="adj" fmla="val 1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932040" y="1220760"/>
                <a:ext cx="7273800" cy="1069560"/>
                <a:chOff x="932040" y="1220760"/>
                <a:chExt cx="7273800" cy="106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932040" y="1220760"/>
                  <a:ext cx="7273800" cy="1062000"/>
                </a:xfrm>
                <a:prstGeom prst="roundRect">
                  <a:avLst>
                    <a:gd name="adj" fmla="val 14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932040" y="1220760"/>
                  <a:ext cx="7273800" cy="1069560"/>
                  <a:chOff x="932040" y="1220760"/>
                  <a:chExt cx="7273800" cy="10695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932040" y="1220760"/>
                    <a:ext cx="7273800" cy="1060560"/>
                  </a:xfrm>
                  <a:prstGeom prst="roundRect">
                    <a:avLst>
                      <a:gd name="adj" fmla="val 14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433160" y="1220760"/>
                    <a:ext cx="6269760" cy="1069560"/>
                  </a:xfrm>
                  <a:prstGeom prst="roundRect">
                    <a:avLst>
                      <a:gd name="adj" fmla="val 14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Articulação com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Câmara Municial de Vereadores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>
            <a:off x="457200" y="3124080"/>
            <a:ext cx="830592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olver os vereadores e assessores parlamentares em todas as etapas do processo d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ir, pelo menos, uma comissão de vereadores logo no início do proce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2789280"/>
            <a:ext cx="792468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LEITURA DA REALIDADE 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leitura comunitária e leitura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1280" y="1301760"/>
            <a:ext cx="8998200" cy="5408640"/>
            <a:chOff x="71280" y="1301760"/>
            <a:chExt cx="8998200" cy="5408640"/>
          </a:xfrm>
        </p:grpSpPr>
        <p:grpSp>
          <p:nvGrpSpPr>
            <p:cNvPr id="296" name=""/>
            <p:cNvGrpSpPr/>
            <p:nvPr/>
          </p:nvGrpSpPr>
          <p:grpSpPr>
            <a:xfrm>
              <a:off x="71280" y="1312920"/>
              <a:ext cx="3945240" cy="5041800"/>
              <a:chOff x="71280" y="1312920"/>
              <a:chExt cx="3945240" cy="5041800"/>
            </a:xfrm>
          </p:grpSpPr>
          <p:sp>
            <p:nvSpPr>
              <p:cNvPr id="297" name=""/>
              <p:cNvSpPr/>
              <p:nvPr/>
            </p:nvSpPr>
            <p:spPr>
              <a:xfrm>
                <a:off x="71280" y="1312920"/>
                <a:ext cx="3945240" cy="5041800"/>
              </a:xfrm>
              <a:custGeom>
                <a:avLst/>
                <a:gdLst>
                  <a:gd name="textAreaLeft" fmla="*/ 360 w 3945240"/>
                  <a:gd name="textAreaRight" fmla="*/ 3944880 w 3945240"/>
                  <a:gd name="textAreaTop" fmla="*/ 360 h 5041800"/>
                  <a:gd name="textAreaBottom" fmla="*/ 5041440 h 5041800"/>
                </a:gdLst>
                <a:ahLst/>
                <a:rect l="textAreaLeft" t="textAreaTop" r="textAreaRight" b="textAreaBottom"/>
                <a:pathLst>
                  <a:path w="21600" h="27603">
                    <a:moveTo>
                      <a:pt x="8" y="0"/>
                    </a:moveTo>
                    <a:arcTo wR="8" hR="8" stAng="16200000" swAng="-5400000"/>
                    <a:lnTo>
                      <a:pt x="0" y="27595"/>
                    </a:lnTo>
                    <a:arcTo wR="8" hR="8" stAng="10800000" swAng="-5400000"/>
                    <a:lnTo>
                      <a:pt x="21592" y="27603"/>
                    </a:lnTo>
                    <a:arcTo wR="8" hR="8" stAng="5400000" swAng="-5400000"/>
                    <a:lnTo>
                      <a:pt x="21600" y="8"/>
                    </a:lnTo>
                    <a:arcTo wR="8" hR="8" stAng="0" swAng="-5400000"/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280" y="1312920"/>
                <a:ext cx="3945240" cy="50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Leitura Técnica – quadro bás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Potencialidades e vulnerabilidades do meio fí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istribuição da população no território considerando as condições socioeconômicas, moradia; evolução nos últimos dez anos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Território econômicos, incluindo atividades informais, e evolução nos últimos dez anos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Estrutura fundiária do municíp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ercado de terras no município e evolução nos últimos dez ano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ituação da infra-estrutura urbana e equipamentos: água, esgoto, lixo, drenagem, circulação, transporte, áreas verdes, etc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967280" y="1301760"/>
              <a:ext cx="4102200" cy="4514760"/>
              <a:chOff x="4967280" y="1301760"/>
              <a:chExt cx="4102200" cy="4514760"/>
            </a:xfrm>
          </p:grpSpPr>
          <p:sp>
            <p:nvSpPr>
              <p:cNvPr id="300" name=""/>
              <p:cNvSpPr/>
              <p:nvPr/>
            </p:nvSpPr>
            <p:spPr>
              <a:xfrm>
                <a:off x="4967280" y="1301760"/>
                <a:ext cx="4102200" cy="4514760"/>
              </a:xfrm>
              <a:custGeom>
                <a:avLst/>
                <a:gdLst>
                  <a:gd name="textAreaLeft" fmla="*/ 360 w 4102200"/>
                  <a:gd name="textAreaRight" fmla="*/ 4101840 w 4102200"/>
                  <a:gd name="textAreaTop" fmla="*/ 360 h 4514760"/>
                  <a:gd name="textAreaBottom" fmla="*/ 4514400 h 4514760"/>
                </a:gdLst>
                <a:ahLst/>
                <a:rect l="textAreaLeft" t="textAreaTop" r="textAreaRight" b="textAreaBottom"/>
                <a:pathLst>
                  <a:path w="21600" h="23772">
                    <a:moveTo>
                      <a:pt x="8" y="0"/>
                    </a:moveTo>
                    <a:arcTo wR="8" hR="8" stAng="16200000" swAng="-5400000"/>
                    <a:lnTo>
                      <a:pt x="0" y="23764"/>
                    </a:lnTo>
                    <a:arcTo wR="8" hR="8" stAng="10800000" swAng="-5400000"/>
                    <a:lnTo>
                      <a:pt x="21592" y="23772"/>
                    </a:lnTo>
                    <a:arcTo wR="8" hR="8" stAng="5400000" swAng="-5400000"/>
                    <a:lnTo>
                      <a:pt x="21600" y="8"/>
                    </a:lnTo>
                    <a:arcTo wR="8" hR="8" stAng="0" swAng="-5400000"/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67280" y="1301760"/>
                <a:ext cx="4102200" cy="44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Leitura Comunitária - objetiv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 cidade é produto coletivo. Portanto, o conhecimento sobre essa cidade também deve ser construído coletivam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eve iniciar com o quadro básico da Leitura Técnic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formações qualitativas sobre os territórios comunitários, as transformações sócio-territoriais, os grupos de interesses e os conflitos entre as formas de uso e ocupação do so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Formação e multiplicação de “agentes comunitários de planejamento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35120" indent="-277920">
                  <a:lnSpc>
                    <a:spcPct val="93000"/>
                  </a:lnSpc>
                  <a:spcBef>
                    <a:spcPts val="575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lorização e potencialização do saber popul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016520" y="236052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16520" y="418932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16520" y="388476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16520" y="357984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6520" y="327492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6520" y="297036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6520" y="205596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6520" y="266544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16520" y="571356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16520" y="540864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16520" y="510372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16520" y="479916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16520" y="449424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801800" y="6477120"/>
              <a:ext cx="4672080" cy="233280"/>
              <a:chOff x="1801800" y="6477120"/>
              <a:chExt cx="4672080" cy="233280"/>
            </a:xfrm>
          </p:grpSpPr>
          <p:sp>
            <p:nvSpPr>
              <p:cNvPr id="316" name=""/>
              <p:cNvSpPr/>
              <p:nvPr/>
            </p:nvSpPr>
            <p:spPr>
              <a:xfrm>
                <a:off x="1801800" y="6477120"/>
                <a:ext cx="4672080" cy="233280"/>
              </a:xfrm>
              <a:prstGeom prst="roundRect">
                <a:avLst>
                  <a:gd name="adj" fmla="val 681"/>
                </a:avLst>
              </a:prstGeom>
              <a:solidFill>
                <a:srgbClr val="94bd5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1801800" y="6477120"/>
                <a:ext cx="4670280" cy="231480"/>
                <a:chOff x="1801800" y="6477120"/>
                <a:chExt cx="4670280" cy="231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01800" y="6477120"/>
                  <a:ext cx="4670280" cy="23148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1801800" y="6477120"/>
                  <a:ext cx="4670280" cy="231480"/>
                  <a:chOff x="1801800" y="6477120"/>
                  <a:chExt cx="4670280" cy="2314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801800" y="6477120"/>
                    <a:ext cx="4670280" cy="23148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812960" y="6477120"/>
                    <a:ext cx="4647960" cy="22716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limentação mútua; ajustes e complementaçõe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2" name=""/>
            <p:cNvSpPr/>
            <p:nvPr/>
          </p:nvSpPr>
          <p:spPr>
            <a:xfrm>
              <a:off x="4486320" y="1463760"/>
              <a:ext cx="1440" cy="501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00680" y="1447920"/>
              <a:ext cx="95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00680" y="175248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190512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284040"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56340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547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284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56340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547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importante não acumular informações e dados excessivos e desnecessários. Aprofundamento e seleção de temas específicos serão realizados na medida em que a prioridade para o município exija estudos mais detalh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67280" y="83664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0880" y="1295280"/>
            <a:ext cx="8223480" cy="984240"/>
            <a:chOff x="380880" y="1295280"/>
            <a:chExt cx="8223480" cy="984240"/>
          </a:xfrm>
        </p:grpSpPr>
        <p:sp>
          <p:nvSpPr>
            <p:cNvPr id="328" name=""/>
            <p:cNvSpPr/>
            <p:nvPr/>
          </p:nvSpPr>
          <p:spPr>
            <a:xfrm>
              <a:off x="380880" y="1295280"/>
              <a:ext cx="8223480" cy="9842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880" y="1496520"/>
              <a:ext cx="822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LEITURA TÉC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2782800"/>
            <a:ext cx="91440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tibilização da legislação urbanística com a Constituição Federal e o Estatuto da 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álise sobre a relação entre a legislação e o território atentando para os efeitos (in)desejáveis das leis e para as incongruências entre as diversas le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cação das necessidades de revisão/revogação de le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m ser observadas todas as leis municipais, estaduais e federais que incidem no ordenamento territorial do municí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212480"/>
            <a:ext cx="82296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 Black"/>
              </a:rPr>
              <a:t>LEITURA TÉCNICA: análise da legislação exist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2320920"/>
            <a:ext cx="868680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ematização, visualização e cruzamento dos dados e informações nos mapas para visualiz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rros que estão crescendo ou se esvazian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áreas com domicílios em melhores ou piores condições de infra-estrutu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ntração de população por ren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esso a equipamentos e serviços, etc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relações entre as condições de moradia e a localização dos empreg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as atividades econômicas em conflito com formas de uso anteriores, tradicion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ções de acessibilidade e mobilidade e oferta de equipamentos na zona r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 ou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57200" y="1180800"/>
            <a:ext cx="8680320" cy="1068840"/>
            <a:chOff x="457200" y="1180800"/>
            <a:chExt cx="8680320" cy="1068840"/>
          </a:xfrm>
        </p:grpSpPr>
        <p:sp>
          <p:nvSpPr>
            <p:cNvPr id="334" name=""/>
            <p:cNvSpPr/>
            <p:nvPr/>
          </p:nvSpPr>
          <p:spPr>
            <a:xfrm>
              <a:off x="457200" y="1295280"/>
              <a:ext cx="8680320" cy="838440"/>
            </a:xfrm>
            <a:prstGeom prst="roundRect">
              <a:avLst>
                <a:gd name="adj" fmla="val 18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" y="1180800"/>
              <a:ext cx="8680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LEITURA TÉCNICA: sistematização no territó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200400"/>
            <a:ext cx="86868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 os dados do Censo Demográfico (IBGE) e com um mapa básico da cidade ou do município, que tenha vias, quadras, rios e córregos, já é possível iniciar a análise sócio-territorial do municí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" y="1257120"/>
            <a:ext cx="8223120" cy="1068840"/>
            <a:chOff x="457200" y="1257120"/>
            <a:chExt cx="8223120" cy="1068840"/>
          </a:xfrm>
        </p:grpSpPr>
        <p:sp>
          <p:nvSpPr>
            <p:cNvPr id="338" name=""/>
            <p:cNvSpPr/>
            <p:nvPr/>
          </p:nvSpPr>
          <p:spPr>
            <a:xfrm>
              <a:off x="457200" y="1295280"/>
              <a:ext cx="8223120" cy="9842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" y="1257120"/>
              <a:ext cx="822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LEITURA TÉCNICA: o que fazer diante das dificuldad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1280" y="1284120"/>
            <a:ext cx="9042480" cy="5027760"/>
            <a:chOff x="71280" y="1284120"/>
            <a:chExt cx="9042480" cy="5027760"/>
          </a:xfrm>
        </p:grpSpPr>
        <p:grpSp>
          <p:nvGrpSpPr>
            <p:cNvPr id="56" name=""/>
            <p:cNvGrpSpPr/>
            <p:nvPr/>
          </p:nvGrpSpPr>
          <p:grpSpPr>
            <a:xfrm>
              <a:off x="4086360" y="1284120"/>
              <a:ext cx="1012680" cy="250920"/>
              <a:chOff x="4086360" y="1284120"/>
              <a:chExt cx="1012680" cy="250920"/>
            </a:xfrm>
          </p:grpSpPr>
          <p:sp>
            <p:nvSpPr>
              <p:cNvPr id="57" name=""/>
              <p:cNvSpPr/>
              <p:nvPr/>
            </p:nvSpPr>
            <p:spPr>
              <a:xfrm>
                <a:off x="4086360" y="1284120"/>
                <a:ext cx="101268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086360" y="1284120"/>
                <a:ext cx="1011240" cy="249480"/>
                <a:chOff x="4086360" y="1284120"/>
                <a:chExt cx="1011240" cy="2494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86360" y="1284120"/>
                  <a:ext cx="101124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4086360" y="1284120"/>
                  <a:ext cx="1011240" cy="249480"/>
                  <a:chOff x="4086360" y="1284120"/>
                  <a:chExt cx="1011240" cy="2494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4086360" y="1284120"/>
                    <a:ext cx="101124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090320" y="1284120"/>
                    <a:ext cx="100296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reparaçã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" name=""/>
            <p:cNvGrpSpPr/>
            <p:nvPr/>
          </p:nvGrpSpPr>
          <p:grpSpPr>
            <a:xfrm>
              <a:off x="3941640" y="1670040"/>
              <a:ext cx="1274760" cy="495360"/>
              <a:chOff x="3941640" y="1670040"/>
              <a:chExt cx="1274760" cy="495360"/>
            </a:xfrm>
          </p:grpSpPr>
          <p:sp>
            <p:nvSpPr>
              <p:cNvPr id="64" name=""/>
              <p:cNvSpPr/>
              <p:nvPr/>
            </p:nvSpPr>
            <p:spPr>
              <a:xfrm>
                <a:off x="3941640" y="1670040"/>
                <a:ext cx="1274760" cy="495360"/>
              </a:xfrm>
              <a:prstGeom prst="roundRect">
                <a:avLst>
                  <a:gd name="adj" fmla="val 31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941640" y="1670040"/>
                <a:ext cx="1273320" cy="493560"/>
                <a:chOff x="3941640" y="1670040"/>
                <a:chExt cx="1273320" cy="4935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941640" y="1670040"/>
                  <a:ext cx="1273320" cy="493560"/>
                </a:xfrm>
                <a:prstGeom prst="roundRect">
                  <a:avLst>
                    <a:gd name="adj" fmla="val 3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941640" y="1670040"/>
                  <a:ext cx="1273320" cy="493560"/>
                  <a:chOff x="3941640" y="1670040"/>
                  <a:chExt cx="1273320" cy="4935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941640" y="1670040"/>
                    <a:ext cx="1273320" cy="493560"/>
                  </a:xfrm>
                  <a:prstGeom prst="roundRect">
                    <a:avLst>
                      <a:gd name="adj" fmla="val 31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946320" y="1670040"/>
                    <a:ext cx="1263600" cy="487800"/>
                  </a:xfrm>
                  <a:prstGeom prst="roundRect">
                    <a:avLst>
                      <a:gd name="adj" fmla="val 31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ord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artilhad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" name=""/>
            <p:cNvGrpSpPr/>
            <p:nvPr/>
          </p:nvGrpSpPr>
          <p:grpSpPr>
            <a:xfrm>
              <a:off x="4003560" y="2374920"/>
              <a:ext cx="1114560" cy="250920"/>
              <a:chOff x="4003560" y="2374920"/>
              <a:chExt cx="1114560" cy="250920"/>
            </a:xfrm>
          </p:grpSpPr>
          <p:sp>
            <p:nvSpPr>
              <p:cNvPr id="71" name=""/>
              <p:cNvSpPr/>
              <p:nvPr/>
            </p:nvSpPr>
            <p:spPr>
              <a:xfrm>
                <a:off x="4003560" y="2374920"/>
                <a:ext cx="111456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4003560" y="2374920"/>
                <a:ext cx="1113120" cy="249120"/>
                <a:chOff x="4003560" y="2374920"/>
                <a:chExt cx="1113120" cy="249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003560" y="2374920"/>
                  <a:ext cx="111312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003560" y="2374920"/>
                  <a:ext cx="1113120" cy="249120"/>
                  <a:chOff x="4003560" y="2374920"/>
                  <a:chExt cx="1113120" cy="2491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003560" y="2374920"/>
                    <a:ext cx="111312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07520" y="2374920"/>
                    <a:ext cx="110484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ançament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7" name=""/>
            <p:cNvGrpSpPr/>
            <p:nvPr/>
          </p:nvGrpSpPr>
          <p:grpSpPr>
            <a:xfrm>
              <a:off x="3989520" y="2816280"/>
              <a:ext cx="1125360" cy="250920"/>
              <a:chOff x="3989520" y="2816280"/>
              <a:chExt cx="1125360" cy="250920"/>
            </a:xfrm>
          </p:grpSpPr>
          <p:sp>
            <p:nvSpPr>
              <p:cNvPr id="78" name=""/>
              <p:cNvSpPr/>
              <p:nvPr/>
            </p:nvSpPr>
            <p:spPr>
              <a:xfrm>
                <a:off x="3989520" y="2816280"/>
                <a:ext cx="112536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989520" y="2816280"/>
                <a:ext cx="1123920" cy="249120"/>
                <a:chOff x="3989520" y="2816280"/>
                <a:chExt cx="1123920" cy="249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989520" y="2816280"/>
                  <a:ext cx="112392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3989520" y="2816280"/>
                  <a:ext cx="1123920" cy="249120"/>
                  <a:chOff x="3989520" y="2816280"/>
                  <a:chExt cx="1123920" cy="24912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3989520" y="2816280"/>
                    <a:ext cx="112392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992760" y="2816280"/>
                    <a:ext cx="111708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onogram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4" name=""/>
            <p:cNvGrpSpPr/>
            <p:nvPr/>
          </p:nvGrpSpPr>
          <p:grpSpPr>
            <a:xfrm>
              <a:off x="2433600" y="3203640"/>
              <a:ext cx="1392120" cy="250920"/>
              <a:chOff x="2433600" y="3203640"/>
              <a:chExt cx="1392120" cy="250920"/>
            </a:xfrm>
          </p:grpSpPr>
          <p:sp>
            <p:nvSpPr>
              <p:cNvPr id="85" name=""/>
              <p:cNvSpPr/>
              <p:nvPr/>
            </p:nvSpPr>
            <p:spPr>
              <a:xfrm>
                <a:off x="2433600" y="3203640"/>
                <a:ext cx="139212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433600" y="3203640"/>
                <a:ext cx="1390680" cy="249120"/>
                <a:chOff x="2433600" y="3203640"/>
                <a:chExt cx="1390680" cy="2491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33600" y="3203640"/>
                  <a:ext cx="139068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2433600" y="3203640"/>
                  <a:ext cx="1390680" cy="249120"/>
                  <a:chOff x="2433600" y="3203640"/>
                  <a:chExt cx="1390680" cy="2491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2433600" y="3203640"/>
                    <a:ext cx="139068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2439360" y="3203640"/>
                    <a:ext cx="137916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eitura Técnic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" name=""/>
            <p:cNvGrpSpPr/>
            <p:nvPr/>
          </p:nvGrpSpPr>
          <p:grpSpPr>
            <a:xfrm>
              <a:off x="5505480" y="3201840"/>
              <a:ext cx="1766880" cy="250920"/>
              <a:chOff x="5505480" y="3201840"/>
              <a:chExt cx="1766880" cy="250920"/>
            </a:xfrm>
          </p:grpSpPr>
          <p:sp>
            <p:nvSpPr>
              <p:cNvPr id="92" name=""/>
              <p:cNvSpPr/>
              <p:nvPr/>
            </p:nvSpPr>
            <p:spPr>
              <a:xfrm>
                <a:off x="5505480" y="3201840"/>
                <a:ext cx="176688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505480" y="3201840"/>
                <a:ext cx="1765440" cy="249480"/>
                <a:chOff x="5505480" y="3201840"/>
                <a:chExt cx="1765440" cy="249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505480" y="3201840"/>
                  <a:ext cx="176544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5505480" y="3201840"/>
                  <a:ext cx="1765440" cy="249480"/>
                  <a:chOff x="5505480" y="3201840"/>
                  <a:chExt cx="1765440" cy="249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505480" y="3201840"/>
                    <a:ext cx="176544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511960" y="3201840"/>
                    <a:ext cx="175248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eitura Comunitári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" name=""/>
            <p:cNvGrpSpPr/>
            <p:nvPr/>
          </p:nvGrpSpPr>
          <p:grpSpPr>
            <a:xfrm>
              <a:off x="3716280" y="3575160"/>
              <a:ext cx="1693800" cy="250560"/>
              <a:chOff x="3716280" y="3575160"/>
              <a:chExt cx="1693800" cy="250560"/>
            </a:xfrm>
          </p:grpSpPr>
          <p:sp>
            <p:nvSpPr>
              <p:cNvPr id="99" name=""/>
              <p:cNvSpPr/>
              <p:nvPr/>
            </p:nvSpPr>
            <p:spPr>
              <a:xfrm>
                <a:off x="3716280" y="3575160"/>
                <a:ext cx="1693800" cy="25056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3716280" y="3575160"/>
                <a:ext cx="1692360" cy="249120"/>
                <a:chOff x="3716280" y="3575160"/>
                <a:chExt cx="1692360" cy="24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716280" y="3575160"/>
                  <a:ext cx="169236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716280" y="3575160"/>
                  <a:ext cx="1692360" cy="249120"/>
                  <a:chOff x="3716280" y="3575160"/>
                  <a:chExt cx="1692360" cy="2491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716280" y="3575160"/>
                    <a:ext cx="169236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3722760" y="3575160"/>
                    <a:ext cx="16794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ilemas e conflit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" name=""/>
            <p:cNvGrpSpPr/>
            <p:nvPr/>
          </p:nvGrpSpPr>
          <p:grpSpPr>
            <a:xfrm>
              <a:off x="3716280" y="4071960"/>
              <a:ext cx="1585800" cy="250920"/>
              <a:chOff x="3716280" y="4071960"/>
              <a:chExt cx="1585800" cy="250920"/>
            </a:xfrm>
          </p:grpSpPr>
          <p:sp>
            <p:nvSpPr>
              <p:cNvPr id="106" name=""/>
              <p:cNvSpPr/>
              <p:nvPr/>
            </p:nvSpPr>
            <p:spPr>
              <a:xfrm>
                <a:off x="3716280" y="4071960"/>
                <a:ext cx="158580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716280" y="4071960"/>
                <a:ext cx="1584360" cy="249120"/>
                <a:chOff x="3716280" y="4071960"/>
                <a:chExt cx="1584360" cy="249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716280" y="4071960"/>
                  <a:ext cx="158436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3716280" y="4071960"/>
                  <a:ext cx="1584360" cy="249120"/>
                  <a:chOff x="3716280" y="4071960"/>
                  <a:chExt cx="1584360" cy="24912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3716280" y="4071960"/>
                    <a:ext cx="158436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21320" y="4071960"/>
                    <a:ext cx="157428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ixos estratégic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2" name=""/>
            <p:cNvGrpSpPr/>
            <p:nvPr/>
          </p:nvGrpSpPr>
          <p:grpSpPr>
            <a:xfrm>
              <a:off x="4046400" y="4568760"/>
              <a:ext cx="900360" cy="250920"/>
              <a:chOff x="4046400" y="4568760"/>
              <a:chExt cx="900360" cy="250920"/>
            </a:xfrm>
          </p:grpSpPr>
          <p:sp>
            <p:nvSpPr>
              <p:cNvPr id="113" name=""/>
              <p:cNvSpPr/>
              <p:nvPr/>
            </p:nvSpPr>
            <p:spPr>
              <a:xfrm>
                <a:off x="4046400" y="4568760"/>
                <a:ext cx="90036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4046400" y="4568760"/>
                <a:ext cx="898560" cy="249480"/>
                <a:chOff x="4046400" y="4568760"/>
                <a:chExt cx="898560" cy="2494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046400" y="4568760"/>
                  <a:ext cx="89856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4046400" y="4568760"/>
                  <a:ext cx="898560" cy="249480"/>
                  <a:chOff x="4046400" y="4568760"/>
                  <a:chExt cx="898560" cy="2494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046400" y="4568760"/>
                    <a:ext cx="89856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048920" y="4568760"/>
                    <a:ext cx="89316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roposta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9" name=""/>
            <p:cNvGrpSpPr/>
            <p:nvPr/>
          </p:nvGrpSpPr>
          <p:grpSpPr>
            <a:xfrm>
              <a:off x="4968720" y="5065560"/>
              <a:ext cx="2249640" cy="250920"/>
              <a:chOff x="4968720" y="5065560"/>
              <a:chExt cx="2249640" cy="2509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5065560"/>
                <a:ext cx="224964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968720" y="5065560"/>
                <a:ext cx="2248200" cy="249480"/>
                <a:chOff x="4968720" y="5065560"/>
                <a:chExt cx="2248200" cy="24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68720" y="5065560"/>
                  <a:ext cx="224820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4968720" y="5065560"/>
                  <a:ext cx="2248200" cy="249480"/>
                  <a:chOff x="4968720" y="5065560"/>
                  <a:chExt cx="2248200" cy="24948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4968720" y="5065560"/>
                    <a:ext cx="224820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976280" y="5065560"/>
                    <a:ext cx="223272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tratégias e instrument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" name=""/>
            <p:cNvGrpSpPr/>
            <p:nvPr/>
          </p:nvGrpSpPr>
          <p:grpSpPr>
            <a:xfrm>
              <a:off x="555480" y="5094360"/>
              <a:ext cx="3510000" cy="252360"/>
              <a:chOff x="555480" y="5094360"/>
              <a:chExt cx="3510000" cy="252360"/>
            </a:xfrm>
          </p:grpSpPr>
          <p:sp>
            <p:nvSpPr>
              <p:cNvPr id="127" name=""/>
              <p:cNvSpPr/>
              <p:nvPr/>
            </p:nvSpPr>
            <p:spPr>
              <a:xfrm>
                <a:off x="555480" y="5094360"/>
                <a:ext cx="3510000" cy="25236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555480" y="5094360"/>
                <a:ext cx="3510000" cy="252360"/>
                <a:chOff x="555480" y="5094360"/>
                <a:chExt cx="3510000" cy="252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55480" y="5094360"/>
                  <a:ext cx="3510000" cy="252360"/>
                </a:xfrm>
                <a:prstGeom prst="roundRect">
                  <a:avLst>
                    <a:gd name="adj" fmla="val 6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555480" y="5094360"/>
                  <a:ext cx="2221200" cy="247680"/>
                  <a:chOff x="555480" y="5094360"/>
                  <a:chExt cx="2221200" cy="247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55480" y="5094360"/>
                    <a:ext cx="2221200" cy="2476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62680" y="5094360"/>
                    <a:ext cx="22068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marcação no Territóri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3" name=""/>
            <p:cNvGrpSpPr/>
            <p:nvPr/>
          </p:nvGrpSpPr>
          <p:grpSpPr>
            <a:xfrm>
              <a:off x="3903840" y="5591160"/>
              <a:ext cx="1261800" cy="250920"/>
              <a:chOff x="3903840" y="5591160"/>
              <a:chExt cx="1261800" cy="250920"/>
            </a:xfrm>
          </p:grpSpPr>
          <p:sp>
            <p:nvSpPr>
              <p:cNvPr id="134" name=""/>
              <p:cNvSpPr/>
              <p:nvPr/>
            </p:nvSpPr>
            <p:spPr>
              <a:xfrm>
                <a:off x="3903840" y="5591160"/>
                <a:ext cx="126180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903840" y="5591160"/>
                <a:ext cx="1260360" cy="249120"/>
                <a:chOff x="3903840" y="5591160"/>
                <a:chExt cx="1260360" cy="249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903840" y="5591160"/>
                  <a:ext cx="126036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903840" y="5591160"/>
                  <a:ext cx="1260360" cy="249120"/>
                  <a:chOff x="3903840" y="5591160"/>
                  <a:chExt cx="1260360" cy="2491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903840" y="5591160"/>
                    <a:ext cx="126036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907440" y="5591160"/>
                    <a:ext cx="125136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rojeto de Lei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0" name=""/>
            <p:cNvGrpSpPr/>
            <p:nvPr/>
          </p:nvGrpSpPr>
          <p:grpSpPr>
            <a:xfrm>
              <a:off x="3009960" y="6059520"/>
              <a:ext cx="3100320" cy="252360"/>
              <a:chOff x="3009960" y="6059520"/>
              <a:chExt cx="3100320" cy="252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009960" y="6059520"/>
                <a:ext cx="3100320" cy="25236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3009960" y="6059520"/>
                <a:ext cx="3100320" cy="252360"/>
                <a:chOff x="3009960" y="6059520"/>
                <a:chExt cx="3100320" cy="252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09960" y="6059520"/>
                  <a:ext cx="3100320" cy="252360"/>
                </a:xfrm>
                <a:prstGeom prst="roundRect">
                  <a:avLst>
                    <a:gd name="adj" fmla="val 6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3009960" y="6059520"/>
                  <a:ext cx="3095640" cy="247680"/>
                  <a:chOff x="3009960" y="6059520"/>
                  <a:chExt cx="3095640" cy="2476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009960" y="6059520"/>
                    <a:ext cx="3095640" cy="2476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016800" y="6059520"/>
                    <a:ext cx="30816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ntrega do PL na Cãmara Municipa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" name=""/>
            <p:cNvGrpSpPr/>
            <p:nvPr/>
          </p:nvGrpSpPr>
          <p:grpSpPr>
            <a:xfrm>
              <a:off x="7702560" y="2954160"/>
              <a:ext cx="1127160" cy="250920"/>
              <a:chOff x="7702560" y="2954160"/>
              <a:chExt cx="1127160" cy="250920"/>
            </a:xfrm>
          </p:grpSpPr>
          <p:sp>
            <p:nvSpPr>
              <p:cNvPr id="148" name=""/>
              <p:cNvSpPr/>
              <p:nvPr/>
            </p:nvSpPr>
            <p:spPr>
              <a:xfrm>
                <a:off x="7702560" y="2954160"/>
                <a:ext cx="112716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702560" y="2954160"/>
                <a:ext cx="1125360" cy="249480"/>
                <a:chOff x="7702560" y="2954160"/>
                <a:chExt cx="1125360" cy="2494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702560" y="2954160"/>
                  <a:ext cx="112536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7702560" y="2954160"/>
                  <a:ext cx="1125360" cy="249480"/>
                  <a:chOff x="7702560" y="2954160"/>
                  <a:chExt cx="1125360" cy="249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7702560" y="2954160"/>
                    <a:ext cx="112536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706520" y="2954160"/>
                    <a:ext cx="111708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obilizaçã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4" name=""/>
            <p:cNvGrpSpPr/>
            <p:nvPr/>
          </p:nvGrpSpPr>
          <p:grpSpPr>
            <a:xfrm>
              <a:off x="7689960" y="3341520"/>
              <a:ext cx="1103040" cy="250920"/>
              <a:chOff x="7689960" y="3341520"/>
              <a:chExt cx="1103040" cy="250920"/>
            </a:xfrm>
          </p:grpSpPr>
          <p:sp>
            <p:nvSpPr>
              <p:cNvPr id="155" name=""/>
              <p:cNvSpPr/>
              <p:nvPr/>
            </p:nvSpPr>
            <p:spPr>
              <a:xfrm>
                <a:off x="7689960" y="3341520"/>
                <a:ext cx="110304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7689960" y="3341520"/>
                <a:ext cx="1101600" cy="249480"/>
                <a:chOff x="7689960" y="3341520"/>
                <a:chExt cx="1101600" cy="2494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689960" y="3341520"/>
                  <a:ext cx="110160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7689960" y="3341520"/>
                  <a:ext cx="1101600" cy="249480"/>
                  <a:chOff x="7689960" y="3341520"/>
                  <a:chExt cx="1101600" cy="2494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689960" y="3341520"/>
                    <a:ext cx="110160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692840" y="3341520"/>
                    <a:ext cx="10944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apacitaçã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1" name=""/>
            <p:cNvGrpSpPr/>
            <p:nvPr/>
          </p:nvGrpSpPr>
          <p:grpSpPr>
            <a:xfrm>
              <a:off x="7682040" y="3713040"/>
              <a:ext cx="1431720" cy="250920"/>
              <a:chOff x="7682040" y="3713040"/>
              <a:chExt cx="1431720" cy="25092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040" y="3713040"/>
                <a:ext cx="143172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7682040" y="3713040"/>
                <a:ext cx="1430280" cy="249480"/>
                <a:chOff x="7682040" y="3713040"/>
                <a:chExt cx="1430280" cy="24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682040" y="3713040"/>
                  <a:ext cx="143028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7682040" y="3713040"/>
                  <a:ext cx="1430280" cy="249480"/>
                  <a:chOff x="7682040" y="3713040"/>
                  <a:chExt cx="1430280" cy="2494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682040" y="3713040"/>
                    <a:ext cx="143028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686000" y="3713040"/>
                    <a:ext cx="14220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unic. socia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8" name=""/>
            <p:cNvSpPr/>
            <p:nvPr/>
          </p:nvSpPr>
          <p:spPr>
            <a:xfrm>
              <a:off x="4541760" y="1531800"/>
              <a:ext cx="180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27720" y="2168640"/>
              <a:ext cx="1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27720" y="2622600"/>
              <a:ext cx="14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27720" y="3065400"/>
              <a:ext cx="14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27720" y="382896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7720" y="4321080"/>
              <a:ext cx="144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28960" y="3328920"/>
              <a:ext cx="1677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41760" y="4818240"/>
              <a:ext cx="1800" cy="77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44960" y="5218200"/>
              <a:ext cx="9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27720" y="5838840"/>
              <a:ext cx="14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85040" y="1601640"/>
              <a:ext cx="1440" cy="41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00640" y="4195800"/>
              <a:ext cx="208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1720" y="4707000"/>
              <a:ext cx="2443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21600" y="520380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8880" y="5700600"/>
              <a:ext cx="221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1280" y="2963880"/>
              <a:ext cx="2057400" cy="739800"/>
              <a:chOff x="71280" y="2963880"/>
              <a:chExt cx="2057400" cy="739800"/>
            </a:xfrm>
          </p:grpSpPr>
          <p:sp>
            <p:nvSpPr>
              <p:cNvPr id="184" name=""/>
              <p:cNvSpPr/>
              <p:nvPr/>
            </p:nvSpPr>
            <p:spPr>
              <a:xfrm>
                <a:off x="71280" y="2963880"/>
                <a:ext cx="2057400" cy="739800"/>
              </a:xfrm>
              <a:prstGeom prst="roundRect">
                <a:avLst>
                  <a:gd name="adj" fmla="val 21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71280" y="2963880"/>
                <a:ext cx="2055960" cy="738000"/>
                <a:chOff x="71280" y="2963880"/>
                <a:chExt cx="2055960" cy="738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1280" y="2963880"/>
                  <a:ext cx="2055960" cy="738000"/>
                </a:xfrm>
                <a:prstGeom prst="roundRect">
                  <a:avLst>
                    <a:gd name="adj" fmla="val 21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71280" y="2963880"/>
                  <a:ext cx="2055960" cy="738000"/>
                  <a:chOff x="71280" y="2963880"/>
                  <a:chExt cx="2055960" cy="7380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1280" y="2963880"/>
                    <a:ext cx="2055960" cy="738000"/>
                  </a:xfrm>
                  <a:prstGeom prst="roundRect">
                    <a:avLst>
                      <a:gd name="adj" fmla="val 2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06920" y="2963880"/>
                    <a:ext cx="1984320" cy="731160"/>
                  </a:xfrm>
                  <a:prstGeom prst="roundRect">
                    <a:avLst>
                      <a:gd name="adj" fmla="val 2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álise da legislaçã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rbanística e ambienta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xistent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"/>
            <p:cNvSpPr/>
            <p:nvPr/>
          </p:nvSpPr>
          <p:spPr>
            <a:xfrm>
              <a:off x="2139840" y="3327480"/>
              <a:ext cx="29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689960" y="4094280"/>
              <a:ext cx="831600" cy="250560"/>
              <a:chOff x="7689960" y="4094280"/>
              <a:chExt cx="831600" cy="250560"/>
            </a:xfrm>
          </p:grpSpPr>
          <p:sp>
            <p:nvSpPr>
              <p:cNvPr id="192" name=""/>
              <p:cNvSpPr/>
              <p:nvPr/>
            </p:nvSpPr>
            <p:spPr>
              <a:xfrm>
                <a:off x="7689960" y="4094280"/>
                <a:ext cx="831600" cy="25056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7689960" y="4094280"/>
                <a:ext cx="830160" cy="249120"/>
                <a:chOff x="7689960" y="4094280"/>
                <a:chExt cx="830160" cy="24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689960" y="4094280"/>
                  <a:ext cx="830160" cy="24912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7689960" y="4094280"/>
                  <a:ext cx="830160" cy="249120"/>
                  <a:chOff x="7689960" y="4094280"/>
                  <a:chExt cx="830160" cy="249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7689960" y="4094280"/>
                    <a:ext cx="830160" cy="24912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691040" y="4094280"/>
                    <a:ext cx="82620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sulta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7689960" y="4476600"/>
              <a:ext cx="1092240" cy="250920"/>
              <a:chOff x="7689960" y="4476600"/>
              <a:chExt cx="1092240" cy="250920"/>
            </a:xfrm>
          </p:grpSpPr>
          <p:sp>
            <p:nvSpPr>
              <p:cNvPr id="199" name=""/>
              <p:cNvSpPr/>
              <p:nvPr/>
            </p:nvSpPr>
            <p:spPr>
              <a:xfrm>
                <a:off x="7689960" y="4476600"/>
                <a:ext cx="1092240" cy="250920"/>
              </a:xfrm>
              <a:prstGeom prst="roundRect">
                <a:avLst>
                  <a:gd name="adj" fmla="val 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89960" y="4476600"/>
                <a:ext cx="1090440" cy="249480"/>
                <a:chOff x="7689960" y="4476600"/>
                <a:chExt cx="1090440" cy="249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89960" y="4476600"/>
                  <a:ext cx="1090440" cy="2494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689960" y="4476600"/>
                  <a:ext cx="1090440" cy="249480"/>
                  <a:chOff x="7689960" y="4476600"/>
                  <a:chExt cx="1090440" cy="2494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689960" y="4476600"/>
                    <a:ext cx="1090440" cy="24948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693920" y="4476600"/>
                    <a:ext cx="1082160" cy="244440"/>
                  </a:xfrm>
                  <a:prstGeom prst="roundRect">
                    <a:avLst>
                      <a:gd name="adj" fmla="val 63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liberaçã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5" name=""/>
            <p:cNvSpPr/>
            <p:nvPr/>
          </p:nvSpPr>
          <p:spPr>
            <a:xfrm>
              <a:off x="5894280" y="1601640"/>
              <a:ext cx="149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4360" y="1346040"/>
              <a:ext cx="799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18200" y="1919160"/>
              <a:ext cx="67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894280" y="1333080"/>
              <a:ext cx="180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75600" y="3313080"/>
              <a:ext cx="10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3120" y="3052800"/>
              <a:ext cx="1440" cy="15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3120" y="3051000"/>
              <a:ext cx="10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3120" y="3465360"/>
              <a:ext cx="9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3120" y="4238640"/>
              <a:ext cx="9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93120" y="4587840"/>
              <a:ext cx="9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378560" y="3824280"/>
              <a:ext cx="31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3544560"/>
            <a:ext cx="7772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formulação e pactuação de propo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1367280"/>
            <a:ext cx="77724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efinição e pactuação dos Eixos estratégicos e Temas Prior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2631960"/>
            <a:ext cx="868680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icação dos principais dilemas, conflitos e entraves que impedem o desenvolvimento urbano democrático, justo e equilibrado do muni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m mostrar os temas prioritários que serão objetos do Plano Diretor Participativo e, portanto, detalhados na leitura técnica e comunit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5008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Elaboração das Propo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370240"/>
            <a:ext cx="914400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quipe técnica deve apresentar propostas possíveis para cada Eixo ou Tema Prioritá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defesa das propostas, muitas vezes, acontecem tensões e disputas, e isso é saudável, desde que se transformem em discussões públicas e não em negociatas “por baixo do pan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sses casos, é necessário detalhar os impactos das propostas (simulações, cenários etc.) – sempre haverá ganhos e per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pacto sócio-territorial baseia-se na avaliação desses ganhos e perdas em cada propo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11160" y="1518840"/>
            <a:ext cx="8232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Definição de 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330280"/>
            <a:ext cx="91440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pós a pactuação no município em torno das propostas do Plano Diretor, chega o momento de definição dos instrumentos a serem aplic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11160" y="1518840"/>
            <a:ext cx="8232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 que não p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1160" y="2590920"/>
            <a:ext cx="823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mentos não vinculados a propost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tas sem instrumen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mentos contraditó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mentos sem delimitação física no territó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341000"/>
            <a:ext cx="8232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Elaboração do projeto de 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981080"/>
            <a:ext cx="83059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ei do Plano Diretor deve ser estruturada de forma clara e objetiva para a compreensão de todos os cidadãos e também ser um instrumento de fácil operação pelos técnicos da prefeitur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inguagem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 ser clara e simples, não oferecendo dificuldades, superando a linguagem de especialist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 estar em formato legislativo, organizado e hierarquizado, e não em texto corrido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1294200"/>
            <a:ext cx="84582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 fechamento da discussão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914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840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beração do Projeto de Lei por delegados de todos os segmentos sociais e de todos os territórios locais no Congresso da Cidade ou Conferência da Cidade, entre ou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3429000"/>
            <a:ext cx="792468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 papel da Câmara 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3520" y="2786040"/>
            <a:ext cx="800100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 sociedade civil deve acompanhar  atentamente a tramitação do PL na Câmara Municipal de vereado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Os atores sociais devem estar alertas para as modificações, positivas e negativas, introduzidas pelos vereado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9920" y="1200240"/>
            <a:ext cx="7002360" cy="547920"/>
            <a:chOff x="1069920" y="1200240"/>
            <a:chExt cx="7002360" cy="547920"/>
          </a:xfrm>
        </p:grpSpPr>
        <p:sp>
          <p:nvSpPr>
            <p:cNvPr id="356" name=""/>
            <p:cNvSpPr/>
            <p:nvPr/>
          </p:nvSpPr>
          <p:spPr>
            <a:xfrm>
              <a:off x="1069920" y="1200240"/>
              <a:ext cx="7002360" cy="54108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069920" y="1200240"/>
              <a:ext cx="6999480" cy="547920"/>
              <a:chOff x="1069920" y="1200240"/>
              <a:chExt cx="6999480" cy="5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69920" y="1200240"/>
                <a:ext cx="6999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1069920" y="1200240"/>
                <a:ext cx="6997680" cy="547920"/>
                <a:chOff x="1069920" y="1200240"/>
                <a:chExt cx="6997680" cy="5479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069920" y="1200240"/>
                  <a:ext cx="6997680" cy="536400"/>
                </a:xfrm>
                <a:prstGeom prst="roundRect">
                  <a:avLst>
                    <a:gd name="adj" fmla="val 2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1069920" y="1200240"/>
                  <a:ext cx="6997680" cy="547920"/>
                  <a:chOff x="1069920" y="1200240"/>
                  <a:chExt cx="6997680" cy="5479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069920" y="1200240"/>
                    <a:ext cx="6997680" cy="53640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624320" y="1200240"/>
                    <a:ext cx="5888880" cy="54792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Participação social na Câmar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2789280"/>
            <a:ext cx="792468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implementação e monitoramento do P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depois da aprovação do p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2743200"/>
            <a:ext cx="914400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ÓDULO III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prep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1355760"/>
            <a:ext cx="8683560" cy="4676760"/>
            <a:chOff x="228600" y="1355760"/>
            <a:chExt cx="8683560" cy="4676760"/>
          </a:xfrm>
        </p:grpSpPr>
        <p:grpSp>
          <p:nvGrpSpPr>
            <p:cNvPr id="366" name=""/>
            <p:cNvGrpSpPr/>
            <p:nvPr/>
          </p:nvGrpSpPr>
          <p:grpSpPr>
            <a:xfrm>
              <a:off x="2471760" y="1355760"/>
              <a:ext cx="4154400" cy="342720"/>
              <a:chOff x="2471760" y="1355760"/>
              <a:chExt cx="4154400" cy="342720"/>
            </a:xfrm>
          </p:grpSpPr>
          <p:sp>
            <p:nvSpPr>
              <p:cNvPr id="367" name=""/>
              <p:cNvSpPr/>
              <p:nvPr/>
            </p:nvSpPr>
            <p:spPr>
              <a:xfrm>
                <a:off x="2471760" y="1355760"/>
                <a:ext cx="4154400" cy="342720"/>
              </a:xfrm>
              <a:prstGeom prst="roundRect">
                <a:avLst>
                  <a:gd name="adj" fmla="val 463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2471760" y="1355760"/>
                <a:ext cx="4152960" cy="341280"/>
                <a:chOff x="2471760" y="1355760"/>
                <a:chExt cx="4152960" cy="3412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471760" y="1355760"/>
                  <a:ext cx="4152960" cy="341280"/>
                </a:xfrm>
                <a:prstGeom prst="roundRect">
                  <a:avLst>
                    <a:gd name="adj" fmla="val 46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2471760" y="1355760"/>
                  <a:ext cx="4152960" cy="341280"/>
                  <a:chOff x="2471760" y="1355760"/>
                  <a:chExt cx="4152960" cy="3412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471760" y="1355760"/>
                    <a:ext cx="4152960" cy="341280"/>
                  </a:xfrm>
                  <a:prstGeom prst="roundRect">
                    <a:avLst>
                      <a:gd name="adj" fmla="val 46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2920" y="1355760"/>
                    <a:ext cx="4130280" cy="320760"/>
                  </a:xfrm>
                  <a:prstGeom prst="roundRect">
                    <a:avLst>
                      <a:gd name="adj" fmla="val 46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Implementação e monitoramento do PDP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228600" y="2263680"/>
              <a:ext cx="2768760" cy="3521160"/>
              <a:chOff x="228600" y="2263680"/>
              <a:chExt cx="2768760" cy="3521160"/>
            </a:xfrm>
          </p:grpSpPr>
          <p:sp>
            <p:nvSpPr>
              <p:cNvPr id="374" name=""/>
              <p:cNvSpPr/>
              <p:nvPr/>
            </p:nvSpPr>
            <p:spPr>
              <a:xfrm>
                <a:off x="228600" y="2263680"/>
                <a:ext cx="2768760" cy="3521160"/>
              </a:xfrm>
              <a:custGeom>
                <a:avLst/>
                <a:gdLst>
                  <a:gd name="textAreaLeft" fmla="*/ 360 w 2768760"/>
                  <a:gd name="textAreaRight" fmla="*/ 2768400 w 2768760"/>
                  <a:gd name="textAreaTop" fmla="*/ 360 h 3521160"/>
                  <a:gd name="textAreaBottom" fmla="*/ 3520800 h 3521160"/>
                </a:gdLst>
                <a:ahLst/>
                <a:rect l="textAreaLeft" t="textAreaTop" r="textAreaRight" b="textAreaBottom"/>
                <a:pathLst>
                  <a:path w="21600" h="27469">
                    <a:moveTo>
                      <a:pt x="12" y="0"/>
                    </a:moveTo>
                    <a:arcTo wR="12" hR="12" stAng="16200000" swAng="-5400000"/>
                    <a:lnTo>
                      <a:pt x="0" y="27457"/>
                    </a:lnTo>
                    <a:arcTo wR="12" hR="12" stAng="10800000" swAng="-5400000"/>
                    <a:lnTo>
                      <a:pt x="21588" y="27469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2263680"/>
                <a:ext cx="2768760" cy="348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Governo Municipa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Implementação, avalização e revisão das propostas d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Aplicação da Lei Municipal d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Divulgação dos contéúdos d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apacitação de gestores públicos sobre 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apacitação da sociedade civil sobre o PDP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276720" y="2266920"/>
              <a:ext cx="2782800" cy="3276720"/>
              <a:chOff x="3276720" y="2266920"/>
              <a:chExt cx="2782800" cy="3276720"/>
            </a:xfrm>
          </p:grpSpPr>
          <p:sp>
            <p:nvSpPr>
              <p:cNvPr id="377" name=""/>
              <p:cNvSpPr/>
              <p:nvPr/>
            </p:nvSpPr>
            <p:spPr>
              <a:xfrm>
                <a:off x="3276720" y="2266920"/>
                <a:ext cx="2782800" cy="3276720"/>
              </a:xfrm>
              <a:custGeom>
                <a:avLst/>
                <a:gdLst>
                  <a:gd name="textAreaLeft" fmla="*/ 360 w 2782800"/>
                  <a:gd name="textAreaRight" fmla="*/ 2782440 w 2782800"/>
                  <a:gd name="textAreaTop" fmla="*/ 360 h 3276720"/>
                  <a:gd name="textAreaBottom" fmla="*/ 3276360 h 3276720"/>
                </a:gdLst>
                <a:ahLst/>
                <a:rect l="textAreaLeft" t="textAreaTop" r="textAreaRight" b="textAreaBottom"/>
                <a:pathLst>
                  <a:path w="21600" h="25433">
                    <a:moveTo>
                      <a:pt x="12" y="0"/>
                    </a:moveTo>
                    <a:arcTo wR="12" hR="12" stAng="16200000" swAng="-5400000"/>
                    <a:lnTo>
                      <a:pt x="0" y="25421"/>
                    </a:lnTo>
                    <a:arcTo wR="12" hR="12" stAng="10800000" swAng="-5400000"/>
                    <a:lnTo>
                      <a:pt x="21588" y="2543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6720" y="2266920"/>
                <a:ext cx="2782800" cy="32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onselhos Gestores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apacitação e divulgação dos conteúdos d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Monitoramento, fiscalização e avaliação da implementação e revisão do PDP junto com bases sociais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Mediação de conflitos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onhecimento sobre o funcionamento do Estad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265800" y="2266920"/>
              <a:ext cx="2646360" cy="3765600"/>
              <a:chOff x="6265800" y="2266920"/>
              <a:chExt cx="2646360" cy="3765600"/>
            </a:xfrm>
          </p:grpSpPr>
          <p:sp>
            <p:nvSpPr>
              <p:cNvPr id="380" name=""/>
              <p:cNvSpPr/>
              <p:nvPr/>
            </p:nvSpPr>
            <p:spPr>
              <a:xfrm>
                <a:off x="6265800" y="2266920"/>
                <a:ext cx="2646360" cy="3765600"/>
              </a:xfrm>
              <a:custGeom>
                <a:avLst/>
                <a:gdLst>
                  <a:gd name="textAreaLeft" fmla="*/ 360 w 2646360"/>
                  <a:gd name="textAreaRight" fmla="*/ 2646000 w 2646360"/>
                  <a:gd name="textAreaTop" fmla="*/ 360 h 3765600"/>
                  <a:gd name="textAreaBottom" fmla="*/ 3765240 h 3765600"/>
                </a:gdLst>
                <a:ahLst/>
                <a:rect l="textAreaLeft" t="textAreaTop" r="textAreaRight" b="textAreaBottom"/>
                <a:pathLst>
                  <a:path w="21600" h="30734">
                    <a:moveTo>
                      <a:pt x="12" y="0"/>
                    </a:moveTo>
                    <a:arcTo wR="12" hR="12" stAng="16200000" swAng="-5400000"/>
                    <a:lnTo>
                      <a:pt x="0" y="30722"/>
                    </a:lnTo>
                    <a:arcTo wR="12" hR="12" stAng="10800000" swAng="-5400000"/>
                    <a:lnTo>
                      <a:pt x="21588" y="30734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65800" y="2266920"/>
                <a:ext cx="2646360" cy="37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Sociedade Civi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Atuação nos espaços de participação social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Pressão para a implementação correta do PD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Monitoramento, fiscalização e avaliação da implementação e revisão do PDP junto com bases sociais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200000"/>
                  <a:buFont typeface="Times New Roman"/>
                  <a:buChar char="•"/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apacitação e divulgação dos conteúdos do PDP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523880" y="1981080"/>
              <a:ext cx="6019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3880" y="1981080"/>
              <a:ext cx="18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2000" y="1701720"/>
              <a:ext cx="1440" cy="5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3800" y="1981080"/>
              <a:ext cx="14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0880" y="1981080"/>
            <a:ext cx="838224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essionar o Conselho responsável pela gestão do Pla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essionar a secretaria responsáv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ionar a ouvidoria municip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ionar a câmara municip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ver ação popular na Justiça, que pode ser feita por qualquer cidad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ver ação civil pública na Justiça, que pode ser feita pelo Município, Estado, empresa pública, cidadão ou ent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alizar representação no Ministério Público, que pode ser feita pelo Município, Estado, empresa pública, cidadão ou ent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93600" y="1222200"/>
            <a:ext cx="8969400" cy="519480"/>
            <a:chOff x="93600" y="1222200"/>
            <a:chExt cx="8969400" cy="519480"/>
          </a:xfrm>
        </p:grpSpPr>
        <p:sp>
          <p:nvSpPr>
            <p:cNvPr id="388" name=""/>
            <p:cNvSpPr/>
            <p:nvPr/>
          </p:nvSpPr>
          <p:spPr>
            <a:xfrm>
              <a:off x="93600" y="1222200"/>
              <a:ext cx="8969400" cy="513000"/>
            </a:xfrm>
            <a:prstGeom prst="roundRect">
              <a:avLst>
                <a:gd name="adj" fmla="val 3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93600" y="1222200"/>
              <a:ext cx="8966160" cy="519480"/>
              <a:chOff x="93600" y="1222200"/>
              <a:chExt cx="8966160" cy="519480"/>
            </a:xfrm>
          </p:grpSpPr>
          <p:sp>
            <p:nvSpPr>
              <p:cNvPr id="390" name=""/>
              <p:cNvSpPr/>
              <p:nvPr/>
            </p:nvSpPr>
            <p:spPr>
              <a:xfrm>
                <a:off x="93600" y="1222200"/>
                <a:ext cx="8966160" cy="509760"/>
              </a:xfrm>
              <a:prstGeom prst="roundRect">
                <a:avLst>
                  <a:gd name="adj" fmla="val 31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93600" y="1222200"/>
                <a:ext cx="8964720" cy="519480"/>
                <a:chOff x="93600" y="1222200"/>
                <a:chExt cx="896472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93600" y="1222200"/>
                  <a:ext cx="8964720" cy="508320"/>
                </a:xfrm>
                <a:prstGeom prst="roundRect">
                  <a:avLst>
                    <a:gd name="adj" fmla="val 31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93600" y="1222200"/>
                  <a:ext cx="8964720" cy="519480"/>
                  <a:chOff x="93600" y="1222200"/>
                  <a:chExt cx="8964720" cy="51948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93600" y="1222200"/>
                    <a:ext cx="8964720" cy="508320"/>
                  </a:xfrm>
                  <a:prstGeom prst="roundRect">
                    <a:avLst>
                      <a:gd name="adj" fmla="val 31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43760" y="1222200"/>
                    <a:ext cx="7664400" cy="519480"/>
                  </a:xfrm>
                  <a:prstGeom prst="roundRect">
                    <a:avLst>
                      <a:gd name="adj" fmla="val 31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0" lang="en-GB" sz="3000" spc="-1" strike="noStrike">
                        <a:solidFill>
                          <a:srgbClr val="333399"/>
                        </a:solidFill>
                        <a:latin typeface="Arial Black"/>
                      </a:rPr>
                      <a:t>E se o Plano não estiver sendo cumprido?</a:t>
                    </a:r>
                    <a:endParaRPr b="0" lang="en-US" sz="3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2971800"/>
            <a:ext cx="91440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2225520"/>
            <a:ext cx="819972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formas e periodicidade da revisão do Plano Diretor deve estar prevista na lei que institui o Pla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 ocorrer a partir de uma avaliação de todo o processo, desde a elaboração do Plano, até a aprovação e a imple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 novo processo participativo deve ser construído, com novos instrumentos de mobilização e comunic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36640" y="1295280"/>
            <a:ext cx="5667480" cy="547920"/>
            <a:chOff x="1736640" y="1295280"/>
            <a:chExt cx="5667480" cy="547920"/>
          </a:xfrm>
        </p:grpSpPr>
        <p:sp>
          <p:nvSpPr>
            <p:cNvPr id="399" name=""/>
            <p:cNvSpPr/>
            <p:nvPr/>
          </p:nvSpPr>
          <p:spPr>
            <a:xfrm>
              <a:off x="1736640" y="1295280"/>
              <a:ext cx="5667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736640" y="1295280"/>
              <a:ext cx="5664240" cy="547920"/>
              <a:chOff x="1736640" y="1295280"/>
              <a:chExt cx="5664240" cy="547920"/>
            </a:xfrm>
          </p:grpSpPr>
          <p:sp>
            <p:nvSpPr>
              <p:cNvPr id="401" name=""/>
              <p:cNvSpPr/>
              <p:nvPr/>
            </p:nvSpPr>
            <p:spPr>
              <a:xfrm>
                <a:off x="1736640" y="1295280"/>
                <a:ext cx="566424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1736640" y="1295280"/>
                <a:ext cx="5664240" cy="547920"/>
                <a:chOff x="1736640" y="1295280"/>
                <a:chExt cx="5664240" cy="5479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736640" y="1295280"/>
                  <a:ext cx="5664240" cy="538200"/>
                </a:xfrm>
                <a:prstGeom prst="roundRect">
                  <a:avLst>
                    <a:gd name="adj" fmla="val 2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1736640" y="1295280"/>
                  <a:ext cx="5664240" cy="547920"/>
                  <a:chOff x="1736640" y="1295280"/>
                  <a:chExt cx="5664240" cy="547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1736640" y="1295280"/>
                    <a:ext cx="5664240" cy="53820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18240" y="1295280"/>
                    <a:ext cx="4899600" cy="54792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Revisão do Plano Diretor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opulação conhece o Plano existen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Plano reflete a realidade do município? Em que part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e Plano foi feito com participação da populaçã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Plano foi aplicado? Se foi, cumpriu os objetivos? Se não, porquê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É possível adaptá-lo às novas condicionantes do Estatuto da Cidade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9999"/>
                </a:solidFill>
                <a:latin typeface="Arial"/>
              </a:rPr>
              <a:t>Fazer a revisão do Plano ou começar do zero uma nova propost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3480" y="1224000"/>
            <a:ext cx="7069320" cy="1484280"/>
            <a:chOff x="663480" y="1224000"/>
            <a:chExt cx="7069320" cy="1484280"/>
          </a:xfrm>
        </p:grpSpPr>
        <p:sp>
          <p:nvSpPr>
            <p:cNvPr id="219" name=""/>
            <p:cNvSpPr/>
            <p:nvPr/>
          </p:nvSpPr>
          <p:spPr>
            <a:xfrm>
              <a:off x="663480" y="1224000"/>
              <a:ext cx="7069320" cy="14842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63480" y="1224000"/>
              <a:ext cx="7066080" cy="1001160"/>
              <a:chOff x="663480" y="1224000"/>
              <a:chExt cx="7066080" cy="1001160"/>
            </a:xfrm>
          </p:grpSpPr>
          <p:sp>
            <p:nvSpPr>
              <p:cNvPr id="221" name=""/>
              <p:cNvSpPr/>
              <p:nvPr/>
            </p:nvSpPr>
            <p:spPr>
              <a:xfrm>
                <a:off x="663480" y="1224000"/>
                <a:ext cx="7066080" cy="9986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663480" y="1224000"/>
                <a:ext cx="7064640" cy="1001160"/>
                <a:chOff x="663480" y="1224000"/>
                <a:chExt cx="7064640" cy="1001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63480" y="1224000"/>
                  <a:ext cx="7064640" cy="996840"/>
                </a:xfrm>
                <a:prstGeom prst="roundRect">
                  <a:avLst>
                    <a:gd name="adj" fmla="val 15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663480" y="1224000"/>
                  <a:ext cx="7064640" cy="1001160"/>
                  <a:chOff x="663480" y="1224000"/>
                  <a:chExt cx="7064640" cy="10011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63480" y="1224000"/>
                    <a:ext cx="7064640" cy="996840"/>
                  </a:xfrm>
                  <a:prstGeom prst="roundRect">
                    <a:avLst>
                      <a:gd name="adj" fmla="val 15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085040" y="1224000"/>
                    <a:ext cx="6221160" cy="1001160"/>
                  </a:xfrm>
                  <a:prstGeom prst="roundRect">
                    <a:avLst>
                      <a:gd name="adj" fmla="val 15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Quando o município já tem um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Plano Diretor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27" name=""/>
          <p:cNvSpPr/>
          <p:nvPr/>
        </p:nvSpPr>
        <p:spPr>
          <a:xfrm>
            <a:off x="3962520" y="5029200"/>
            <a:ext cx="609480" cy="533520"/>
          </a:xfrm>
          <a:custGeom>
            <a:avLst/>
            <a:gdLst/>
            <a:ahLst/>
            <a:rect l="l" t="t" r="r" b="b"/>
            <a:pathLst>
              <a:path w="1694" h="1483">
                <a:moveTo>
                  <a:pt x="422" y="0"/>
                </a:moveTo>
                <a:lnTo>
                  <a:pt x="422" y="1112"/>
                </a:lnTo>
                <a:lnTo>
                  <a:pt x="0" y="1112"/>
                </a:lnTo>
                <a:lnTo>
                  <a:pt x="846" y="1482"/>
                </a:lnTo>
                <a:lnTo>
                  <a:pt x="1693" y="1112"/>
                </a:lnTo>
                <a:lnTo>
                  <a:pt x="1269" y="1112"/>
                </a:lnTo>
                <a:lnTo>
                  <a:pt x="1269" y="0"/>
                </a:lnTo>
                <a:lnTo>
                  <a:pt x="422" y="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195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Preparaçã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212920"/>
            <a:ext cx="914400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stituição da Coordenação Compartilhada com representantes da equipe técnica do governo e da sociedade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laboração de cronograma detalhado aproveitando as agendas do governo e dos atores sociais (eventos simbólic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das atividades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laboração da Leitur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laboração da Leitura Comunit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mobilizaçã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comunicaçã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160">
              <a:lnSpc>
                <a:spcPct val="93000"/>
              </a:lnSpc>
              <a:buClr>
                <a:srgbClr val="000000"/>
              </a:buClr>
              <a:buFont typeface="Verdana"/>
              <a:buChar char="•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capacitação dos gestores públicos e atore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989000"/>
            <a:ext cx="914400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menta o processo participativo na elaboração e implementação do Plano Diret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oordenação compartilhada (representantes do governo e da sociedade civ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o município já possui um Conselho de Desenvolvimento Urbano ou Conselho da Cidade, esta instância deve participar da constituição da Coordenação Compartilh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scussões públicas por segmentos sociais e territó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rantia da diversidade na participação so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rticulação com orçamento e outros fóruns de discussão da c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1328760"/>
            <a:ext cx="9139320" cy="723960"/>
            <a:chOff x="0" y="1328760"/>
            <a:chExt cx="9139320" cy="723960"/>
          </a:xfrm>
        </p:grpSpPr>
        <p:sp>
          <p:nvSpPr>
            <p:cNvPr id="232" name=""/>
            <p:cNvSpPr/>
            <p:nvPr/>
          </p:nvSpPr>
          <p:spPr>
            <a:xfrm>
              <a:off x="0" y="1328760"/>
              <a:ext cx="9139320" cy="72396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1328760"/>
              <a:ext cx="9136080" cy="720720"/>
              <a:chOff x="0" y="1328760"/>
              <a:chExt cx="9136080" cy="720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328760"/>
                <a:ext cx="9136080" cy="72072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0" y="1328760"/>
                <a:ext cx="9134640" cy="719280"/>
                <a:chOff x="0" y="1328760"/>
                <a:chExt cx="9134640" cy="719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0" y="1328760"/>
                  <a:ext cx="9134640" cy="719280"/>
                </a:xfrm>
                <a:prstGeom prst="roundRect">
                  <a:avLst>
                    <a:gd name="adj" fmla="val 21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0" y="1328760"/>
                  <a:ext cx="9134640" cy="719280"/>
                  <a:chOff x="0" y="1328760"/>
                  <a:chExt cx="9134640" cy="7192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0" y="1328760"/>
                    <a:ext cx="9134640" cy="719280"/>
                  </a:xfrm>
                  <a:prstGeom prst="roundRect">
                    <a:avLst>
                      <a:gd name="adj" fmla="val 21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183320" y="1328760"/>
                    <a:ext cx="6768000" cy="569160"/>
                  </a:xfrm>
                  <a:prstGeom prst="roundRect">
                    <a:avLst>
                      <a:gd name="adj" fmla="val 21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ts val="3736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Resolução 25/2005 do ConCidades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110960"/>
            <a:ext cx="77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Audiências Públicas (Res.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32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diências públicas (convocadas por edital, anunciadas amplamente nos meios de comunicação de massa, em locais e horários acessíveis à maioria da populaçã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das pelo Poder Público Municipal que, após a exposição de todo o conteúdo, abrirá as discussões aos pres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ça de todos os cidadãos e cidadãs, independente de comprovação de residência ou qualquer outra condi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vadas e lavrada em ata que deverá ser apensada ao Projeto de Le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em ser convocadas pela sociedade civil – 1% dos eleitores do municíp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2701800"/>
            <a:ext cx="81532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essoria externa poderá ter as funções de capacitar a equipe local e oferecer suporte técnico ao processo coordenado pela Prefe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Plano Diretor Participativo não têm “autoria”, é construído coletivamente com a participação de toda a sociedade lo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69960" y="1123920"/>
            <a:ext cx="7789680" cy="1488600"/>
            <a:chOff x="669960" y="1123920"/>
            <a:chExt cx="7789680" cy="1488600"/>
          </a:xfrm>
        </p:grpSpPr>
        <p:sp>
          <p:nvSpPr>
            <p:cNvPr id="244" name=""/>
            <p:cNvSpPr/>
            <p:nvPr/>
          </p:nvSpPr>
          <p:spPr>
            <a:xfrm>
              <a:off x="669960" y="1123920"/>
              <a:ext cx="7789680" cy="1177920"/>
            </a:xfrm>
            <a:prstGeom prst="roundRect">
              <a:avLst>
                <a:gd name="adj" fmla="val 13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69960" y="1123920"/>
              <a:ext cx="7786800" cy="1488600"/>
              <a:chOff x="669960" y="1123920"/>
              <a:chExt cx="7786800" cy="148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669960" y="1123920"/>
                <a:ext cx="7786800" cy="117468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69960" y="1123920"/>
                <a:ext cx="7785000" cy="1488600"/>
                <a:chOff x="669960" y="1123920"/>
                <a:chExt cx="7785000" cy="14886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69960" y="1123920"/>
                  <a:ext cx="7785000" cy="1173240"/>
                </a:xfrm>
                <a:prstGeom prst="roundRect">
                  <a:avLst>
                    <a:gd name="adj" fmla="val 13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669960" y="1123920"/>
                  <a:ext cx="7785000" cy="1488600"/>
                  <a:chOff x="669960" y="1123920"/>
                  <a:chExt cx="7785000" cy="14886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69960" y="1123920"/>
                    <a:ext cx="7785000" cy="1173240"/>
                  </a:xfrm>
                  <a:prstGeom prst="roundRect">
                    <a:avLst>
                      <a:gd name="adj" fmla="val 13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327680" y="1123920"/>
                    <a:ext cx="6469560" cy="1488600"/>
                  </a:xfrm>
                  <a:prstGeom prst="roundRect">
                    <a:avLst>
                      <a:gd name="adj" fmla="val 13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Equipe técnica local e assessoria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técnica extern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9242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cação dos atores sociais presentes no município, suas formas de organização e territorial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mplar estratégias para todas as etapas do processo – da elaboração até a implementação do Plano Diretor Participat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orizar a mobilização das parcelas da população tradicionalmente excluídas dos processos de decisão e do acesso aos direitos urban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car formas e canais de participação adequados à realidade do municí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191040" y="1123920"/>
            <a:ext cx="2823840" cy="547920"/>
            <a:chOff x="3191040" y="1123920"/>
            <a:chExt cx="2823840" cy="547920"/>
          </a:xfrm>
        </p:grpSpPr>
        <p:sp>
          <p:nvSpPr>
            <p:cNvPr id="254" name=""/>
            <p:cNvSpPr/>
            <p:nvPr/>
          </p:nvSpPr>
          <p:spPr>
            <a:xfrm>
              <a:off x="3191040" y="1123920"/>
              <a:ext cx="282384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191040" y="1123920"/>
              <a:ext cx="2820960" cy="547920"/>
              <a:chOff x="3191040" y="1123920"/>
              <a:chExt cx="2820960" cy="547920"/>
            </a:xfrm>
          </p:grpSpPr>
          <p:sp>
            <p:nvSpPr>
              <p:cNvPr id="256" name=""/>
              <p:cNvSpPr/>
              <p:nvPr/>
            </p:nvSpPr>
            <p:spPr>
              <a:xfrm>
                <a:off x="3191040" y="1123920"/>
                <a:ext cx="282096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3191040" y="1123920"/>
                <a:ext cx="2819160" cy="547920"/>
                <a:chOff x="3191040" y="1123920"/>
                <a:chExt cx="2819160" cy="5479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191040" y="1123920"/>
                  <a:ext cx="2819160" cy="536760"/>
                </a:xfrm>
                <a:prstGeom prst="roundRect">
                  <a:avLst>
                    <a:gd name="adj" fmla="val 2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3191040" y="1123920"/>
                  <a:ext cx="2819160" cy="547920"/>
                  <a:chOff x="3191040" y="1123920"/>
                  <a:chExt cx="2819160" cy="5479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191040" y="1123920"/>
                    <a:ext cx="2819160" cy="53676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374280" y="1123920"/>
                    <a:ext cx="2452320" cy="547920"/>
                  </a:xfrm>
                  <a:prstGeom prst="roundRect">
                    <a:avLst>
                      <a:gd name="adj" fmla="val 2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3200" spc="-1" strike="noStrike">
                        <a:solidFill>
                          <a:srgbClr val="333399"/>
                        </a:solidFill>
                        <a:latin typeface="Arial Black"/>
                      </a:rPr>
                      <a:t>Mobilizaçã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