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62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12840"/>
            <a:ext cx="82216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3752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2200"/>
            <a:ext cx="9144000" cy="68580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553080" y="6248520"/>
            <a:ext cx="2181240" cy="3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824200"/>
            <a:ext cx="7769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ÓDULO II - CONTEÚDO BÁSICO DO PLANO DIRETOR PARTICIP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12441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eúdo básico do pl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1849320"/>
            <a:ext cx="4035600" cy="268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DE CIDADE/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9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ição dos espaços coletivos de suporte à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9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ição da destinação de cada parte do territó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9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stinação de terra adequada para todas as atividades de todos os segmentos so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06960" y="1849320"/>
            <a:ext cx="4037040" cy="457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ATÉ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0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ição de investimentos priori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0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gulação do solo urbano e r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0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Gestão administrativa e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0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 maneja da valorização imobiliária para inclusão territorial e financiamento da implementação do Plano Diretor (MÓDULO 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0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 regularização Fundiária sustentável para a Inclusão territorial (MÓDULO 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0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 democratização da gestão administrativa e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1084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strumentos de democratização da gestão territorial como parte de toda a estratégia do Plano Diretor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2459160"/>
            <a:ext cx="914400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ts val="2563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DEMOCRÁTICO DE PLANEJAMENTO E GESTÃO TERRITORIAL - controle público permanente e inclusão dos setores populares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ts val="2563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tilhamento de decisões e responsabilidades na gestão territor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ts val="2563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tação permanente de gestores públicos e lideranças sociais para práticas democráticas de planejamento e gestão territor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ts val="2563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emocratização das informações territoriais e urb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ts val="2563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rticulação intersetor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1409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aplicabilidade dos instrumentos de regulação do sol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2665440"/>
            <a:ext cx="9144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ts val="2574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TINAÇÃO DE CADA PORÇÃO DO  TERRITÓRIO DEVE SER FEITA em MAPAS DO MUNICÍPIO, com áreas e perímetros bem defi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10000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bre estes perímetros, se aplicam os INSTRUMENTOS DE POLÍTICA URBANA que operam as estratégias de uso e ocupação do s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3400200"/>
            <a:ext cx="9137520" cy="757440"/>
            <a:chOff x="0" y="3400200"/>
            <a:chExt cx="9137520" cy="757440"/>
          </a:xfrm>
        </p:grpSpPr>
        <p:grpSp>
          <p:nvGrpSpPr>
            <p:cNvPr id="589" name=""/>
            <p:cNvGrpSpPr/>
            <p:nvPr/>
          </p:nvGrpSpPr>
          <p:grpSpPr>
            <a:xfrm>
              <a:off x="2367000" y="3400560"/>
              <a:ext cx="1706400" cy="753840"/>
              <a:chOff x="2367000" y="3400560"/>
              <a:chExt cx="1706400" cy="753840"/>
            </a:xfrm>
          </p:grpSpPr>
          <p:sp>
            <p:nvSpPr>
              <p:cNvPr id="590" name=""/>
              <p:cNvSpPr/>
              <p:nvPr/>
            </p:nvSpPr>
            <p:spPr>
              <a:xfrm>
                <a:off x="2367000" y="3400560"/>
                <a:ext cx="1706400" cy="753840"/>
              </a:xfrm>
              <a:prstGeom prst="roundRect">
                <a:avLst>
                  <a:gd name="adj" fmla="val 20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2367000" y="3400560"/>
                <a:ext cx="1699920" cy="747360"/>
                <a:chOff x="2367000" y="3400560"/>
                <a:chExt cx="1699920" cy="7473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367000" y="3400560"/>
                  <a:ext cx="1699920" cy="74736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367000" y="3621240"/>
                  <a:ext cx="1699920" cy="30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PROPOSTA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0" y="3400200"/>
              <a:ext cx="9137520" cy="757440"/>
              <a:chOff x="0" y="3400200"/>
              <a:chExt cx="9137520" cy="757440"/>
            </a:xfrm>
          </p:grpSpPr>
          <p:sp>
            <p:nvSpPr>
              <p:cNvPr id="595" name=""/>
              <p:cNvSpPr/>
              <p:nvPr/>
            </p:nvSpPr>
            <p:spPr>
              <a:xfrm>
                <a:off x="1714680" y="3540240"/>
                <a:ext cx="653760" cy="484200"/>
              </a:xfrm>
              <a:custGeom>
                <a:avLst/>
                <a:gdLst/>
                <a:ahLst/>
                <a:rect l="l" t="t" r="r" b="b"/>
                <a:pathLst>
                  <a:path w="1816" h="1346">
                    <a:moveTo>
                      <a:pt x="0" y="336"/>
                    </a:moveTo>
                    <a:lnTo>
                      <a:pt x="1361" y="336"/>
                    </a:lnTo>
                    <a:lnTo>
                      <a:pt x="1361" y="0"/>
                    </a:lnTo>
                    <a:lnTo>
                      <a:pt x="1815" y="672"/>
                    </a:lnTo>
                    <a:lnTo>
                      <a:pt x="1361" y="1345"/>
                    </a:lnTo>
                    <a:lnTo>
                      <a:pt x="1361" y="1010"/>
                    </a:lnTo>
                    <a:lnTo>
                      <a:pt x="0" y="1010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0" y="3400560"/>
                <a:ext cx="1625760" cy="753840"/>
                <a:chOff x="0" y="3400560"/>
                <a:chExt cx="1625760" cy="7538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0" y="3400560"/>
                  <a:ext cx="1625760" cy="753840"/>
                </a:xfrm>
                <a:prstGeom prst="roundRect">
                  <a:avLst>
                    <a:gd name="adj" fmla="val 208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"/>
                <p:cNvGrpSpPr/>
                <p:nvPr/>
              </p:nvGrpSpPr>
              <p:grpSpPr>
                <a:xfrm>
                  <a:off x="0" y="3400560"/>
                  <a:ext cx="1619280" cy="747360"/>
                  <a:chOff x="0" y="3400560"/>
                  <a:chExt cx="1619280" cy="74736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0" y="3400560"/>
                    <a:ext cx="1619280" cy="747360"/>
                  </a:xfrm>
                  <a:prstGeom prst="roundRect">
                    <a:avLst>
                      <a:gd name="adj" fmla="val 20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0" y="3621240"/>
                    <a:ext cx="1619280" cy="30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500" spc="-1" strike="noStrike">
                        <a:solidFill>
                          <a:srgbClr val="000000"/>
                        </a:solidFill>
                        <a:latin typeface="Arial"/>
                      </a:rPr>
                      <a:t>EIXO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1" name=""/>
              <p:cNvGrpSpPr/>
              <p:nvPr/>
            </p:nvGrpSpPr>
            <p:grpSpPr>
              <a:xfrm>
                <a:off x="7265880" y="3400560"/>
                <a:ext cx="1871640" cy="757080"/>
                <a:chOff x="7265880" y="3400560"/>
                <a:chExt cx="1871640" cy="757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7265880" y="3400560"/>
                  <a:ext cx="1871640" cy="757080"/>
                </a:xfrm>
                <a:prstGeom prst="roundRect">
                  <a:avLst>
                    <a:gd name="adj" fmla="val 208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265880" y="3520080"/>
                  <a:ext cx="18716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DEMARCAÇÃO NO TERRITÓRIO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816440" y="3400200"/>
                <a:ext cx="1706760" cy="757440"/>
                <a:chOff x="4816440" y="3400200"/>
                <a:chExt cx="1706760" cy="7574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816440" y="3400200"/>
                  <a:ext cx="1706760" cy="757440"/>
                </a:xfrm>
                <a:prstGeom prst="roundRect">
                  <a:avLst>
                    <a:gd name="adj" fmla="val 208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816440" y="3624480"/>
                  <a:ext cx="1706760" cy="30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INSTRUMENTO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6613560" y="3540240"/>
                <a:ext cx="654120" cy="484200"/>
              </a:xfrm>
              <a:custGeom>
                <a:avLst/>
                <a:gdLst/>
                <a:ahLst/>
                <a:rect l="l" t="t" r="r" b="b"/>
                <a:pathLst>
                  <a:path w="1817" h="1346">
                    <a:moveTo>
                      <a:pt x="0" y="336"/>
                    </a:moveTo>
                    <a:lnTo>
                      <a:pt x="1363" y="336"/>
                    </a:lnTo>
                    <a:lnTo>
                      <a:pt x="1363" y="0"/>
                    </a:lnTo>
                    <a:lnTo>
                      <a:pt x="1816" y="672"/>
                    </a:lnTo>
                    <a:lnTo>
                      <a:pt x="1363" y="1345"/>
                    </a:lnTo>
                    <a:lnTo>
                      <a:pt x="1363" y="1010"/>
                    </a:lnTo>
                    <a:lnTo>
                      <a:pt x="0" y="1010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164120" y="3540240"/>
                <a:ext cx="654120" cy="484200"/>
              </a:xfrm>
              <a:custGeom>
                <a:avLst/>
                <a:gdLst/>
                <a:ahLst/>
                <a:rect l="l" t="t" r="r" b="b"/>
                <a:pathLst>
                  <a:path w="1817" h="1346">
                    <a:moveTo>
                      <a:pt x="0" y="336"/>
                    </a:moveTo>
                    <a:lnTo>
                      <a:pt x="1362" y="336"/>
                    </a:lnTo>
                    <a:lnTo>
                      <a:pt x="1362" y="0"/>
                    </a:lnTo>
                    <a:lnTo>
                      <a:pt x="1816" y="672"/>
                    </a:lnTo>
                    <a:lnTo>
                      <a:pt x="1362" y="1345"/>
                    </a:lnTo>
                    <a:lnTo>
                      <a:pt x="1362" y="1010"/>
                    </a:lnTo>
                    <a:lnTo>
                      <a:pt x="0" y="1010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0" y="1409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aplicabilidade dos instrumentos de regulação do sol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19782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ão existe receita para a construção de Planos Diretores Participativos. Cada município deve enfrentar os principais dilemas e conflitos sócio-territoriais que travam o seu desenvolvimento social, econômico e humano. Esse enfrentamento deve ocorrer em interlocução com os atores  sociais envolv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O plano diretor define a FUNÇÃO SOCIAL da cidade e da proprie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436840" y="2290680"/>
            <a:ext cx="4417560" cy="1439640"/>
            <a:chOff x="2436840" y="2290680"/>
            <a:chExt cx="4417560" cy="1439640"/>
          </a:xfrm>
        </p:grpSpPr>
        <p:sp>
          <p:nvSpPr>
            <p:cNvPr id="44" name=""/>
            <p:cNvSpPr/>
            <p:nvPr/>
          </p:nvSpPr>
          <p:spPr>
            <a:xfrm>
              <a:off x="6016320" y="2893320"/>
              <a:ext cx="838080" cy="837000"/>
            </a:xfrm>
            <a:custGeom>
              <a:avLst/>
              <a:gdLst/>
              <a:ahLst/>
              <a:rect l="l" t="t" r="r" b="b"/>
              <a:pathLst>
                <a:path w="2328" h="2327">
                  <a:moveTo>
                    <a:pt x="0" y="0"/>
                  </a:moveTo>
                  <a:lnTo>
                    <a:pt x="1016" y="0"/>
                  </a:lnTo>
                  <a:cubicBezTo>
                    <a:pt x="1516" y="0"/>
                    <a:pt x="2015" y="669"/>
                    <a:pt x="2015" y="1338"/>
                  </a:cubicBezTo>
                  <a:lnTo>
                    <a:pt x="2015" y="1626"/>
                  </a:lnTo>
                  <a:lnTo>
                    <a:pt x="2327" y="1626"/>
                  </a:lnTo>
                  <a:lnTo>
                    <a:pt x="1672" y="2326"/>
                  </a:lnTo>
                  <a:lnTo>
                    <a:pt x="1017" y="1626"/>
                  </a:lnTo>
                  <a:lnTo>
                    <a:pt x="1329" y="1626"/>
                  </a:lnTo>
                  <a:lnTo>
                    <a:pt x="1329" y="1338"/>
                  </a:lnTo>
                  <a:cubicBezTo>
                    <a:pt x="1329" y="1011"/>
                    <a:pt x="1173" y="684"/>
                    <a:pt x="1016" y="684"/>
                  </a:cubicBezTo>
                  <a:lnTo>
                    <a:pt x="0" y="684"/>
                  </a:lnTo>
                  <a:lnTo>
                    <a:pt x="0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6840" y="2893320"/>
              <a:ext cx="913680" cy="837000"/>
            </a:xfrm>
            <a:custGeom>
              <a:avLst/>
              <a:gdLst/>
              <a:ahLst/>
              <a:rect l="l" t="t" r="r" b="b"/>
              <a:pathLst>
                <a:path w="2540" h="2327">
                  <a:moveTo>
                    <a:pt x="2539" y="0"/>
                  </a:moveTo>
                  <a:lnTo>
                    <a:pt x="1429" y="0"/>
                  </a:lnTo>
                  <a:cubicBezTo>
                    <a:pt x="910" y="0"/>
                    <a:pt x="391" y="669"/>
                    <a:pt x="391" y="1338"/>
                  </a:cubicBezTo>
                  <a:lnTo>
                    <a:pt x="391" y="1626"/>
                  </a:lnTo>
                  <a:lnTo>
                    <a:pt x="0" y="1626"/>
                  </a:lnTo>
                  <a:lnTo>
                    <a:pt x="714" y="2326"/>
                  </a:lnTo>
                  <a:lnTo>
                    <a:pt x="1429" y="1626"/>
                  </a:lnTo>
                  <a:lnTo>
                    <a:pt x="1036" y="1626"/>
                  </a:lnTo>
                  <a:lnTo>
                    <a:pt x="1036" y="1338"/>
                  </a:lnTo>
                  <a:cubicBezTo>
                    <a:pt x="1036" y="964"/>
                    <a:pt x="1232" y="590"/>
                    <a:pt x="1429" y="590"/>
                  </a:cubicBezTo>
                  <a:lnTo>
                    <a:pt x="2539" y="590"/>
                  </a:lnTo>
                  <a:lnTo>
                    <a:pt x="2539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428280" y="2290680"/>
              <a:ext cx="2507040" cy="1209960"/>
              <a:chOff x="3428280" y="2290680"/>
              <a:chExt cx="2507040" cy="1209960"/>
            </a:xfrm>
          </p:grpSpPr>
          <p:sp>
            <p:nvSpPr>
              <p:cNvPr id="47" name=""/>
              <p:cNvSpPr/>
              <p:nvPr/>
            </p:nvSpPr>
            <p:spPr>
              <a:xfrm>
                <a:off x="3428280" y="2290680"/>
                <a:ext cx="2507040" cy="1209960"/>
              </a:xfrm>
              <a:prstGeom prst="ellipse">
                <a:avLst/>
              </a:prstGeom>
              <a:solidFill>
                <a:srgbClr val="2d6a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3799080" y="2469600"/>
                <a:ext cx="1760040" cy="848520"/>
                <a:chOff x="3799080" y="2469600"/>
                <a:chExt cx="1760040" cy="848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799080" y="2469600"/>
                  <a:ext cx="1760040" cy="848520"/>
                </a:xfrm>
                <a:prstGeom prst="roundRect">
                  <a:avLst>
                    <a:gd name="adj" fmla="val 18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799080" y="2590920"/>
                  <a:ext cx="175860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UNÇÃO SOC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" name=""/>
          <p:cNvGrpSpPr/>
          <p:nvPr/>
        </p:nvGrpSpPr>
        <p:grpSpPr>
          <a:xfrm>
            <a:off x="533520" y="3809880"/>
            <a:ext cx="3498840" cy="2355840"/>
            <a:chOff x="533520" y="3809880"/>
            <a:chExt cx="3498840" cy="2355840"/>
          </a:xfrm>
        </p:grpSpPr>
        <p:sp>
          <p:nvSpPr>
            <p:cNvPr id="52" name=""/>
            <p:cNvSpPr/>
            <p:nvPr/>
          </p:nvSpPr>
          <p:spPr>
            <a:xfrm>
              <a:off x="533520" y="3809880"/>
              <a:ext cx="3498840" cy="2355840"/>
            </a:xfrm>
            <a:prstGeom prst="roundRect">
              <a:avLst>
                <a:gd name="adj" fmla="val 167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4920" y="3990600"/>
              <a:ext cx="323712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AÇOS COLETIVOS DE SUPORTE À V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NÃO COMERCIALIZÁVE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rcul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1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aços de uso cole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1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s proteg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1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orte territorial para o sistema de servi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181480" y="3809880"/>
            <a:ext cx="3500640" cy="2357640"/>
            <a:chOff x="5181480" y="3809880"/>
            <a:chExt cx="3500640" cy="2357640"/>
          </a:xfrm>
        </p:grpSpPr>
        <p:sp>
          <p:nvSpPr>
            <p:cNvPr id="55" name=""/>
            <p:cNvSpPr/>
            <p:nvPr/>
          </p:nvSpPr>
          <p:spPr>
            <a:xfrm>
              <a:off x="5181480" y="3809880"/>
              <a:ext cx="3500640" cy="2357640"/>
            </a:xfrm>
            <a:prstGeom prst="roundRect">
              <a:avLst>
                <a:gd name="adj" fmla="val 166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11440" y="3937320"/>
              <a:ext cx="323856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RRA ADEQUADA PARA TODAS AS ATIVIDADES ECONÔMICAS E PARA TODOS OS SEGMENTOS SOCI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1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radia e atividades econômicas para população de baixa renda não podem, simplesmente, ser resolvidos pelo mercad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43240" y="1228680"/>
            <a:ext cx="6624360" cy="4306680"/>
            <a:chOff x="2343240" y="1228680"/>
            <a:chExt cx="6624360" cy="4306680"/>
          </a:xfrm>
        </p:grpSpPr>
        <p:sp>
          <p:nvSpPr>
            <p:cNvPr id="58" name=""/>
            <p:cNvSpPr/>
            <p:nvPr/>
          </p:nvSpPr>
          <p:spPr>
            <a:xfrm>
              <a:off x="2962080" y="2307600"/>
              <a:ext cx="1693080" cy="1629720"/>
            </a:xfrm>
            <a:prstGeom prst="roundRect">
              <a:avLst>
                <a:gd name="adj" fmla="val 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9560" y="2548800"/>
              <a:ext cx="1339560" cy="1366200"/>
            </a:xfrm>
            <a:custGeom>
              <a:avLst/>
              <a:gdLst>
                <a:gd name="textAreaLeft" fmla="*/ 360 w 1339560"/>
                <a:gd name="textAreaRight" fmla="*/ 1339200 w 1339560"/>
                <a:gd name="textAreaTop" fmla="*/ 360 h 1366200"/>
                <a:gd name="textAreaBottom" fmla="*/ 1365840 h 1366200"/>
              </a:gdLst>
              <a:ahLst/>
              <a:rect l="textAreaLeft" t="textAreaTop" r="textAreaRight" b="textAreaBottom"/>
              <a:pathLst>
                <a:path w="21600" h="22029">
                  <a:moveTo>
                    <a:pt x="25" y="0"/>
                  </a:moveTo>
                  <a:arcTo wR="25" hR="25" stAng="16200000" swAng="-5400000"/>
                  <a:lnTo>
                    <a:pt x="0" y="22004"/>
                  </a:lnTo>
                  <a:arcTo wR="25" hR="25" stAng="10800000" swAng="-5400000"/>
                  <a:lnTo>
                    <a:pt x="21575" y="22029"/>
                  </a:lnTo>
                  <a:arcTo wR="25" hR="25" stAng="5400000" swAng="-5400000"/>
                  <a:lnTo>
                    <a:pt x="21600" y="25"/>
                  </a:lnTo>
                  <a:arcTo wR="25" hR="25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27000" y="3926520"/>
              <a:ext cx="1780560" cy="1048680"/>
            </a:xfrm>
            <a:prstGeom prst="roundRect">
              <a:avLst>
                <a:gd name="adj" fmla="val 14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20520" y="3934440"/>
              <a:ext cx="1615680" cy="1600920"/>
            </a:xfrm>
            <a:prstGeom prst="roundRect">
              <a:avLst>
                <a:gd name="adj" fmla="val 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93280" y="1609200"/>
              <a:ext cx="842760" cy="2318400"/>
            </a:xfrm>
            <a:custGeom>
              <a:avLst/>
              <a:gdLst>
                <a:gd name="textAreaLeft" fmla="*/ 360 w 842760"/>
                <a:gd name="textAreaRight" fmla="*/ 842400 w 842760"/>
                <a:gd name="textAreaTop" fmla="*/ 360 h 2318400"/>
                <a:gd name="textAreaBottom" fmla="*/ 2318040 h 2318400"/>
              </a:gdLst>
              <a:ahLst/>
              <a:rect l="textAreaLeft" t="textAreaTop" r="textAreaRight" b="textAreaBottom"/>
              <a:pathLst>
                <a:path w="21600" h="59405">
                  <a:moveTo>
                    <a:pt x="40" y="0"/>
                  </a:moveTo>
                  <a:arcTo wR="40" hR="40" stAng="16200000" swAng="-5400000"/>
                  <a:lnTo>
                    <a:pt x="0" y="59365"/>
                  </a:lnTo>
                  <a:arcTo wR="40" hR="40" stAng="10800000" swAng="-5400000"/>
                  <a:lnTo>
                    <a:pt x="21560" y="59405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82680" y="2553480"/>
              <a:ext cx="1237680" cy="185400"/>
              <a:chOff x="3082680" y="2553480"/>
              <a:chExt cx="1237680" cy="185400"/>
            </a:xfrm>
          </p:grpSpPr>
          <p:sp>
            <p:nvSpPr>
              <p:cNvPr id="64" name=""/>
              <p:cNvSpPr/>
              <p:nvPr/>
            </p:nvSpPr>
            <p:spPr>
              <a:xfrm>
                <a:off x="3082680" y="2553480"/>
                <a:ext cx="1137600" cy="185400"/>
              </a:xfrm>
              <a:prstGeom prst="roundRect">
                <a:avLst>
                  <a:gd name="adj" fmla="val 8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082680" y="2553480"/>
                <a:ext cx="1237680" cy="183600"/>
                <a:chOff x="3082680" y="2553480"/>
                <a:chExt cx="1237680" cy="1836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082680" y="2553480"/>
                  <a:ext cx="1237680" cy="182160"/>
                </a:xfrm>
                <a:prstGeom prst="roundRect">
                  <a:avLst>
                    <a:gd name="adj" fmla="val 86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082680" y="2553480"/>
                  <a:ext cx="1153440" cy="183600"/>
                  <a:chOff x="3082680" y="2553480"/>
                  <a:chExt cx="1153440" cy="1836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082680" y="2553480"/>
                    <a:ext cx="1153440" cy="18072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084120" y="2553480"/>
                    <a:ext cx="1150560" cy="18360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zenda de Fulan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" name=""/>
            <p:cNvGrpSpPr/>
            <p:nvPr/>
          </p:nvGrpSpPr>
          <p:grpSpPr>
            <a:xfrm>
              <a:off x="4752360" y="2609280"/>
              <a:ext cx="909000" cy="183600"/>
              <a:chOff x="4752360" y="2609280"/>
              <a:chExt cx="909000" cy="183600"/>
            </a:xfrm>
          </p:grpSpPr>
          <p:sp>
            <p:nvSpPr>
              <p:cNvPr id="71" name=""/>
              <p:cNvSpPr/>
              <p:nvPr/>
            </p:nvSpPr>
            <p:spPr>
              <a:xfrm>
                <a:off x="4752360" y="2609280"/>
                <a:ext cx="844200" cy="183600"/>
              </a:xfrm>
              <a:prstGeom prst="roundRect">
                <a:avLst>
                  <a:gd name="adj" fmla="val 86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4752360" y="2609280"/>
                <a:ext cx="909000" cy="183600"/>
                <a:chOff x="4752360" y="2609280"/>
                <a:chExt cx="909000" cy="1836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752360" y="2609280"/>
                  <a:ext cx="909000" cy="178560"/>
                </a:xfrm>
                <a:prstGeom prst="roundRect">
                  <a:avLst>
                    <a:gd name="adj" fmla="val 8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4752360" y="2609280"/>
                  <a:ext cx="907200" cy="183600"/>
                  <a:chOff x="4752360" y="2609280"/>
                  <a:chExt cx="907200" cy="1836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4752360" y="2609280"/>
                    <a:ext cx="907200" cy="176760"/>
                  </a:xfrm>
                  <a:prstGeom prst="roundRect">
                    <a:avLst>
                      <a:gd name="adj" fmla="val 8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54880" y="2609280"/>
                    <a:ext cx="902160" cy="183600"/>
                  </a:xfrm>
                  <a:prstGeom prst="roundRect">
                    <a:avLst>
                      <a:gd name="adj" fmla="val 8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ra da Igrej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7" name=""/>
            <p:cNvGrpSpPr/>
            <p:nvPr/>
          </p:nvGrpSpPr>
          <p:grpSpPr>
            <a:xfrm>
              <a:off x="3827160" y="4097880"/>
              <a:ext cx="925200" cy="183600"/>
              <a:chOff x="3827160" y="4097880"/>
              <a:chExt cx="925200" cy="183600"/>
            </a:xfrm>
          </p:grpSpPr>
          <p:sp>
            <p:nvSpPr>
              <p:cNvPr id="78" name=""/>
              <p:cNvSpPr/>
              <p:nvPr/>
            </p:nvSpPr>
            <p:spPr>
              <a:xfrm>
                <a:off x="3827160" y="4097880"/>
                <a:ext cx="869400" cy="183600"/>
              </a:xfrm>
              <a:prstGeom prst="roundRect">
                <a:avLst>
                  <a:gd name="adj" fmla="val 86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827160" y="4097880"/>
                <a:ext cx="925200" cy="183600"/>
                <a:chOff x="3827160" y="4097880"/>
                <a:chExt cx="925200" cy="1836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827160" y="4097880"/>
                  <a:ext cx="925200" cy="178920"/>
                </a:xfrm>
                <a:prstGeom prst="roundRect">
                  <a:avLst>
                    <a:gd name="adj" fmla="val 8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3827160" y="4097880"/>
                  <a:ext cx="923760" cy="183600"/>
                  <a:chOff x="3827160" y="4097880"/>
                  <a:chExt cx="923760" cy="1836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3827160" y="4097880"/>
                    <a:ext cx="923760" cy="177480"/>
                  </a:xfrm>
                  <a:prstGeom prst="roundRect">
                    <a:avLst>
                      <a:gd name="adj" fmla="val 8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828600" y="4097880"/>
                    <a:ext cx="920520" cy="183600"/>
                  </a:xfrm>
                  <a:prstGeom prst="roundRect">
                    <a:avLst>
                      <a:gd name="adj" fmla="val 8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ra da Uniã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4" name=""/>
            <p:cNvGrpSpPr/>
            <p:nvPr/>
          </p:nvGrpSpPr>
          <p:grpSpPr>
            <a:xfrm>
              <a:off x="5593680" y="4001040"/>
              <a:ext cx="1121760" cy="366120"/>
              <a:chOff x="5593680" y="4001040"/>
              <a:chExt cx="1121760" cy="366120"/>
            </a:xfrm>
          </p:grpSpPr>
          <p:sp>
            <p:nvSpPr>
              <p:cNvPr id="85" name=""/>
              <p:cNvSpPr/>
              <p:nvPr/>
            </p:nvSpPr>
            <p:spPr>
              <a:xfrm>
                <a:off x="5593680" y="4001040"/>
                <a:ext cx="1002960" cy="186840"/>
              </a:xfrm>
              <a:prstGeom prst="roundRect">
                <a:avLst>
                  <a:gd name="adj" fmla="val 8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5594760" y="4001040"/>
                <a:ext cx="1120680" cy="366120"/>
                <a:chOff x="5594760" y="4001040"/>
                <a:chExt cx="1120680" cy="3661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594760" y="4001040"/>
                  <a:ext cx="1120680" cy="364680"/>
                </a:xfrm>
                <a:prstGeom prst="roundRect">
                  <a:avLst>
                    <a:gd name="adj" fmla="val 86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5594760" y="4001040"/>
                  <a:ext cx="1117440" cy="366120"/>
                  <a:chOff x="5594760" y="4001040"/>
                  <a:chExt cx="1117440" cy="36612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594760" y="4001040"/>
                    <a:ext cx="1117440" cy="36144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595480" y="4001040"/>
                    <a:ext cx="1115640" cy="36612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leba da Empres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gri Do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" name=""/>
            <p:cNvGrpSpPr/>
            <p:nvPr/>
          </p:nvGrpSpPr>
          <p:grpSpPr>
            <a:xfrm>
              <a:off x="6019920" y="1684080"/>
              <a:ext cx="768240" cy="367200"/>
              <a:chOff x="6019920" y="1684080"/>
              <a:chExt cx="768240" cy="367200"/>
            </a:xfrm>
          </p:grpSpPr>
          <p:sp>
            <p:nvSpPr>
              <p:cNvPr id="92" name=""/>
              <p:cNvSpPr/>
              <p:nvPr/>
            </p:nvSpPr>
            <p:spPr>
              <a:xfrm>
                <a:off x="6020280" y="1684080"/>
                <a:ext cx="767880" cy="186840"/>
              </a:xfrm>
              <a:prstGeom prst="roundRect">
                <a:avLst>
                  <a:gd name="adj" fmla="val 8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6019920" y="1684080"/>
                <a:ext cx="691560" cy="367200"/>
                <a:chOff x="6019920" y="1684080"/>
                <a:chExt cx="691560" cy="3672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021360" y="1684080"/>
                  <a:ext cx="690120" cy="364680"/>
                </a:xfrm>
                <a:prstGeom prst="roundRect">
                  <a:avLst>
                    <a:gd name="adj" fmla="val 86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6019920" y="1685160"/>
                  <a:ext cx="688680" cy="366120"/>
                  <a:chOff x="6019920" y="1685160"/>
                  <a:chExt cx="688680" cy="3661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6021360" y="1685160"/>
                    <a:ext cx="686880" cy="36180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019920" y="1685160"/>
                    <a:ext cx="688680" cy="366120"/>
                  </a:xfrm>
                  <a:prstGeom prst="roundRect">
                    <a:avLst>
                      <a:gd name="adj" fmla="val 43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zende d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icran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8" name=""/>
            <p:cNvSpPr/>
            <p:nvPr/>
          </p:nvSpPr>
          <p:spPr>
            <a:xfrm>
              <a:off x="7139520" y="1569600"/>
              <a:ext cx="358560" cy="31716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29800" y="1998360"/>
              <a:ext cx="469800" cy="45504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5680" y="2111040"/>
              <a:ext cx="731520" cy="70452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920" y="2274480"/>
              <a:ext cx="801360" cy="717120"/>
            </a:xfrm>
            <a:prstGeom prst="ellipse">
              <a:avLst/>
            </a:prstGeom>
            <a:solidFill>
              <a:srgbClr val="23f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13720" y="1531440"/>
              <a:ext cx="939600" cy="84276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79000" y="1407600"/>
              <a:ext cx="593280" cy="59364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1160" y="1836360"/>
              <a:ext cx="123480" cy="137880"/>
            </a:xfrm>
            <a:prstGeom prst="ellipse">
              <a:avLst/>
            </a:prstGeom>
            <a:solidFill>
              <a:srgbClr val="b3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69600" y="2139480"/>
              <a:ext cx="248760" cy="23472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2280" y="3285360"/>
              <a:ext cx="133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752360" y="3364920"/>
              <a:ext cx="1196640" cy="183600"/>
              <a:chOff x="4752360" y="3364920"/>
              <a:chExt cx="1196640" cy="183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752360" y="3364920"/>
                <a:ext cx="844200" cy="183600"/>
              </a:xfrm>
              <a:prstGeom prst="roundRect">
                <a:avLst>
                  <a:gd name="adj" fmla="val 86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4752360" y="3364920"/>
                <a:ext cx="1196640" cy="183600"/>
                <a:chOff x="4752360" y="3364920"/>
                <a:chExt cx="1196640" cy="183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752360" y="3364920"/>
                  <a:ext cx="1196640" cy="178560"/>
                </a:xfrm>
                <a:prstGeom prst="roundRect">
                  <a:avLst>
                    <a:gd name="adj" fmla="val 8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4752360" y="3364920"/>
                  <a:ext cx="1195200" cy="183600"/>
                  <a:chOff x="4752360" y="3364920"/>
                  <a:chExt cx="1195200" cy="1836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4752360" y="3364920"/>
                    <a:ext cx="1195200" cy="176760"/>
                  </a:xfrm>
                  <a:prstGeom prst="roundRect">
                    <a:avLst>
                      <a:gd name="adj" fmla="val 8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753440" y="3364920"/>
                    <a:ext cx="1193040" cy="183600"/>
                  </a:xfrm>
                  <a:prstGeom prst="roundRect">
                    <a:avLst>
                      <a:gd name="adj" fmla="val 8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ra do Municípi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4" name=""/>
            <p:cNvGrpSpPr/>
            <p:nvPr/>
          </p:nvGrpSpPr>
          <p:grpSpPr>
            <a:xfrm>
              <a:off x="6856920" y="3561120"/>
              <a:ext cx="1813680" cy="185400"/>
              <a:chOff x="6856920" y="3561120"/>
              <a:chExt cx="1813680" cy="185400"/>
            </a:xfrm>
          </p:grpSpPr>
          <p:sp>
            <p:nvSpPr>
              <p:cNvPr id="115" name=""/>
              <p:cNvSpPr/>
              <p:nvPr/>
            </p:nvSpPr>
            <p:spPr>
              <a:xfrm>
                <a:off x="6856920" y="3561120"/>
                <a:ext cx="1567800" cy="185400"/>
              </a:xfrm>
              <a:prstGeom prst="roundRect">
                <a:avLst>
                  <a:gd name="adj" fmla="val 8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6856920" y="3561120"/>
                <a:ext cx="1813680" cy="183600"/>
                <a:chOff x="6856920" y="3561120"/>
                <a:chExt cx="1813680" cy="183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856920" y="3561120"/>
                  <a:ext cx="1813680" cy="182160"/>
                </a:xfrm>
                <a:prstGeom prst="roundRect">
                  <a:avLst>
                    <a:gd name="adj" fmla="val 86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6856920" y="3561120"/>
                  <a:ext cx="1722960" cy="183600"/>
                  <a:chOff x="6856920" y="3561120"/>
                  <a:chExt cx="1722960" cy="1836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6856920" y="3561120"/>
                    <a:ext cx="1722960" cy="18072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6859440" y="3561120"/>
                    <a:ext cx="1717560" cy="18360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manescente de Quilomb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" name=""/>
            <p:cNvSpPr/>
            <p:nvPr/>
          </p:nvSpPr>
          <p:spPr>
            <a:xfrm>
              <a:off x="6849000" y="1233000"/>
              <a:ext cx="2104200" cy="182808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893280" y="1228680"/>
              <a:ext cx="1991880" cy="366480"/>
              <a:chOff x="6893280" y="1228680"/>
              <a:chExt cx="1991880" cy="3664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93280" y="1228680"/>
                <a:ext cx="1991880" cy="186840"/>
              </a:xfrm>
              <a:prstGeom prst="roundRect">
                <a:avLst>
                  <a:gd name="adj" fmla="val 8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896160" y="1228680"/>
                <a:ext cx="1794960" cy="366480"/>
                <a:chOff x="6896160" y="1228680"/>
                <a:chExt cx="1794960" cy="366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896160" y="1228680"/>
                  <a:ext cx="1794960" cy="366480"/>
                </a:xfrm>
                <a:prstGeom prst="roundRect">
                  <a:avLst>
                    <a:gd name="adj" fmla="val 86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896160" y="1230120"/>
                  <a:ext cx="1256400" cy="183600"/>
                  <a:chOff x="6896160" y="1230120"/>
                  <a:chExt cx="1256400" cy="1836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6896160" y="1230120"/>
                    <a:ext cx="1256400" cy="18288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898680" y="1230120"/>
                    <a:ext cx="1251000" cy="18360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zenda de Beltran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9" name=""/>
            <p:cNvSpPr/>
            <p:nvPr/>
          </p:nvSpPr>
          <p:spPr>
            <a:xfrm>
              <a:off x="2719080" y="4112280"/>
              <a:ext cx="774360" cy="381960"/>
            </a:xfrm>
            <a:custGeom>
              <a:avLst/>
              <a:gdLst/>
              <a:ahLst/>
              <a:rect l="l" t="t" r="r" b="b"/>
              <a:pathLst>
                <a:path w="2152" h="1062">
                  <a:moveTo>
                    <a:pt x="2151" y="192"/>
                  </a:moveTo>
                  <a:cubicBezTo>
                    <a:pt x="1726" y="7"/>
                    <a:pt x="1278" y="227"/>
                    <a:pt x="999" y="499"/>
                  </a:cubicBezTo>
                  <a:cubicBezTo>
                    <a:pt x="715" y="778"/>
                    <a:pt x="0" y="1061"/>
                    <a:pt x="41" y="422"/>
                  </a:cubicBezTo>
                  <a:lnTo>
                    <a:pt x="41" y="38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30320" y="4320000"/>
              <a:ext cx="415440" cy="496800"/>
            </a:xfrm>
            <a:custGeom>
              <a:avLst/>
              <a:gdLst/>
              <a:ahLst/>
              <a:rect l="l" t="t" r="r" b="b"/>
              <a:pathLst>
                <a:path w="1155" h="1381">
                  <a:moveTo>
                    <a:pt x="881" y="0"/>
                  </a:moveTo>
                  <a:cubicBezTo>
                    <a:pt x="1154" y="595"/>
                    <a:pt x="272" y="589"/>
                    <a:pt x="192" y="1073"/>
                  </a:cubicBezTo>
                  <a:lnTo>
                    <a:pt x="0" y="13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1600" y="4283640"/>
              <a:ext cx="415440" cy="496440"/>
            </a:xfrm>
            <a:custGeom>
              <a:avLst/>
              <a:gdLst/>
              <a:ahLst/>
              <a:rect l="l" t="t" r="r" b="b"/>
              <a:pathLst>
                <a:path w="1155" h="1380">
                  <a:moveTo>
                    <a:pt x="881" y="0"/>
                  </a:moveTo>
                  <a:cubicBezTo>
                    <a:pt x="1154" y="594"/>
                    <a:pt x="272" y="588"/>
                    <a:pt x="192" y="1072"/>
                  </a:cubicBezTo>
                  <a:lnTo>
                    <a:pt x="0" y="13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50640" y="4596120"/>
              <a:ext cx="428400" cy="236160"/>
            </a:xfrm>
            <a:custGeom>
              <a:avLst/>
              <a:gdLst/>
              <a:ahLst/>
              <a:rect l="l" t="t" r="r" b="b"/>
              <a:pathLst>
                <a:path w="1191" h="658">
                  <a:moveTo>
                    <a:pt x="0" y="0"/>
                  </a:moveTo>
                  <a:cubicBezTo>
                    <a:pt x="42" y="657"/>
                    <a:pt x="663" y="470"/>
                    <a:pt x="1032" y="569"/>
                  </a:cubicBezTo>
                  <a:lnTo>
                    <a:pt x="1190" y="6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14280" y="4631040"/>
              <a:ext cx="428400" cy="236160"/>
            </a:xfrm>
            <a:custGeom>
              <a:avLst/>
              <a:gdLst/>
              <a:ahLst/>
              <a:rect l="l" t="t" r="r" b="b"/>
              <a:pathLst>
                <a:path w="1191" h="658">
                  <a:moveTo>
                    <a:pt x="0" y="0"/>
                  </a:moveTo>
                  <a:cubicBezTo>
                    <a:pt x="42" y="657"/>
                    <a:pt x="663" y="470"/>
                    <a:pt x="1032" y="569"/>
                  </a:cubicBezTo>
                  <a:lnTo>
                    <a:pt x="1190" y="6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4200" y="4842000"/>
              <a:ext cx="96480" cy="123480"/>
            </a:xfrm>
            <a:custGeom>
              <a:avLst/>
              <a:gdLst>
                <a:gd name="textAreaLeft" fmla="*/ 360 w 96480"/>
                <a:gd name="textAreaRight" fmla="*/ 96120 w 96480"/>
                <a:gd name="textAreaTop" fmla="*/ 360 h 123480"/>
                <a:gd name="textAreaBottom" fmla="*/ 123120 h 123480"/>
              </a:gdLst>
              <a:ahLst/>
              <a:rect l="textAreaLeft" t="textAreaTop" r="textAreaRight" b="textAreaBottom"/>
              <a:pathLst>
                <a:path w="21600" h="27622">
                  <a:moveTo>
                    <a:pt x="360" y="0"/>
                  </a:moveTo>
                  <a:arcTo wR="360" hR="360" stAng="16200000" swAng="-5400000"/>
                  <a:lnTo>
                    <a:pt x="0" y="27262"/>
                  </a:lnTo>
                  <a:arcTo wR="360" hR="360" stAng="10800000" swAng="-5400000"/>
                  <a:lnTo>
                    <a:pt x="21240" y="27622"/>
                  </a:lnTo>
                  <a:arcTo wR="360" hR="360" stAng="5400000" swAng="-5400000"/>
                  <a:lnTo>
                    <a:pt x="21600" y="360"/>
                  </a:lnTo>
                  <a:arcTo wR="360" hR="360" stAng="0" swAng="-5400000"/>
                  <a:close/>
                </a:path>
              </a:pathLst>
            </a:cu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3300120" y="4016880"/>
              <a:ext cx="128160" cy="110880"/>
            </a:xfrm>
            <a:prstGeom prst="roundRect">
              <a:avLst>
                <a:gd name="adj" fmla="val 1426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3327120" y="4295880"/>
              <a:ext cx="82080" cy="91800"/>
            </a:xfrm>
            <a:custGeom>
              <a:avLst/>
              <a:gdLst>
                <a:gd name="textAreaLeft" fmla="*/ 360 w 82080"/>
                <a:gd name="textAreaRight" fmla="*/ 81720 w 82080"/>
                <a:gd name="textAreaTop" fmla="*/ 360 h 91800"/>
                <a:gd name="textAreaBottom" fmla="*/ 91440 h 91800"/>
              </a:gdLst>
              <a:ahLst/>
              <a:rect l="textAreaLeft" t="textAreaTop" r="textAreaRight" b="textAreaBottom"/>
              <a:pathLst>
                <a:path w="21600" h="24147">
                  <a:moveTo>
                    <a:pt x="415" y="0"/>
                  </a:moveTo>
                  <a:arcTo wR="415" hR="415" stAng="16200000" swAng="-5400000"/>
                  <a:lnTo>
                    <a:pt x="0" y="23732"/>
                  </a:lnTo>
                  <a:arcTo wR="415" hR="415" stAng="10800000" swAng="-5400000"/>
                  <a:lnTo>
                    <a:pt x="21185" y="24147"/>
                  </a:lnTo>
                  <a:arcTo wR="415" hR="415" stAng="5400000" swAng="-5400000"/>
                  <a:lnTo>
                    <a:pt x="21600" y="415"/>
                  </a:lnTo>
                  <a:arcTo wR="415" hR="415" stAng="0" swAng="-5400000"/>
                  <a:close/>
                </a:path>
              </a:pathLst>
            </a:cu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49280" y="4518000"/>
              <a:ext cx="142560" cy="123480"/>
            </a:xfrm>
            <a:prstGeom prst="roundRect">
              <a:avLst>
                <a:gd name="adj" fmla="val 1278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560" y="4447080"/>
              <a:ext cx="96480" cy="123480"/>
            </a:xfrm>
            <a:custGeom>
              <a:avLst/>
              <a:gdLst>
                <a:gd name="textAreaLeft" fmla="*/ 360 w 96480"/>
                <a:gd name="textAreaRight" fmla="*/ 96120 w 96480"/>
                <a:gd name="textAreaTop" fmla="*/ 360 h 123480"/>
                <a:gd name="textAreaBottom" fmla="*/ 123120 h 123480"/>
              </a:gdLst>
              <a:ahLst/>
              <a:rect l="textAreaLeft" t="textAreaTop" r="textAreaRight" b="textAreaBottom"/>
              <a:pathLst>
                <a:path w="21600" h="27622">
                  <a:moveTo>
                    <a:pt x="360" y="0"/>
                  </a:moveTo>
                  <a:arcTo wR="360" hR="360" stAng="16200000" swAng="-5400000"/>
                  <a:lnTo>
                    <a:pt x="0" y="27262"/>
                  </a:lnTo>
                  <a:arcTo wR="360" hR="360" stAng="10800000" swAng="-5400000"/>
                  <a:lnTo>
                    <a:pt x="21240" y="27622"/>
                  </a:lnTo>
                  <a:arcTo wR="360" hR="360" stAng="5400000" swAng="-5400000"/>
                  <a:lnTo>
                    <a:pt x="21600" y="360"/>
                  </a:lnTo>
                  <a:arcTo wR="360" hR="360" stAng="0" swAng="-5400000"/>
                  <a:close/>
                </a:path>
              </a:pathLst>
            </a:cu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9640" y="4518000"/>
              <a:ext cx="253440" cy="136440"/>
            </a:xfrm>
            <a:prstGeom prst="roundRect">
              <a:avLst>
                <a:gd name="adj" fmla="val 1162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76200" y="4015440"/>
              <a:ext cx="128160" cy="136080"/>
            </a:xfrm>
            <a:custGeom>
              <a:avLst/>
              <a:gdLst>
                <a:gd name="textAreaLeft" fmla="*/ 360 w 128160"/>
                <a:gd name="textAreaRight" fmla="*/ 127800 w 128160"/>
                <a:gd name="textAreaTop" fmla="*/ 360 h 136080"/>
                <a:gd name="textAreaBottom" fmla="*/ 135720 h 136080"/>
              </a:gdLst>
              <a:ahLst/>
              <a:rect l="textAreaLeft" t="textAreaTop" r="textAreaRight" b="textAreaBottom"/>
              <a:pathLst>
                <a:path w="21600" h="22931">
                  <a:moveTo>
                    <a:pt x="270" y="0"/>
                  </a:moveTo>
                  <a:arcTo wR="270" hR="270" stAng="16200000" swAng="-5400000"/>
                  <a:lnTo>
                    <a:pt x="0" y="22661"/>
                  </a:lnTo>
                  <a:arcTo wR="270" hR="270" stAng="10800000" swAng="-5400000"/>
                  <a:lnTo>
                    <a:pt x="21330" y="22931"/>
                  </a:lnTo>
                  <a:arcTo wR="270" hR="270" stAng="5400000" swAng="-5400000"/>
                  <a:lnTo>
                    <a:pt x="21600" y="270"/>
                  </a:lnTo>
                  <a:arcTo wR="270" hR="270" stAng="0" swAng="-5400000"/>
                  <a:close/>
                </a:path>
              </a:pathLst>
            </a:cu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60200" y="4123080"/>
              <a:ext cx="128520" cy="1364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136440"/>
                <a:gd name="textAreaBottom" fmla="*/ 136080 h 136440"/>
              </a:gdLst>
              <a:ahLst/>
              <a:rect l="textAreaLeft" t="textAreaTop" r="textAreaRight" b="textAreaBottom"/>
              <a:pathLst>
                <a:path w="21600" h="22927">
                  <a:moveTo>
                    <a:pt x="270" y="0"/>
                  </a:moveTo>
                  <a:arcTo wR="270" hR="270" stAng="16200000" swAng="-5400000"/>
                  <a:lnTo>
                    <a:pt x="0" y="22657"/>
                  </a:lnTo>
                  <a:arcTo wR="270" hR="270" stAng="10800000" swAng="-5400000"/>
                  <a:lnTo>
                    <a:pt x="21330" y="22927"/>
                  </a:lnTo>
                  <a:arcTo wR="270" hR="270" stAng="5400000" swAng="-5400000"/>
                  <a:lnTo>
                    <a:pt x="21600" y="270"/>
                  </a:lnTo>
                  <a:arcTo wR="270" hR="270" stAng="0" swAng="-5400000"/>
                  <a:close/>
                </a:path>
              </a:pathLst>
            </a:cu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6920" y="4807080"/>
              <a:ext cx="139320" cy="176040"/>
            </a:xfrm>
            <a:custGeom>
              <a:avLst/>
              <a:gdLst>
                <a:gd name="textAreaLeft" fmla="*/ 360 w 139320"/>
                <a:gd name="textAreaRight" fmla="*/ 138960 w 139320"/>
                <a:gd name="textAreaTop" fmla="*/ 360 h 176040"/>
                <a:gd name="textAreaBottom" fmla="*/ 175680 h 176040"/>
              </a:gdLst>
              <a:ahLst/>
              <a:rect l="textAreaLeft" t="textAreaTop" r="textAreaRight" b="textAreaBottom"/>
              <a:pathLst>
                <a:path w="21600" h="27278">
                  <a:moveTo>
                    <a:pt x="245" y="0"/>
                  </a:moveTo>
                  <a:arcTo wR="245" hR="245" stAng="16200000" swAng="-5400000"/>
                  <a:lnTo>
                    <a:pt x="0" y="27033"/>
                  </a:lnTo>
                  <a:arcTo wR="245" hR="245" stAng="10800000" swAng="-5400000"/>
                  <a:lnTo>
                    <a:pt x="21355" y="27278"/>
                  </a:lnTo>
                  <a:arcTo wR="245" hR="245" stAng="5400000" swAng="-5400000"/>
                  <a:lnTo>
                    <a:pt x="21600" y="245"/>
                  </a:lnTo>
                  <a:arcTo wR="245" hR="245" stAng="0" swAng="-5400000"/>
                  <a:close/>
                </a:path>
              </a:pathLst>
            </a:cu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9080" y="4185000"/>
              <a:ext cx="774360" cy="382320"/>
            </a:xfrm>
            <a:custGeom>
              <a:avLst/>
              <a:gdLst/>
              <a:ahLst/>
              <a:rect l="l" t="t" r="r" b="b"/>
              <a:pathLst>
                <a:path w="2152" h="1063">
                  <a:moveTo>
                    <a:pt x="2151" y="192"/>
                  </a:moveTo>
                  <a:cubicBezTo>
                    <a:pt x="1726" y="7"/>
                    <a:pt x="1278" y="227"/>
                    <a:pt x="999" y="500"/>
                  </a:cubicBezTo>
                  <a:cubicBezTo>
                    <a:pt x="715" y="779"/>
                    <a:pt x="0" y="1062"/>
                    <a:pt x="41" y="423"/>
                  </a:cubicBezTo>
                  <a:lnTo>
                    <a:pt x="41" y="38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343240" y="5027760"/>
              <a:ext cx="1002960" cy="185400"/>
              <a:chOff x="2343240" y="5027760"/>
              <a:chExt cx="1002960" cy="185400"/>
            </a:xfrm>
          </p:grpSpPr>
          <p:sp>
            <p:nvSpPr>
              <p:cNvPr id="145" name=""/>
              <p:cNvSpPr/>
              <p:nvPr/>
            </p:nvSpPr>
            <p:spPr>
              <a:xfrm>
                <a:off x="2343240" y="5027760"/>
                <a:ext cx="869400" cy="185400"/>
              </a:xfrm>
              <a:prstGeom prst="roundRect">
                <a:avLst>
                  <a:gd name="adj" fmla="val 8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2343240" y="5027760"/>
                <a:ext cx="1002960" cy="183600"/>
                <a:chOff x="2343240" y="5027760"/>
                <a:chExt cx="1002960" cy="1836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343240" y="5027760"/>
                  <a:ext cx="928080" cy="182520"/>
                </a:xfrm>
                <a:prstGeom prst="roundRect">
                  <a:avLst>
                    <a:gd name="adj" fmla="val 86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2343240" y="5027760"/>
                  <a:ext cx="1002960" cy="183600"/>
                  <a:chOff x="2343240" y="5027760"/>
                  <a:chExt cx="1002960" cy="1836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343240" y="5027760"/>
                    <a:ext cx="1002960" cy="18108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344680" y="5027760"/>
                    <a:ext cx="999720" cy="183600"/>
                  </a:xfrm>
                  <a:prstGeom prst="roundRect">
                    <a:avLst>
                      <a:gd name="adj" fmla="val 86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vela do Cant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6849000" y="3061440"/>
              <a:ext cx="2118600" cy="82692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549520" y="1233360"/>
            <a:ext cx="6418080" cy="4478040"/>
            <a:chOff x="2549520" y="1233360"/>
            <a:chExt cx="6418080" cy="4478040"/>
          </a:xfrm>
        </p:grpSpPr>
        <p:sp>
          <p:nvSpPr>
            <p:cNvPr id="153" name=""/>
            <p:cNvSpPr/>
            <p:nvPr/>
          </p:nvSpPr>
          <p:spPr>
            <a:xfrm>
              <a:off x="2815920" y="3808800"/>
              <a:ext cx="69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902680" y="3132720"/>
              <a:ext cx="60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9760" y="3021840"/>
              <a:ext cx="55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486960" y="2289960"/>
              <a:ext cx="140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14400" y="2305800"/>
              <a:ext cx="288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30240" y="3794760"/>
              <a:ext cx="91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39600" y="2312280"/>
              <a:ext cx="108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677480" y="2547360"/>
              <a:ext cx="130644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60200" y="3237480"/>
              <a:ext cx="131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63440" y="3326400"/>
              <a:ext cx="1334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63440" y="3326400"/>
              <a:ext cx="108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3440" y="3794760"/>
              <a:ext cx="1310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30320" y="3946680"/>
              <a:ext cx="67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0560" y="3946680"/>
              <a:ext cx="108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1440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30240" y="3946680"/>
              <a:ext cx="896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25200" y="3961080"/>
              <a:ext cx="144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50480" y="3946680"/>
              <a:ext cx="144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0360" y="3938760"/>
              <a:ext cx="1440" cy="158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22320" y="39466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50480" y="3946680"/>
              <a:ext cx="758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6400" y="313272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6344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8860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03000" y="3339000"/>
              <a:ext cx="108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4400" y="2305800"/>
              <a:ext cx="92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73160" y="2283840"/>
              <a:ext cx="62496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904840" y="2196360"/>
              <a:ext cx="16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553640" y="1968120"/>
              <a:ext cx="144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92160" y="3932280"/>
              <a:ext cx="837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33120" y="3932280"/>
              <a:ext cx="10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29960" y="3932280"/>
              <a:ext cx="108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44000" y="3932280"/>
              <a:ext cx="5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077160" y="1630080"/>
              <a:ext cx="1404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85440" y="2458440"/>
              <a:ext cx="67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6753240" y="1620360"/>
              <a:ext cx="1404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085440" y="1608840"/>
              <a:ext cx="6696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9840" y="150624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99840" y="1374120"/>
              <a:ext cx="10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47480" y="1401480"/>
              <a:ext cx="108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4320" y="1423800"/>
              <a:ext cx="1080" cy="19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080760" y="2582280"/>
              <a:ext cx="1368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753240" y="2555280"/>
              <a:ext cx="14040" cy="67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5440" y="2567880"/>
              <a:ext cx="669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5440" y="3229560"/>
              <a:ext cx="67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9840" y="3353400"/>
              <a:ext cx="108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9840" y="3326400"/>
              <a:ext cx="66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9840" y="379476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7480" y="3326400"/>
              <a:ext cx="108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44320" y="3781800"/>
              <a:ext cx="29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38000" y="3932280"/>
              <a:ext cx="10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4400" y="4968720"/>
              <a:ext cx="91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50480" y="4968720"/>
              <a:ext cx="772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4120" y="5090760"/>
              <a:ext cx="206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412440" y="4954320"/>
              <a:ext cx="85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22320" y="5103720"/>
              <a:ext cx="1080" cy="60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29960" y="5518080"/>
              <a:ext cx="578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06200" y="5600520"/>
              <a:ext cx="153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06200" y="5600520"/>
              <a:ext cx="14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38000" y="5600520"/>
              <a:ext cx="10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47440" y="3772440"/>
              <a:ext cx="1080" cy="18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7640" y="2521800"/>
              <a:ext cx="9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7640" y="2736000"/>
              <a:ext cx="92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17640" y="2917080"/>
              <a:ext cx="9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17640" y="3132720"/>
              <a:ext cx="9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184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276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3476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1580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6816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416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0016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15440" y="2555280"/>
              <a:ext cx="144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2160" y="5011560"/>
              <a:ext cx="831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4000" y="3932280"/>
              <a:ext cx="5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44000" y="4184640"/>
              <a:ext cx="5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0" y="443736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4000" y="472464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44000" y="501156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0" y="526248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5440" y="2120400"/>
              <a:ext cx="6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85440" y="229968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85440" y="271080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85440" y="2890080"/>
              <a:ext cx="6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5440" y="307080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1600" y="2305800"/>
              <a:ext cx="1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14400" y="4429440"/>
              <a:ext cx="91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1760" y="3932280"/>
              <a:ext cx="10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29960" y="2126880"/>
              <a:ext cx="108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4000" y="2567880"/>
              <a:ext cx="144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63440" y="2912400"/>
              <a:ext cx="1325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3080" y="3200760"/>
              <a:ext cx="166320" cy="16632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17120" y="3396240"/>
              <a:ext cx="166320" cy="16632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31520" y="3591360"/>
              <a:ext cx="166320" cy="166320"/>
            </a:xfrm>
            <a:prstGeom prst="ellipse">
              <a:avLst/>
            </a:pr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20600" y="3269160"/>
              <a:ext cx="249120" cy="39960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399600"/>
                <a:gd name="textAreaBottom" fmla="*/ 399240 h 399600"/>
              </a:gdLst>
              <a:ahLst/>
              <a:rect l="textAreaLeft" t="textAreaTop" r="textAreaRight" b="textAreaBottom"/>
              <a:pathLst>
                <a:path w="21600" h="34629">
                  <a:moveTo>
                    <a:pt x="138" y="0"/>
                  </a:moveTo>
                  <a:arcTo wR="138" hR="138" stAng="16200000" swAng="-5400000"/>
                  <a:lnTo>
                    <a:pt x="0" y="34491"/>
                  </a:lnTo>
                  <a:arcTo wR="138" hR="138" stAng="10800000" swAng="-5400000"/>
                  <a:lnTo>
                    <a:pt x="21462" y="34629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4875120" y="3577320"/>
              <a:ext cx="900720" cy="200160"/>
              <a:chOff x="4875120" y="3577320"/>
              <a:chExt cx="900720" cy="200160"/>
            </a:xfrm>
          </p:grpSpPr>
          <p:sp>
            <p:nvSpPr>
              <p:cNvPr id="249" name=""/>
              <p:cNvSpPr/>
              <p:nvPr/>
            </p:nvSpPr>
            <p:spPr>
              <a:xfrm>
                <a:off x="4876200" y="3577320"/>
                <a:ext cx="899640" cy="15336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4875120" y="3578400"/>
                <a:ext cx="852840" cy="199080"/>
                <a:chOff x="4875120" y="3578400"/>
                <a:chExt cx="852840" cy="1990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877280" y="3578400"/>
                  <a:ext cx="850680" cy="198000"/>
                </a:xfrm>
                <a:prstGeom prst="roundRect">
                  <a:avLst>
                    <a:gd name="adj" fmla="val 7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4875120" y="3578400"/>
                  <a:ext cx="851760" cy="199080"/>
                  <a:chOff x="4875120" y="3578400"/>
                  <a:chExt cx="851760" cy="19908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4877280" y="3578400"/>
                    <a:ext cx="847440" cy="19620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875120" y="3578400"/>
                    <a:ext cx="851760" cy="19908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OSPITAL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5" name=""/>
            <p:cNvSpPr/>
            <p:nvPr/>
          </p:nvSpPr>
          <p:spPr>
            <a:xfrm flipH="1">
              <a:off x="5924880" y="1506240"/>
              <a:ext cx="8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015600" y="1401480"/>
              <a:ext cx="108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18880" y="3353400"/>
              <a:ext cx="1242720" cy="193320"/>
            </a:xfrm>
            <a:prstGeom prst="roundRect">
              <a:avLst>
                <a:gd name="adj" fmla="val 8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1720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7576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24840" y="3215160"/>
              <a:ext cx="17928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72480" y="3215160"/>
              <a:ext cx="17928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012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776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7385040" y="3361320"/>
              <a:ext cx="1357200" cy="11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493600" y="479592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3600" y="457992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3600" y="436428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3600" y="414828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3600" y="5535360"/>
              <a:ext cx="82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4320" y="3377160"/>
              <a:ext cx="1815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4320" y="3523320"/>
              <a:ext cx="1080" cy="2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6920" y="3529440"/>
              <a:ext cx="181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978520" y="1603080"/>
              <a:ext cx="1404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679280" y="2434680"/>
              <a:ext cx="130608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79280" y="175716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911920" y="1607760"/>
              <a:ext cx="85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549520" y="3435840"/>
              <a:ext cx="901440" cy="397440"/>
              <a:chOff x="2549520" y="3435840"/>
              <a:chExt cx="901440" cy="397440"/>
            </a:xfrm>
          </p:grpSpPr>
          <p:sp>
            <p:nvSpPr>
              <p:cNvPr id="278" name=""/>
              <p:cNvSpPr/>
              <p:nvPr/>
            </p:nvSpPr>
            <p:spPr>
              <a:xfrm>
                <a:off x="2549520" y="3435840"/>
                <a:ext cx="901440" cy="15372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2550600" y="3436920"/>
                <a:ext cx="853920" cy="396360"/>
                <a:chOff x="2550600" y="3436920"/>
                <a:chExt cx="853920" cy="396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550600" y="3436920"/>
                  <a:ext cx="853920" cy="199800"/>
                </a:xfrm>
                <a:prstGeom prst="roundRect">
                  <a:avLst>
                    <a:gd name="adj" fmla="val 7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550600" y="3436920"/>
                  <a:ext cx="676800" cy="396360"/>
                  <a:chOff x="2550600" y="3436920"/>
                  <a:chExt cx="676800" cy="3963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2550600" y="3436920"/>
                    <a:ext cx="676800" cy="19836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550600" y="3436920"/>
                    <a:ext cx="67680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SCOLA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4" name=""/>
            <p:cNvSpPr/>
            <p:nvPr/>
          </p:nvSpPr>
          <p:spPr>
            <a:xfrm>
              <a:off x="7139520" y="1569600"/>
              <a:ext cx="358560" cy="31716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29800" y="1998360"/>
              <a:ext cx="469800" cy="45504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45680" y="2111040"/>
              <a:ext cx="731520" cy="70452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53920" y="2274120"/>
              <a:ext cx="801360" cy="717120"/>
            </a:xfrm>
            <a:prstGeom prst="ellipse">
              <a:avLst/>
            </a:prstGeom>
            <a:solidFill>
              <a:srgbClr val="23f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3720" y="1531440"/>
              <a:ext cx="939600" cy="84276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79000" y="1407600"/>
              <a:ext cx="593280" cy="59364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41160" y="1836360"/>
              <a:ext cx="123480" cy="137880"/>
            </a:xfrm>
            <a:prstGeom prst="ellipse">
              <a:avLst/>
            </a:prstGeom>
            <a:solidFill>
              <a:srgbClr val="b3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69600" y="2139120"/>
              <a:ext cx="248760" cy="23472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49000" y="1233360"/>
              <a:ext cx="2104200" cy="182772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923240" y="2863080"/>
              <a:ext cx="960120" cy="200880"/>
              <a:chOff x="7923240" y="2863080"/>
              <a:chExt cx="960120" cy="200880"/>
            </a:xfrm>
          </p:grpSpPr>
          <p:sp>
            <p:nvSpPr>
              <p:cNvPr id="294" name=""/>
              <p:cNvSpPr/>
              <p:nvPr/>
            </p:nvSpPr>
            <p:spPr>
              <a:xfrm>
                <a:off x="7923240" y="2863080"/>
                <a:ext cx="960120" cy="15372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7924680" y="2864520"/>
                <a:ext cx="910440" cy="199440"/>
                <a:chOff x="7924680" y="2864520"/>
                <a:chExt cx="910440" cy="199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924680" y="2864520"/>
                  <a:ext cx="910440" cy="199440"/>
                </a:xfrm>
                <a:prstGeom prst="roundRect">
                  <a:avLst>
                    <a:gd name="adj" fmla="val 7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7924680" y="2864520"/>
                  <a:ext cx="720720" cy="198360"/>
                  <a:chOff x="7924680" y="2864520"/>
                  <a:chExt cx="720720" cy="1983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7924680" y="2864520"/>
                    <a:ext cx="720720" cy="19764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924680" y="2864520"/>
                    <a:ext cx="7207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RQUE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0" name=""/>
            <p:cNvSpPr/>
            <p:nvPr/>
          </p:nvSpPr>
          <p:spPr>
            <a:xfrm>
              <a:off x="6849000" y="3061080"/>
              <a:ext cx="2118600" cy="82692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549520" y="1233360"/>
            <a:ext cx="6418080" cy="4478040"/>
            <a:chOff x="2549520" y="1233360"/>
            <a:chExt cx="6418080" cy="4478040"/>
          </a:xfrm>
        </p:grpSpPr>
        <p:sp>
          <p:nvSpPr>
            <p:cNvPr id="302" name=""/>
            <p:cNvSpPr/>
            <p:nvPr/>
          </p:nvSpPr>
          <p:spPr>
            <a:xfrm>
              <a:off x="2815920" y="3808800"/>
              <a:ext cx="69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02680" y="3132720"/>
              <a:ext cx="60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39760" y="3021840"/>
              <a:ext cx="55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486960" y="2289960"/>
              <a:ext cx="140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14400" y="2305800"/>
              <a:ext cx="288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0240" y="3794760"/>
              <a:ext cx="91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539600" y="2312280"/>
              <a:ext cx="108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677480" y="2547360"/>
              <a:ext cx="130644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60200" y="3237480"/>
              <a:ext cx="131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63440" y="3326400"/>
              <a:ext cx="1334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63440" y="3326400"/>
              <a:ext cx="108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63440" y="3794760"/>
              <a:ext cx="1310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30320" y="3946680"/>
              <a:ext cx="67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90560" y="3946680"/>
              <a:ext cx="108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440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0240" y="3946680"/>
              <a:ext cx="896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25200" y="3961080"/>
              <a:ext cx="144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50480" y="3946680"/>
              <a:ext cx="144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90360" y="3938760"/>
              <a:ext cx="1440" cy="158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22320" y="39466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50480" y="3946680"/>
              <a:ext cx="758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06400" y="313272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6344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8860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03000" y="3339000"/>
              <a:ext cx="108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14400" y="2305800"/>
              <a:ext cx="92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2873160" y="2283840"/>
              <a:ext cx="62496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904840" y="2196360"/>
              <a:ext cx="16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553640" y="1968120"/>
              <a:ext cx="144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92160" y="3932280"/>
              <a:ext cx="837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33120" y="3932280"/>
              <a:ext cx="10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29960" y="3932280"/>
              <a:ext cx="108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44000" y="3932280"/>
              <a:ext cx="5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77160" y="1630080"/>
              <a:ext cx="1404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85440" y="2458440"/>
              <a:ext cx="67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6753240" y="1620360"/>
              <a:ext cx="1404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085440" y="1608840"/>
              <a:ext cx="6696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9840" y="150624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099840" y="1374120"/>
              <a:ext cx="10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47480" y="1401480"/>
              <a:ext cx="108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44320" y="1423800"/>
              <a:ext cx="1080" cy="19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080760" y="2582280"/>
              <a:ext cx="1368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53240" y="2555280"/>
              <a:ext cx="14040" cy="67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5440" y="2567880"/>
              <a:ext cx="669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5440" y="3229560"/>
              <a:ext cx="67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9840" y="3353400"/>
              <a:ext cx="108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9840" y="3326400"/>
              <a:ext cx="66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9840" y="379476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47480" y="3326400"/>
              <a:ext cx="108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44320" y="3781800"/>
              <a:ext cx="29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38000" y="3932280"/>
              <a:ext cx="10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14400" y="4968720"/>
              <a:ext cx="91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0480" y="4968720"/>
              <a:ext cx="772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4120" y="5090760"/>
              <a:ext cx="206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12440" y="4954320"/>
              <a:ext cx="85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22320" y="5103720"/>
              <a:ext cx="1080" cy="60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29960" y="5518080"/>
              <a:ext cx="578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06200" y="5600520"/>
              <a:ext cx="153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06200" y="5600520"/>
              <a:ext cx="14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38000" y="5600520"/>
              <a:ext cx="10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7440" y="3772440"/>
              <a:ext cx="1080" cy="18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17640" y="2521800"/>
              <a:ext cx="9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7640" y="2736000"/>
              <a:ext cx="92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17640" y="2917080"/>
              <a:ext cx="9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17640" y="3132720"/>
              <a:ext cx="92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3184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8276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34760" y="3932280"/>
              <a:ext cx="1080" cy="10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580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6816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416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0160" y="255528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440" y="2555280"/>
              <a:ext cx="144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2160" y="5011560"/>
              <a:ext cx="831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44000" y="3932280"/>
              <a:ext cx="5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44000" y="4184640"/>
              <a:ext cx="5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44000" y="443736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44000" y="472464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44000" y="501156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44000" y="5262480"/>
              <a:ext cx="579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85440" y="2120400"/>
              <a:ext cx="6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85440" y="229968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5440" y="271080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5440" y="2890080"/>
              <a:ext cx="6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85440" y="3070800"/>
              <a:ext cx="64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71600" y="2305800"/>
              <a:ext cx="1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4400" y="4429440"/>
              <a:ext cx="910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91760" y="3932280"/>
              <a:ext cx="108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29960" y="2126880"/>
              <a:ext cx="108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44000" y="2567880"/>
              <a:ext cx="144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63440" y="2912400"/>
              <a:ext cx="1325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03080" y="3200760"/>
              <a:ext cx="166320" cy="16632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17120" y="3396240"/>
              <a:ext cx="166320" cy="16632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31520" y="3591360"/>
              <a:ext cx="166320" cy="166320"/>
            </a:xfrm>
            <a:prstGeom prst="ellipse">
              <a:avLst/>
            </a:pr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20600" y="3269160"/>
              <a:ext cx="249120" cy="39960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399600"/>
                <a:gd name="textAreaBottom" fmla="*/ 399240 h 399600"/>
              </a:gdLst>
              <a:ahLst/>
              <a:rect l="textAreaLeft" t="textAreaTop" r="textAreaRight" b="textAreaBottom"/>
              <a:pathLst>
                <a:path w="21600" h="34629">
                  <a:moveTo>
                    <a:pt x="138" y="0"/>
                  </a:moveTo>
                  <a:arcTo wR="138" hR="138" stAng="16200000" swAng="-5400000"/>
                  <a:lnTo>
                    <a:pt x="0" y="34491"/>
                  </a:lnTo>
                  <a:arcTo wR="138" hR="138" stAng="10800000" swAng="-5400000"/>
                  <a:lnTo>
                    <a:pt x="21462" y="34629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875120" y="3577320"/>
              <a:ext cx="900720" cy="200160"/>
              <a:chOff x="4875120" y="3577320"/>
              <a:chExt cx="900720" cy="200160"/>
            </a:xfrm>
          </p:grpSpPr>
          <p:sp>
            <p:nvSpPr>
              <p:cNvPr id="398" name=""/>
              <p:cNvSpPr/>
              <p:nvPr/>
            </p:nvSpPr>
            <p:spPr>
              <a:xfrm>
                <a:off x="4876200" y="3577320"/>
                <a:ext cx="899640" cy="15336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4875120" y="3578400"/>
                <a:ext cx="852840" cy="199080"/>
                <a:chOff x="4875120" y="3578400"/>
                <a:chExt cx="852840" cy="199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877280" y="3578400"/>
                  <a:ext cx="850680" cy="198000"/>
                </a:xfrm>
                <a:prstGeom prst="roundRect">
                  <a:avLst>
                    <a:gd name="adj" fmla="val 7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4875120" y="3578400"/>
                  <a:ext cx="851760" cy="199080"/>
                  <a:chOff x="4875120" y="3578400"/>
                  <a:chExt cx="851760" cy="1990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4877280" y="3578400"/>
                    <a:ext cx="847440" cy="19620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75120" y="3578400"/>
                    <a:ext cx="851760" cy="19908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OSPITAL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04" name=""/>
            <p:cNvSpPr/>
            <p:nvPr/>
          </p:nvSpPr>
          <p:spPr>
            <a:xfrm flipH="1">
              <a:off x="5924880" y="1506240"/>
              <a:ext cx="8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015600" y="1401480"/>
              <a:ext cx="108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18880" y="3353400"/>
              <a:ext cx="1242720" cy="193320"/>
            </a:xfrm>
            <a:prstGeom prst="roundRect">
              <a:avLst>
                <a:gd name="adj" fmla="val 8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1720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7576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24840" y="3215160"/>
              <a:ext cx="17928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72480" y="3215160"/>
              <a:ext cx="17928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012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67760" y="3215160"/>
              <a:ext cx="178920" cy="137880"/>
            </a:xfrm>
            <a:prstGeom prst="roundRect">
              <a:avLst>
                <a:gd name="adj" fmla="val 1162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7385040" y="3361320"/>
              <a:ext cx="1357200" cy="11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493600" y="479592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93600" y="457992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93600" y="436428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93600" y="4148280"/>
              <a:ext cx="831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93600" y="5535360"/>
              <a:ext cx="82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44320" y="3377160"/>
              <a:ext cx="1815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4320" y="3523320"/>
              <a:ext cx="1080" cy="2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56920" y="3529440"/>
              <a:ext cx="181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78520" y="1603080"/>
              <a:ext cx="1404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679280" y="2434680"/>
              <a:ext cx="130608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9280" y="1757160"/>
              <a:ext cx="108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911920" y="1607760"/>
              <a:ext cx="85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2549520" y="3435840"/>
              <a:ext cx="901440" cy="397440"/>
              <a:chOff x="2549520" y="3435840"/>
              <a:chExt cx="901440" cy="397440"/>
            </a:xfrm>
          </p:grpSpPr>
          <p:sp>
            <p:nvSpPr>
              <p:cNvPr id="427" name=""/>
              <p:cNvSpPr/>
              <p:nvPr/>
            </p:nvSpPr>
            <p:spPr>
              <a:xfrm>
                <a:off x="2549520" y="3435840"/>
                <a:ext cx="901440" cy="15372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2550600" y="3436920"/>
                <a:ext cx="853920" cy="396360"/>
                <a:chOff x="2550600" y="3436920"/>
                <a:chExt cx="853920" cy="3963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50600" y="3436920"/>
                  <a:ext cx="853920" cy="199800"/>
                </a:xfrm>
                <a:prstGeom prst="roundRect">
                  <a:avLst>
                    <a:gd name="adj" fmla="val 7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2550600" y="3436920"/>
                  <a:ext cx="676800" cy="396360"/>
                  <a:chOff x="2550600" y="3436920"/>
                  <a:chExt cx="676800" cy="3963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2550600" y="3436920"/>
                    <a:ext cx="676800" cy="19836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550600" y="3436920"/>
                    <a:ext cx="67680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SCOLA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3" name=""/>
            <p:cNvSpPr/>
            <p:nvPr/>
          </p:nvSpPr>
          <p:spPr>
            <a:xfrm>
              <a:off x="7139520" y="1569600"/>
              <a:ext cx="358560" cy="31716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29800" y="1998360"/>
              <a:ext cx="469800" cy="45504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45680" y="2111040"/>
              <a:ext cx="731520" cy="70452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53920" y="2274120"/>
              <a:ext cx="801360" cy="717120"/>
            </a:xfrm>
            <a:prstGeom prst="ellipse">
              <a:avLst/>
            </a:prstGeom>
            <a:solidFill>
              <a:srgbClr val="23f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13720" y="1531440"/>
              <a:ext cx="939600" cy="84276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79000" y="1407600"/>
              <a:ext cx="593280" cy="593640"/>
            </a:xfrm>
            <a:prstGeom prst="ellipse">
              <a:avLst/>
            </a:prstGeom>
            <a:solidFill>
              <a:srgbClr val="5c85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41160" y="1836360"/>
              <a:ext cx="123480" cy="137880"/>
            </a:xfrm>
            <a:prstGeom prst="ellipse">
              <a:avLst/>
            </a:prstGeom>
            <a:solidFill>
              <a:srgbClr val="b3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9600" y="2139120"/>
              <a:ext cx="248760" cy="23472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9000" y="1233360"/>
              <a:ext cx="2104200" cy="182772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7923240" y="2863080"/>
              <a:ext cx="960120" cy="200880"/>
              <a:chOff x="7923240" y="2863080"/>
              <a:chExt cx="960120" cy="200880"/>
            </a:xfrm>
          </p:grpSpPr>
          <p:sp>
            <p:nvSpPr>
              <p:cNvPr id="443" name=""/>
              <p:cNvSpPr/>
              <p:nvPr/>
            </p:nvSpPr>
            <p:spPr>
              <a:xfrm>
                <a:off x="7923240" y="2863080"/>
                <a:ext cx="960120" cy="15372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7924680" y="2864520"/>
                <a:ext cx="910440" cy="199440"/>
                <a:chOff x="7924680" y="2864520"/>
                <a:chExt cx="910440" cy="199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924680" y="2864520"/>
                  <a:ext cx="910440" cy="199440"/>
                </a:xfrm>
                <a:prstGeom prst="roundRect">
                  <a:avLst>
                    <a:gd name="adj" fmla="val 79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924680" y="2864520"/>
                  <a:ext cx="720720" cy="198360"/>
                  <a:chOff x="7924680" y="2864520"/>
                  <a:chExt cx="720720" cy="1983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7924680" y="2864520"/>
                    <a:ext cx="720720" cy="197640"/>
                  </a:xfrm>
                  <a:prstGeom prst="roundRect">
                    <a:avLst>
                      <a:gd name="adj" fmla="val 79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924680" y="2864520"/>
                    <a:ext cx="7207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lang="en-US" sz="1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RQUE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9" name=""/>
            <p:cNvSpPr/>
            <p:nvPr/>
          </p:nvSpPr>
          <p:spPr>
            <a:xfrm>
              <a:off x="6849000" y="3061080"/>
              <a:ext cx="2118600" cy="82692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52280" y="1233360"/>
            <a:ext cx="8837280" cy="5397120"/>
            <a:chOff x="152280" y="1233360"/>
            <a:chExt cx="8837280" cy="5397120"/>
          </a:xfrm>
        </p:grpSpPr>
        <p:sp>
          <p:nvSpPr>
            <p:cNvPr id="451" name=""/>
            <p:cNvSpPr/>
            <p:nvPr/>
          </p:nvSpPr>
          <p:spPr>
            <a:xfrm>
              <a:off x="2361600" y="2209320"/>
              <a:ext cx="2208960" cy="2894760"/>
            </a:xfrm>
            <a:custGeom>
              <a:avLst/>
              <a:gdLst>
                <a:gd name="textAreaLeft" fmla="*/ 360 w 2208960"/>
                <a:gd name="textAreaRight" fmla="*/ 2208600 w 2208960"/>
                <a:gd name="textAreaTop" fmla="*/ 360 h 2894760"/>
                <a:gd name="textAreaBottom" fmla="*/ 2894400 h 2894760"/>
              </a:gdLst>
              <a:ahLst/>
              <a:rect l="textAreaLeft" t="textAreaTop" r="textAreaRight" b="textAreaBottom"/>
              <a:pathLst>
                <a:path w="21600" h="28305">
                  <a:moveTo>
                    <a:pt x="15" y="0"/>
                  </a:moveTo>
                  <a:arcTo wR="15" hR="15" stAng="16200000" swAng="-5400000"/>
                  <a:lnTo>
                    <a:pt x="0" y="28290"/>
                  </a:lnTo>
                  <a:arcTo wR="15" hR="15" stAng="10800000" swAng="-5400000"/>
                  <a:lnTo>
                    <a:pt x="21585" y="28305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920" y="1447560"/>
              <a:ext cx="1523520" cy="1066320"/>
            </a:xfrm>
            <a:prstGeom prst="roundRect">
              <a:avLst>
                <a:gd name="adj" fmla="val 148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4440" y="1447560"/>
              <a:ext cx="761760" cy="1066320"/>
            </a:xfrm>
            <a:custGeom>
              <a:avLst/>
              <a:gdLst>
                <a:gd name="textAreaLeft" fmla="*/ 360 w 761760"/>
                <a:gd name="textAreaRight" fmla="*/ 761400 w 761760"/>
                <a:gd name="textAreaTop" fmla="*/ 360 h 1066320"/>
                <a:gd name="textAreaBottom" fmla="*/ 1065960 h 1066320"/>
              </a:gdLst>
              <a:ahLst/>
              <a:rect l="textAreaLeft" t="textAreaTop" r="textAreaRight" b="textAreaBottom"/>
              <a:pathLst>
                <a:path w="21600" h="30232">
                  <a:moveTo>
                    <a:pt x="45" y="0"/>
                  </a:moveTo>
                  <a:arcTo wR="45" hR="45" stAng="16200000" swAng="-5400000"/>
                  <a:lnTo>
                    <a:pt x="0" y="30187"/>
                  </a:lnTo>
                  <a:arcTo wR="45" hR="45" stAng="10800000" swAng="-5400000"/>
                  <a:lnTo>
                    <a:pt x="21555" y="30232"/>
                  </a:lnTo>
                  <a:arcTo wR="45" hR="45" stAng="5400000" swAng="-5400000"/>
                  <a:lnTo>
                    <a:pt x="21600" y="45"/>
                  </a:lnTo>
                  <a:arcTo wR="45" hR="45" stAng="0" swAng="-5400000"/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8480" y="3199680"/>
              <a:ext cx="837720" cy="685440"/>
            </a:xfrm>
            <a:prstGeom prst="roundRect">
              <a:avLst>
                <a:gd name="adj" fmla="val 231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0920" y="2513880"/>
              <a:ext cx="2285280" cy="685440"/>
            </a:xfrm>
            <a:prstGeom prst="roundRect">
              <a:avLst>
                <a:gd name="adj" fmla="val 231"/>
              </a:avLst>
            </a:prstGeom>
            <a:solidFill>
              <a:srgbClr val="00b8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09000" y="3885120"/>
              <a:ext cx="1676160" cy="1828080"/>
            </a:xfrm>
            <a:custGeom>
              <a:avLst/>
              <a:gdLst>
                <a:gd name="textAreaLeft" fmla="*/ 360 w 1676160"/>
                <a:gd name="textAreaRight" fmla="*/ 1675800 w 1676160"/>
                <a:gd name="textAreaTop" fmla="*/ 360 h 1828080"/>
                <a:gd name="textAreaBottom" fmla="*/ 1827720 h 1828080"/>
              </a:gdLst>
              <a:ahLst/>
              <a:rect l="textAreaLeft" t="textAreaTop" r="textAreaRight" b="textAreaBottom"/>
              <a:pathLst>
                <a:path w="21600" h="23557">
                  <a:moveTo>
                    <a:pt x="20" y="0"/>
                  </a:moveTo>
                  <a:arcTo wR="20" hR="20" stAng="16200000" swAng="-5400000"/>
                  <a:lnTo>
                    <a:pt x="0" y="23537"/>
                  </a:lnTo>
                  <a:arcTo wR="20" hR="20" stAng="10800000" swAng="-5400000"/>
                  <a:lnTo>
                    <a:pt x="21580" y="23557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solidFill>
              <a:srgbClr val="00b8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85160" y="3885120"/>
              <a:ext cx="1904400" cy="2133000"/>
            </a:xfrm>
            <a:custGeom>
              <a:avLst/>
              <a:gdLst>
                <a:gd name="textAreaLeft" fmla="*/ 360 w 1904400"/>
                <a:gd name="textAreaRight" fmla="*/ 1904040 w 1904400"/>
                <a:gd name="textAreaTop" fmla="*/ 360 h 2133000"/>
                <a:gd name="textAreaBottom" fmla="*/ 2132640 h 2133000"/>
              </a:gdLst>
              <a:ahLst/>
              <a:rect l="textAreaLeft" t="textAreaTop" r="textAreaRight" b="textAreaBottom"/>
              <a:pathLst>
                <a:path w="21600" h="24192">
                  <a:moveTo>
                    <a:pt x="18" y="0"/>
                  </a:moveTo>
                  <a:arcTo wR="18" hR="18" stAng="16200000" swAng="-5400000"/>
                  <a:lnTo>
                    <a:pt x="0" y="24174"/>
                  </a:lnTo>
                  <a:arcTo wR="18" hR="18" stAng="10800000" swAng="-5400000"/>
                  <a:lnTo>
                    <a:pt x="21582" y="24192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66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280" y="14475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2280" y="16761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280" y="19047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280" y="21333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00b8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280" y="23616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280" y="25902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280" y="28188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41000" y="1410840"/>
              <a:ext cx="1445760" cy="236160"/>
              <a:chOff x="441000" y="1410840"/>
              <a:chExt cx="1445760" cy="236160"/>
            </a:xfrm>
          </p:grpSpPr>
          <p:sp>
            <p:nvSpPr>
              <p:cNvPr id="466" name=""/>
              <p:cNvSpPr/>
              <p:nvPr/>
            </p:nvSpPr>
            <p:spPr>
              <a:xfrm>
                <a:off x="441000" y="1410840"/>
                <a:ext cx="144576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3520" y="1410840"/>
                <a:ext cx="144036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 POPUL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56840" y="1628280"/>
              <a:ext cx="3050280" cy="236160"/>
              <a:chOff x="456840" y="1628280"/>
              <a:chExt cx="3050280" cy="236160"/>
            </a:xfrm>
          </p:grpSpPr>
          <p:sp>
            <p:nvSpPr>
              <p:cNvPr id="469" name=""/>
              <p:cNvSpPr/>
              <p:nvPr/>
            </p:nvSpPr>
            <p:spPr>
              <a:xfrm>
                <a:off x="456840" y="1628280"/>
                <a:ext cx="305028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2240" y="1628280"/>
                <a:ext cx="30391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S POPULARES, CLASSE MÉDIA ETC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56840" y="1842840"/>
              <a:ext cx="2640960" cy="236160"/>
              <a:chOff x="456840" y="1842840"/>
              <a:chExt cx="2640960" cy="236160"/>
            </a:xfrm>
          </p:grpSpPr>
          <p:sp>
            <p:nvSpPr>
              <p:cNvPr id="472" name=""/>
              <p:cNvSpPr/>
              <p:nvPr/>
            </p:nvSpPr>
            <p:spPr>
              <a:xfrm>
                <a:off x="456840" y="1842840"/>
                <a:ext cx="264096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61160" y="1842840"/>
                <a:ext cx="263196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QUENAS INDÚSTRIAS E COMÉRCI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56840" y="2085480"/>
              <a:ext cx="1783800" cy="236160"/>
              <a:chOff x="456840" y="2085480"/>
              <a:chExt cx="1783800" cy="236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40" y="2085480"/>
                <a:ext cx="178380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0800" y="2085480"/>
                <a:ext cx="17755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 CLASSE MÉ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56840" y="2331360"/>
              <a:ext cx="1106280" cy="236160"/>
              <a:chOff x="456840" y="2331360"/>
              <a:chExt cx="1106280" cy="236160"/>
            </a:xfrm>
          </p:grpSpPr>
          <p:sp>
            <p:nvSpPr>
              <p:cNvPr id="478" name=""/>
              <p:cNvSpPr/>
              <p:nvPr/>
            </p:nvSpPr>
            <p:spPr>
              <a:xfrm>
                <a:off x="456840" y="2331360"/>
                <a:ext cx="110628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000" y="2331360"/>
                <a:ext cx="110196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QUE - A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56840" y="2574360"/>
              <a:ext cx="1601280" cy="236160"/>
              <a:chOff x="456840" y="2574360"/>
              <a:chExt cx="1601280" cy="236160"/>
            </a:xfrm>
          </p:grpSpPr>
          <p:sp>
            <p:nvSpPr>
              <p:cNvPr id="481" name=""/>
              <p:cNvSpPr/>
              <p:nvPr/>
            </p:nvSpPr>
            <p:spPr>
              <a:xfrm>
                <a:off x="456840" y="2574360"/>
                <a:ext cx="160128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8640" y="2574360"/>
                <a:ext cx="15973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 - QUILOMB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56840" y="2788560"/>
              <a:ext cx="1204560" cy="236160"/>
              <a:chOff x="456840" y="2788560"/>
              <a:chExt cx="1204560" cy="236160"/>
            </a:xfrm>
          </p:grpSpPr>
          <p:sp>
            <p:nvSpPr>
              <p:cNvPr id="484" name=""/>
              <p:cNvSpPr/>
              <p:nvPr/>
            </p:nvSpPr>
            <p:spPr>
              <a:xfrm>
                <a:off x="456840" y="2788560"/>
                <a:ext cx="120456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6840" y="2788560"/>
                <a:ext cx="120420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GRO-NEGÓ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70920" y="5104080"/>
              <a:ext cx="837720" cy="1066320"/>
            </a:xfrm>
            <a:custGeom>
              <a:avLst/>
              <a:gdLst>
                <a:gd name="textAreaLeft" fmla="*/ 360 w 837720"/>
                <a:gd name="textAreaRight" fmla="*/ 837360 w 837720"/>
                <a:gd name="textAreaTop" fmla="*/ 360 h 1066320"/>
                <a:gd name="textAreaBottom" fmla="*/ 1065960 h 1066320"/>
              </a:gdLst>
              <a:ahLst/>
              <a:rect l="textAreaLeft" t="textAreaTop" r="textAreaRight" b="textAreaBottom"/>
              <a:pathLst>
                <a:path w="21600" h="27492">
                  <a:moveTo>
                    <a:pt x="40" y="0"/>
                  </a:moveTo>
                  <a:arcTo wR="40" hR="40" stAng="16200000" swAng="-5400000"/>
                  <a:lnTo>
                    <a:pt x="0" y="27452"/>
                  </a:lnTo>
                  <a:arcTo wR="40" hR="40" stAng="10800000" swAng="-5400000"/>
                  <a:lnTo>
                    <a:pt x="21560" y="27492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70920" y="3199680"/>
              <a:ext cx="1447560" cy="685440"/>
            </a:xfrm>
            <a:prstGeom prst="roundRect">
              <a:avLst>
                <a:gd name="adj" fmla="val 231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0920" y="3885120"/>
              <a:ext cx="837720" cy="1218600"/>
            </a:xfrm>
            <a:custGeom>
              <a:avLst/>
              <a:gdLst>
                <a:gd name="textAreaLeft" fmla="*/ 360 w 837720"/>
                <a:gd name="textAreaRight" fmla="*/ 837360 w 837720"/>
                <a:gd name="textAreaTop" fmla="*/ 360 h 1218600"/>
                <a:gd name="textAreaBottom" fmla="*/ 1218240 h 1218600"/>
              </a:gdLst>
              <a:ahLst/>
              <a:rect l="textAreaLeft" t="textAreaTop" r="textAreaRight" b="textAreaBottom"/>
              <a:pathLst>
                <a:path w="21600" h="31416">
                  <a:moveTo>
                    <a:pt x="40" y="0"/>
                  </a:moveTo>
                  <a:arcTo wR="40" hR="40" stAng="16200000" swAng="-5400000"/>
                  <a:lnTo>
                    <a:pt x="0" y="31376"/>
                  </a:lnTo>
                  <a:arcTo wR="40" hR="40" stAng="10800000" swAng="-5400000"/>
                  <a:lnTo>
                    <a:pt x="21560" y="31416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2280" y="30474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456840" y="3031560"/>
              <a:ext cx="1528560" cy="236160"/>
              <a:chOff x="456840" y="3031560"/>
              <a:chExt cx="1528560" cy="236160"/>
            </a:xfrm>
          </p:grpSpPr>
          <p:sp>
            <p:nvSpPr>
              <p:cNvPr id="491" name=""/>
              <p:cNvSpPr/>
              <p:nvPr/>
            </p:nvSpPr>
            <p:spPr>
              <a:xfrm>
                <a:off x="456840" y="3031560"/>
                <a:ext cx="152856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8280" y="3031560"/>
                <a:ext cx="152568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OSPITAL REG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872720" y="5106960"/>
              <a:ext cx="2683800" cy="1334520"/>
            </a:xfrm>
            <a:prstGeom prst="roundRect">
              <a:avLst>
                <a:gd name="adj" fmla="val 116"/>
              </a:avLst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42480" y="4121640"/>
              <a:ext cx="1422000" cy="985320"/>
            </a:xfrm>
            <a:prstGeom prst="roundRect">
              <a:avLst>
                <a:gd name="adj" fmla="val 157"/>
              </a:avLst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48640" y="1233360"/>
              <a:ext cx="2104200" cy="1828080"/>
            </a:xfrm>
            <a:prstGeom prst="roundRect">
              <a:avLst>
                <a:gd name="adj" fmla="val 83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48640" y="3061440"/>
              <a:ext cx="2118600" cy="826920"/>
            </a:xfrm>
            <a:prstGeom prst="roundRect">
              <a:avLst>
                <a:gd name="adj" fmla="val 190"/>
              </a:avLst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3720" y="3263040"/>
              <a:ext cx="304200" cy="152280"/>
            </a:xfrm>
            <a:prstGeom prst="roundRect">
              <a:avLst>
                <a:gd name="adj" fmla="val 1042"/>
              </a:avLst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3720" y="3477240"/>
              <a:ext cx="304200" cy="151920"/>
            </a:xfrm>
            <a:prstGeom prst="roundRect">
              <a:avLst>
                <a:gd name="adj" fmla="val 1042"/>
              </a:avLst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429840" y="3247200"/>
              <a:ext cx="1758600" cy="236160"/>
              <a:chOff x="429840" y="3247200"/>
              <a:chExt cx="1758600" cy="236160"/>
            </a:xfrm>
          </p:grpSpPr>
          <p:sp>
            <p:nvSpPr>
              <p:cNvPr id="500" name=""/>
              <p:cNvSpPr/>
              <p:nvPr/>
            </p:nvSpPr>
            <p:spPr>
              <a:xfrm>
                <a:off x="429840" y="3247200"/>
                <a:ext cx="175860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3440" y="3247200"/>
                <a:ext cx="175104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GRICULTURA FAMILI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431280" y="3462840"/>
              <a:ext cx="1446120" cy="236160"/>
              <a:chOff x="431280" y="3462840"/>
              <a:chExt cx="1446120" cy="236160"/>
            </a:xfrm>
          </p:grpSpPr>
          <p:sp>
            <p:nvSpPr>
              <p:cNvPr id="503" name=""/>
              <p:cNvSpPr/>
              <p:nvPr/>
            </p:nvSpPr>
            <p:spPr>
              <a:xfrm>
                <a:off x="431280" y="3462840"/>
                <a:ext cx="144612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4880" y="3462840"/>
                <a:ext cx="14389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SAS DE FARINH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1161720" y="5106960"/>
              <a:ext cx="710640" cy="1523520"/>
            </a:xfrm>
            <a:custGeom>
              <a:avLst/>
              <a:gdLst>
                <a:gd name="textAreaLeft" fmla="*/ 360 w 710640"/>
                <a:gd name="textAreaRight" fmla="*/ 710280 w 710640"/>
                <a:gd name="textAreaTop" fmla="*/ 360 h 1523520"/>
                <a:gd name="textAreaBottom" fmla="*/ 1523160 h 1523520"/>
              </a:gdLst>
              <a:ahLst/>
              <a:rect l="textAreaLeft" t="textAreaTop" r="textAreaRight" b="textAreaBottom"/>
              <a:pathLst>
                <a:path w="21600" h="46295">
                  <a:moveTo>
                    <a:pt x="48" y="0"/>
                  </a:moveTo>
                  <a:arcTo wR="48" hR="48" stAng="16200000" swAng="-5400000"/>
                  <a:lnTo>
                    <a:pt x="0" y="46247"/>
                  </a:lnTo>
                  <a:arcTo wR="48" hR="48" stAng="10800000" swAng="-5400000"/>
                  <a:lnTo>
                    <a:pt x="21552" y="46295"/>
                  </a:lnTo>
                  <a:arcTo wR="48" hR="48" stAng="5400000" swAng="-5400000"/>
                  <a:lnTo>
                    <a:pt x="21600" y="48"/>
                  </a:lnTo>
                  <a:arcTo wR="48" hR="48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160" y="370728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33080" y="3678840"/>
              <a:ext cx="1501200" cy="236160"/>
              <a:chOff x="433080" y="3678840"/>
              <a:chExt cx="1501200" cy="236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33080" y="3678840"/>
                <a:ext cx="150120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35240" y="3678840"/>
                <a:ext cx="14965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FLORESTAMEN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50920" y="210204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 Plano Diretor Participativo define a destinação social, econômica e ambiental dos territórios e estabelece as estratégias e instrumentos para a implementação dessa destinação INDEPENDENTE DE QUEM É O DONO DA TERRA (privado, poder público municipal, estadual e federal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 Estatuto da Cidade separa o DIREITO DE PROPRIEDADE do DIREITO DE CONSTRU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1500480"/>
            <a:ext cx="9144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 decisões sobre a funções sociais incidem no valor das proprie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156120"/>
            <a:ext cx="914400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4800" indent="-334800">
              <a:lnSpc>
                <a:spcPct val="10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 valor da terra é definido pela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istribuição de investimentos públicos e parâmetros de uso, ocupação e parcelamento do solo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valorização decorrente de ações públicas normalmente é apropriada de forma privada pelo proprietário do imóvel, sem que haja qualquer retorno à coletiv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 ônus também incide desigu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0920" y="2436120"/>
            <a:ext cx="8713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76040" indent="-176040" algn="just">
              <a:lnSpc>
                <a:spcPct val="100000"/>
              </a:lnSpc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Plano Diretor Participativo não basta definir a destinação, é preciso também introduzir mecanismos de manejo da valorização imobiliária buscando REDISTRIBUIR a valorização imobiliária socialmente produzida: </a:t>
            </a: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redistribuir ônus e benefícios e dividir os custos de produção das cidades entre proprietários, loteadores, construtores, poder público e cidadãos)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152280" y="1233360"/>
            <a:ext cx="8837280" cy="5397120"/>
            <a:chOff x="152280" y="1233360"/>
            <a:chExt cx="8837280" cy="5397120"/>
          </a:xfrm>
        </p:grpSpPr>
        <p:sp>
          <p:nvSpPr>
            <p:cNvPr id="515" name=""/>
            <p:cNvSpPr/>
            <p:nvPr/>
          </p:nvSpPr>
          <p:spPr>
            <a:xfrm>
              <a:off x="2361600" y="2209320"/>
              <a:ext cx="2208960" cy="2894760"/>
            </a:xfrm>
            <a:custGeom>
              <a:avLst/>
              <a:gdLst>
                <a:gd name="textAreaLeft" fmla="*/ 360 w 2208960"/>
                <a:gd name="textAreaRight" fmla="*/ 2208600 w 2208960"/>
                <a:gd name="textAreaTop" fmla="*/ 360 h 2894760"/>
                <a:gd name="textAreaBottom" fmla="*/ 2894400 h 2894760"/>
              </a:gdLst>
              <a:ahLst/>
              <a:rect l="textAreaLeft" t="textAreaTop" r="textAreaRight" b="textAreaBottom"/>
              <a:pathLst>
                <a:path w="21600" h="28305">
                  <a:moveTo>
                    <a:pt x="15" y="0"/>
                  </a:moveTo>
                  <a:arcTo wR="15" hR="15" stAng="16200000" swAng="-5400000"/>
                  <a:lnTo>
                    <a:pt x="0" y="28290"/>
                  </a:lnTo>
                  <a:arcTo wR="15" hR="15" stAng="10800000" swAng="-5400000"/>
                  <a:lnTo>
                    <a:pt x="21585" y="28305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0920" y="1447560"/>
              <a:ext cx="1523520" cy="1066320"/>
            </a:xfrm>
            <a:prstGeom prst="roundRect">
              <a:avLst>
                <a:gd name="adj" fmla="val 148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4440" y="1447560"/>
              <a:ext cx="761760" cy="1066320"/>
            </a:xfrm>
            <a:custGeom>
              <a:avLst/>
              <a:gdLst>
                <a:gd name="textAreaLeft" fmla="*/ 360 w 761760"/>
                <a:gd name="textAreaRight" fmla="*/ 761400 w 761760"/>
                <a:gd name="textAreaTop" fmla="*/ 360 h 1066320"/>
                <a:gd name="textAreaBottom" fmla="*/ 1065960 h 1066320"/>
              </a:gdLst>
              <a:ahLst/>
              <a:rect l="textAreaLeft" t="textAreaTop" r="textAreaRight" b="textAreaBottom"/>
              <a:pathLst>
                <a:path w="21600" h="30232">
                  <a:moveTo>
                    <a:pt x="45" y="0"/>
                  </a:moveTo>
                  <a:arcTo wR="45" hR="45" stAng="16200000" swAng="-5400000"/>
                  <a:lnTo>
                    <a:pt x="0" y="30187"/>
                  </a:lnTo>
                  <a:arcTo wR="45" hR="45" stAng="10800000" swAng="-5400000"/>
                  <a:lnTo>
                    <a:pt x="21555" y="30232"/>
                  </a:lnTo>
                  <a:arcTo wR="45" hR="45" stAng="5400000" swAng="-5400000"/>
                  <a:lnTo>
                    <a:pt x="21600" y="45"/>
                  </a:lnTo>
                  <a:arcTo wR="45" hR="45" stAng="0" swAng="-5400000"/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8480" y="3199680"/>
              <a:ext cx="837720" cy="685440"/>
            </a:xfrm>
            <a:prstGeom prst="roundRect">
              <a:avLst>
                <a:gd name="adj" fmla="val 231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70920" y="2513880"/>
              <a:ext cx="2285280" cy="685440"/>
            </a:xfrm>
            <a:prstGeom prst="roundRect">
              <a:avLst>
                <a:gd name="adj" fmla="val 231"/>
              </a:avLst>
            </a:prstGeom>
            <a:solidFill>
              <a:srgbClr val="00b8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09000" y="3885120"/>
              <a:ext cx="1676160" cy="1828080"/>
            </a:xfrm>
            <a:custGeom>
              <a:avLst/>
              <a:gdLst>
                <a:gd name="textAreaLeft" fmla="*/ 360 w 1676160"/>
                <a:gd name="textAreaRight" fmla="*/ 1675800 w 1676160"/>
                <a:gd name="textAreaTop" fmla="*/ 360 h 1828080"/>
                <a:gd name="textAreaBottom" fmla="*/ 1827720 h 1828080"/>
              </a:gdLst>
              <a:ahLst/>
              <a:rect l="textAreaLeft" t="textAreaTop" r="textAreaRight" b="textAreaBottom"/>
              <a:pathLst>
                <a:path w="21600" h="23557">
                  <a:moveTo>
                    <a:pt x="20" y="0"/>
                  </a:moveTo>
                  <a:arcTo wR="20" hR="20" stAng="16200000" swAng="-5400000"/>
                  <a:lnTo>
                    <a:pt x="0" y="23537"/>
                  </a:lnTo>
                  <a:arcTo wR="20" hR="20" stAng="10800000" swAng="-5400000"/>
                  <a:lnTo>
                    <a:pt x="21580" y="23557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solidFill>
              <a:srgbClr val="00b8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85160" y="3885120"/>
              <a:ext cx="1904400" cy="2133000"/>
            </a:xfrm>
            <a:custGeom>
              <a:avLst/>
              <a:gdLst>
                <a:gd name="textAreaLeft" fmla="*/ 360 w 1904400"/>
                <a:gd name="textAreaRight" fmla="*/ 1904040 w 1904400"/>
                <a:gd name="textAreaTop" fmla="*/ 360 h 2133000"/>
                <a:gd name="textAreaBottom" fmla="*/ 2132640 h 2133000"/>
              </a:gdLst>
              <a:ahLst/>
              <a:rect l="textAreaLeft" t="textAreaTop" r="textAreaRight" b="textAreaBottom"/>
              <a:pathLst>
                <a:path w="21600" h="24192">
                  <a:moveTo>
                    <a:pt x="18" y="0"/>
                  </a:moveTo>
                  <a:arcTo wR="18" hR="18" stAng="16200000" swAng="-5400000"/>
                  <a:lnTo>
                    <a:pt x="0" y="24174"/>
                  </a:lnTo>
                  <a:arcTo wR="18" hR="18" stAng="10800000" swAng="-5400000"/>
                  <a:lnTo>
                    <a:pt x="21582" y="24192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66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2280" y="14475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2280" y="16761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2280" y="19047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2280" y="213336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00b8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280" y="23616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280" y="25902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280" y="28188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441000" y="1410840"/>
              <a:ext cx="1445760" cy="236160"/>
              <a:chOff x="441000" y="1410840"/>
              <a:chExt cx="1445760" cy="236160"/>
            </a:xfrm>
          </p:grpSpPr>
          <p:sp>
            <p:nvSpPr>
              <p:cNvPr id="530" name=""/>
              <p:cNvSpPr/>
              <p:nvPr/>
            </p:nvSpPr>
            <p:spPr>
              <a:xfrm>
                <a:off x="441000" y="1410840"/>
                <a:ext cx="144576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3520" y="1410840"/>
                <a:ext cx="144036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 POPUL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456840" y="1628280"/>
              <a:ext cx="3050280" cy="236160"/>
              <a:chOff x="456840" y="1628280"/>
              <a:chExt cx="3050280" cy="236160"/>
            </a:xfrm>
          </p:grpSpPr>
          <p:sp>
            <p:nvSpPr>
              <p:cNvPr id="533" name=""/>
              <p:cNvSpPr/>
              <p:nvPr/>
            </p:nvSpPr>
            <p:spPr>
              <a:xfrm>
                <a:off x="456840" y="1628280"/>
                <a:ext cx="305028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62240" y="1628280"/>
                <a:ext cx="30391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S POPULARES, CLASSE MÉDIA ETC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56840" y="1842840"/>
              <a:ext cx="2640960" cy="236160"/>
              <a:chOff x="456840" y="1842840"/>
              <a:chExt cx="2640960" cy="236160"/>
            </a:xfrm>
          </p:grpSpPr>
          <p:sp>
            <p:nvSpPr>
              <p:cNvPr id="536" name=""/>
              <p:cNvSpPr/>
              <p:nvPr/>
            </p:nvSpPr>
            <p:spPr>
              <a:xfrm>
                <a:off x="456840" y="1842840"/>
                <a:ext cx="264096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61160" y="1842840"/>
                <a:ext cx="263196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QUENAS INDÚSTRIAS E COMÉRCI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56840" y="2085480"/>
              <a:ext cx="1783800" cy="236160"/>
              <a:chOff x="456840" y="2085480"/>
              <a:chExt cx="1783800" cy="236160"/>
            </a:xfrm>
          </p:grpSpPr>
          <p:sp>
            <p:nvSpPr>
              <p:cNvPr id="539" name=""/>
              <p:cNvSpPr/>
              <p:nvPr/>
            </p:nvSpPr>
            <p:spPr>
              <a:xfrm>
                <a:off x="456840" y="2085480"/>
                <a:ext cx="178380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60800" y="2085480"/>
                <a:ext cx="17755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 CLASSE MÉ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56840" y="2331360"/>
              <a:ext cx="1106280" cy="236160"/>
              <a:chOff x="456840" y="2331360"/>
              <a:chExt cx="1106280" cy="236160"/>
            </a:xfrm>
          </p:grpSpPr>
          <p:sp>
            <p:nvSpPr>
              <p:cNvPr id="542" name=""/>
              <p:cNvSpPr/>
              <p:nvPr/>
            </p:nvSpPr>
            <p:spPr>
              <a:xfrm>
                <a:off x="456840" y="2331360"/>
                <a:ext cx="110628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9000" y="2331360"/>
                <a:ext cx="110196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QUE - A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56840" y="2574360"/>
              <a:ext cx="1601280" cy="236160"/>
              <a:chOff x="456840" y="2574360"/>
              <a:chExt cx="1601280" cy="236160"/>
            </a:xfrm>
          </p:grpSpPr>
          <p:sp>
            <p:nvSpPr>
              <p:cNvPr id="545" name=""/>
              <p:cNvSpPr/>
              <p:nvPr/>
            </p:nvSpPr>
            <p:spPr>
              <a:xfrm>
                <a:off x="456840" y="2574360"/>
                <a:ext cx="160128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8640" y="2574360"/>
                <a:ext cx="15973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RADIA - QUILOMB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56840" y="2788560"/>
              <a:ext cx="1204560" cy="236160"/>
              <a:chOff x="456840" y="2788560"/>
              <a:chExt cx="1204560" cy="236160"/>
            </a:xfrm>
          </p:grpSpPr>
          <p:sp>
            <p:nvSpPr>
              <p:cNvPr id="548" name=""/>
              <p:cNvSpPr/>
              <p:nvPr/>
            </p:nvSpPr>
            <p:spPr>
              <a:xfrm>
                <a:off x="456840" y="2788560"/>
                <a:ext cx="120456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6840" y="2788560"/>
                <a:ext cx="120420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GRO-NEGÓ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4570920" y="5104080"/>
              <a:ext cx="837720" cy="1066320"/>
            </a:xfrm>
            <a:custGeom>
              <a:avLst/>
              <a:gdLst>
                <a:gd name="textAreaLeft" fmla="*/ 360 w 837720"/>
                <a:gd name="textAreaRight" fmla="*/ 837360 w 837720"/>
                <a:gd name="textAreaTop" fmla="*/ 360 h 1066320"/>
                <a:gd name="textAreaBottom" fmla="*/ 1065960 h 1066320"/>
              </a:gdLst>
              <a:ahLst/>
              <a:rect l="textAreaLeft" t="textAreaTop" r="textAreaRight" b="textAreaBottom"/>
              <a:pathLst>
                <a:path w="21600" h="27492">
                  <a:moveTo>
                    <a:pt x="40" y="0"/>
                  </a:moveTo>
                  <a:arcTo wR="40" hR="40" stAng="16200000" swAng="-5400000"/>
                  <a:lnTo>
                    <a:pt x="0" y="27452"/>
                  </a:lnTo>
                  <a:arcTo wR="40" hR="40" stAng="10800000" swAng="-5400000"/>
                  <a:lnTo>
                    <a:pt x="21560" y="27492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70920" y="3199680"/>
              <a:ext cx="1447560" cy="685440"/>
            </a:xfrm>
            <a:prstGeom prst="roundRect">
              <a:avLst>
                <a:gd name="adj" fmla="val 231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0920" y="3885120"/>
              <a:ext cx="837720" cy="1218600"/>
            </a:xfrm>
            <a:custGeom>
              <a:avLst/>
              <a:gdLst>
                <a:gd name="textAreaLeft" fmla="*/ 360 w 837720"/>
                <a:gd name="textAreaRight" fmla="*/ 837360 w 837720"/>
                <a:gd name="textAreaTop" fmla="*/ 360 h 1218600"/>
                <a:gd name="textAreaBottom" fmla="*/ 1218240 h 1218600"/>
              </a:gdLst>
              <a:ahLst/>
              <a:rect l="textAreaLeft" t="textAreaTop" r="textAreaRight" b="textAreaBottom"/>
              <a:pathLst>
                <a:path w="21600" h="31416">
                  <a:moveTo>
                    <a:pt x="40" y="0"/>
                  </a:moveTo>
                  <a:arcTo wR="40" hR="40" stAng="16200000" swAng="-5400000"/>
                  <a:lnTo>
                    <a:pt x="0" y="31376"/>
                  </a:lnTo>
                  <a:arcTo wR="40" hR="40" stAng="10800000" swAng="-5400000"/>
                  <a:lnTo>
                    <a:pt x="21560" y="31416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280" y="304740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56840" y="3031560"/>
              <a:ext cx="1528560" cy="236160"/>
              <a:chOff x="456840" y="3031560"/>
              <a:chExt cx="1528560" cy="236160"/>
            </a:xfrm>
          </p:grpSpPr>
          <p:sp>
            <p:nvSpPr>
              <p:cNvPr id="555" name=""/>
              <p:cNvSpPr/>
              <p:nvPr/>
            </p:nvSpPr>
            <p:spPr>
              <a:xfrm>
                <a:off x="456840" y="3031560"/>
                <a:ext cx="152856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280" y="3031560"/>
                <a:ext cx="152568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OSPITAL REG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1872720" y="5106960"/>
              <a:ext cx="2683800" cy="1334520"/>
            </a:xfrm>
            <a:prstGeom prst="roundRect">
              <a:avLst>
                <a:gd name="adj" fmla="val 116"/>
              </a:avLst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42480" y="4121640"/>
              <a:ext cx="1422000" cy="985320"/>
            </a:xfrm>
            <a:prstGeom prst="roundRect">
              <a:avLst>
                <a:gd name="adj" fmla="val 157"/>
              </a:avLst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48640" y="1233360"/>
              <a:ext cx="2104200" cy="1828080"/>
            </a:xfrm>
            <a:prstGeom prst="roundRect">
              <a:avLst>
                <a:gd name="adj" fmla="val 83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48640" y="3061440"/>
              <a:ext cx="2118600" cy="826920"/>
            </a:xfrm>
            <a:prstGeom prst="roundRect">
              <a:avLst>
                <a:gd name="adj" fmla="val 190"/>
              </a:avLst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720" y="3263040"/>
              <a:ext cx="304200" cy="152280"/>
            </a:xfrm>
            <a:prstGeom prst="roundRect">
              <a:avLst>
                <a:gd name="adj" fmla="val 1042"/>
              </a:avLst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720" y="3477240"/>
              <a:ext cx="304200" cy="151920"/>
            </a:xfrm>
            <a:prstGeom prst="roundRect">
              <a:avLst>
                <a:gd name="adj" fmla="val 1042"/>
              </a:avLst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429840" y="3247200"/>
              <a:ext cx="1758600" cy="236160"/>
              <a:chOff x="429840" y="3247200"/>
              <a:chExt cx="1758600" cy="236160"/>
            </a:xfrm>
          </p:grpSpPr>
          <p:sp>
            <p:nvSpPr>
              <p:cNvPr id="564" name=""/>
              <p:cNvSpPr/>
              <p:nvPr/>
            </p:nvSpPr>
            <p:spPr>
              <a:xfrm>
                <a:off x="429840" y="3247200"/>
                <a:ext cx="175860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3440" y="3247200"/>
                <a:ext cx="175104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GRICULTURA FAMILI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431280" y="3462840"/>
              <a:ext cx="1446120" cy="236160"/>
              <a:chOff x="431280" y="3462840"/>
              <a:chExt cx="1446120" cy="236160"/>
            </a:xfrm>
          </p:grpSpPr>
          <p:sp>
            <p:nvSpPr>
              <p:cNvPr id="567" name=""/>
              <p:cNvSpPr/>
              <p:nvPr/>
            </p:nvSpPr>
            <p:spPr>
              <a:xfrm>
                <a:off x="431280" y="3462840"/>
                <a:ext cx="1446120" cy="23472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4880" y="3462840"/>
                <a:ext cx="14389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SAS DE FARINH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1161720" y="5106960"/>
              <a:ext cx="710640" cy="1523520"/>
            </a:xfrm>
            <a:custGeom>
              <a:avLst/>
              <a:gdLst>
                <a:gd name="textAreaLeft" fmla="*/ 360 w 710640"/>
                <a:gd name="textAreaRight" fmla="*/ 710280 w 710640"/>
                <a:gd name="textAreaTop" fmla="*/ 360 h 1523520"/>
                <a:gd name="textAreaBottom" fmla="*/ 1523160 h 1523520"/>
              </a:gdLst>
              <a:ahLst/>
              <a:rect l="textAreaLeft" t="textAreaTop" r="textAreaRight" b="textAreaBottom"/>
              <a:pathLst>
                <a:path w="21600" h="46295">
                  <a:moveTo>
                    <a:pt x="48" y="0"/>
                  </a:moveTo>
                  <a:arcTo wR="48" hR="48" stAng="16200000" swAng="-5400000"/>
                  <a:lnTo>
                    <a:pt x="0" y="46247"/>
                  </a:lnTo>
                  <a:arcTo wR="48" hR="48" stAng="10800000" swAng="-5400000"/>
                  <a:lnTo>
                    <a:pt x="21552" y="46295"/>
                  </a:lnTo>
                  <a:arcTo wR="48" hR="48" stAng="5400000" swAng="-5400000"/>
                  <a:lnTo>
                    <a:pt x="21600" y="48"/>
                  </a:lnTo>
                  <a:arcTo wR="48" hR="48" stAng="0" swAng="-5400000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5160" y="3707280"/>
              <a:ext cx="304560" cy="151920"/>
            </a:xfrm>
            <a:prstGeom prst="roundRect">
              <a:avLst>
                <a:gd name="adj" fmla="val 104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33080" y="3678840"/>
              <a:ext cx="1501200" cy="236160"/>
              <a:chOff x="433080" y="3678840"/>
              <a:chExt cx="1501200" cy="236160"/>
            </a:xfrm>
          </p:grpSpPr>
          <p:sp>
            <p:nvSpPr>
              <p:cNvPr id="572" name=""/>
              <p:cNvSpPr/>
              <p:nvPr/>
            </p:nvSpPr>
            <p:spPr>
              <a:xfrm>
                <a:off x="433080" y="3678840"/>
                <a:ext cx="1501200" cy="2343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35240" y="3678840"/>
                <a:ext cx="1496520" cy="23616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FLORESTAMEN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" name=""/>
          <p:cNvGrpSpPr/>
          <p:nvPr/>
        </p:nvGrpSpPr>
        <p:grpSpPr>
          <a:xfrm>
            <a:off x="2362320" y="2209680"/>
            <a:ext cx="3655440" cy="4580640"/>
            <a:chOff x="2362320" y="2209680"/>
            <a:chExt cx="3655440" cy="4580640"/>
          </a:xfrm>
        </p:grpSpPr>
        <p:sp>
          <p:nvSpPr>
            <p:cNvPr id="575" name=""/>
            <p:cNvSpPr/>
            <p:nvPr/>
          </p:nvSpPr>
          <p:spPr>
            <a:xfrm>
              <a:off x="2362320" y="2209680"/>
              <a:ext cx="2208240" cy="2894760"/>
            </a:xfrm>
            <a:custGeom>
              <a:avLst/>
              <a:gdLst>
                <a:gd name="textAreaLeft" fmla="*/ 360 w 2208240"/>
                <a:gd name="textAreaRight" fmla="*/ 2207880 w 2208240"/>
                <a:gd name="textAreaTop" fmla="*/ 360 h 2894760"/>
                <a:gd name="textAreaBottom" fmla="*/ 2894400 h 2894760"/>
              </a:gdLst>
              <a:ahLst/>
              <a:rect l="textAreaLeft" t="textAreaTop" r="textAreaRight" b="textAreaBottom"/>
              <a:pathLst>
                <a:path w="21600" h="28314">
                  <a:moveTo>
                    <a:pt x="15" y="0"/>
                  </a:moveTo>
                  <a:arcTo wR="15" hR="15" stAng="16200000" swAng="-5400000"/>
                  <a:lnTo>
                    <a:pt x="0" y="28299"/>
                  </a:lnTo>
                  <a:arcTo wR="15" hR="15" stAng="10800000" swAng="-5400000"/>
                  <a:lnTo>
                    <a:pt x="21585" y="28314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70560" y="3200040"/>
              <a:ext cx="1447200" cy="685440"/>
            </a:xfrm>
            <a:prstGeom prst="roundRect">
              <a:avLst>
                <a:gd name="adj" fmla="val 231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70560" y="3885480"/>
              <a:ext cx="837360" cy="1218600"/>
            </a:xfrm>
            <a:custGeom>
              <a:avLst/>
              <a:gdLst>
                <a:gd name="textAreaLeft" fmla="*/ 360 w 837360"/>
                <a:gd name="textAreaRight" fmla="*/ 837000 w 837360"/>
                <a:gd name="textAreaTop" fmla="*/ 360 h 1218600"/>
                <a:gd name="textAreaBottom" fmla="*/ 1218240 h 1218600"/>
              </a:gdLst>
              <a:ahLst/>
              <a:rect l="textAreaLeft" t="textAreaTop" r="textAreaRight" b="textAreaBottom"/>
              <a:pathLst>
                <a:path w="21600" h="31430">
                  <a:moveTo>
                    <a:pt x="40" y="0"/>
                  </a:moveTo>
                  <a:arcTo wR="40" hR="40" stAng="16200000" swAng="-5400000"/>
                  <a:lnTo>
                    <a:pt x="0" y="31390"/>
                  </a:lnTo>
                  <a:arcTo wR="40" hR="40" stAng="10800000" swAng="-5400000"/>
                  <a:lnTo>
                    <a:pt x="21560" y="31430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19000" y="6551640"/>
              <a:ext cx="356760" cy="217080"/>
            </a:xfrm>
            <a:prstGeom prst="roundRect">
              <a:avLst>
                <a:gd name="adj" fmla="val 731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75480" y="6497640"/>
              <a:ext cx="2709720" cy="2926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BANIZAÇÃO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ORITÁ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21409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 Plano Diretor Participativo deve incluir a DIMENSÃO TEMPORAL no planejamento e gestão da expansão urbana, no controle de novos loteamentos, na ocupação de vazios urbanos e no uso e ocupação dos territó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na.campos</cp:lastModifiedBy>
  <dcterms:modified xsi:type="dcterms:W3CDTF">2008-10-22T11:49:32Z</dcterms:modified>
  <cp:revision>1</cp:revision>
  <dc:subject/>
  <dc:title>Slide 1</dc:title>
</cp:coreProperties>
</file>