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312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56280"/>
            <a:ext cx="822312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22096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42562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6474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209680"/>
            <a:ext cx="26474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6474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56280"/>
            <a:ext cx="26474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256280"/>
            <a:ext cx="26474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56280"/>
            <a:ext cx="26474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209680"/>
            <a:ext cx="8223120" cy="39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312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25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2209680"/>
            <a:ext cx="40125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12840"/>
            <a:ext cx="8223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2209680"/>
            <a:ext cx="40125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256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22096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42562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2209680"/>
            <a:ext cx="401256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56280"/>
            <a:ext cx="822312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37520" cy="6851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2200"/>
            <a:ext cx="9144000" cy="685800"/>
          </a:xfrm>
          <a:prstGeom prst="roundRect">
            <a:avLst>
              <a:gd name="adj" fmla="val 2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553080" y="6248520"/>
            <a:ext cx="2181240" cy="3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212840"/>
            <a:ext cx="822312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3120" cy="39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664000"/>
            <a:ext cx="84582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Black"/>
              </a:rPr>
              <a:t>Módulo I – UM NOVO CONCEITO E UMA NOVA METODOLOGIA PARA A ELABORAÇÃO DO PLANO DIRETOR PARTICIPATIV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</a:rPr>
              <a:t>O Estatuto da Cidade e o Plano Diretor Participativ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 missão do Plano Diretor Participativo, dada pela Constituição Federal,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xplicitar, para a especificidade do território do município, quais são as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FUNÇÕES SOCIAIS DA CIDADE E DAS PROPRIEDADES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para os próximos 10 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Font typeface="Arial Unicode MS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A FUNÇÃO SOCIAL DA PROPRIEDADE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incide nos conteúdos do </a:t>
            </a: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DIREITO DE PROPRIEDADE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. Não são contraditó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222200"/>
            <a:ext cx="91440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</a:rPr>
              <a:t>O Estatuto da Cidade e o Plano Diretor Participativ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6040" indent="0">
              <a:lnSpc>
                <a:spcPct val="80000"/>
              </a:lnSpc>
              <a:spcBef>
                <a:spcPts val="700"/>
              </a:spcBef>
              <a:spcAft>
                <a:spcPts val="1437"/>
              </a:spcAft>
              <a:buNone/>
              <a:tabLst>
                <a:tab algn="l" pos="0"/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 Unicode MS"/>
              </a:rPr>
              <a:t>Princípios e diretrizes para o Plano Diretor Participativo (de acordo com o Estatuto da Cidad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spcAft>
                <a:spcPts val="1437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 Unicode MS"/>
              </a:rPr>
              <a:t>DIREITO À MORADIA E INCLUSÃO TERRITORIAL</a:t>
            </a:r>
            <a:r>
              <a:rPr b="0" lang="en-GB" sz="2300" spc="-1" strike="noStrike">
                <a:solidFill>
                  <a:srgbClr val="000000"/>
                </a:solidFill>
                <a:latin typeface="Arial Unicode MS"/>
              </a:rPr>
              <a:t> – O Plano Diretor Participativo deve superar a dualidade entre as cidades formais/informais, legais/ilegai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spcAft>
                <a:spcPts val="1437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 Unicode MS"/>
              </a:rPr>
              <a:t>DIMENSÃO CURATIVA - REGULARIZAÇÃO FUNDIÁRIA E URBANIZAÇÃO</a:t>
            </a:r>
            <a:r>
              <a:rPr b="0" lang="en-GB" sz="2300" spc="-1" strike="noStrike">
                <a:solidFill>
                  <a:srgbClr val="000000"/>
                </a:solidFill>
                <a:latin typeface="Arial Unicode MS"/>
              </a:rPr>
              <a:t> dos assentamentos informais ocupados pela população de baixa renda eliminando as barreiras jurídicas, administrativas e territoriais que apartam esses assentamentos do conjunto da cidad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spcAft>
                <a:spcPts val="1437"/>
              </a:spcAft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 Unicode MS"/>
              </a:rPr>
              <a:t>DIMENSÃO PREVENTIVA - ACESSO À TERRA URBANIZADA </a:t>
            </a:r>
            <a:r>
              <a:rPr b="0" lang="en-GB" sz="2300" spc="-1" strike="noStrike">
                <a:solidFill>
                  <a:srgbClr val="000000"/>
                </a:solidFill>
                <a:latin typeface="Arial Unicode MS"/>
              </a:rPr>
              <a:t>para habitação de interesse social em locais sem riscos ambientais, com equipamentos urbanos e comunitários e próximos às áreas de trabalh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298160"/>
            <a:ext cx="9144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Unicode MS"/>
              </a:rPr>
              <a:t>O Estatuto da Cidade e o Plano Diretor Participativ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2136240"/>
            <a:ext cx="91440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700"/>
              </a:spcBef>
              <a:spcAft>
                <a:spcPts val="1500"/>
              </a:spcAft>
              <a:buNone/>
              <a:tabLst>
                <a:tab algn="l" pos="0"/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Princípio e diretriz do Plano Diretor Participativo (de acordo com o Estatuto da Cidad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2000"/>
              </a:lnSpc>
              <a:spcAft>
                <a:spcPts val="1500"/>
              </a:spcAft>
              <a:buClr>
                <a:srgbClr val="000000"/>
              </a:buClr>
              <a:buFont typeface="Arial Unicode MS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GESTÃO DEMOCRÁTICA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– O Plano Diretor Participativo, como pacto sócio-terri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2000"/>
              </a:lnSpc>
              <a:spcAft>
                <a:spcPts val="1500"/>
              </a:spcAft>
              <a:buClr>
                <a:srgbClr val="000000"/>
              </a:buClr>
              <a:buFont typeface="Arial Unicode MS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asso importante para a construção de uma esfera pública na cidade (cidadãos estabelecem coletivamente a regra de convivência/compartilhamento no/do territór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12000"/>
              </a:lnSpc>
              <a:spcAft>
                <a:spcPts val="1500"/>
              </a:spcAft>
              <a:buClr>
                <a:srgbClr val="000000"/>
              </a:buClr>
              <a:buFont typeface="Arial Unicode MS"/>
              <a:buChar char="•"/>
              <a:tabLst>
                <a:tab algn="l" pos="2872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86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Dimensão pública como propriedade coletiva dos cidadã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255320"/>
            <a:ext cx="91440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lano Diretor Participativ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2053800"/>
            <a:ext cx="914400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É obrigatório para as cida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 mais de 20.000 habitant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ertencentes a regiões metropolitanas e aglomerados urban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 áreas de especial interesse turístic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 áreas de influência de empreendimentos com significativo impacto ambient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queiram aplicar os instrumentos de parcelamento, edificação e utilização compulsórios, IPTU progressivo no tempo e desapropriação san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24632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Plano Diretor Participativo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2125440"/>
            <a:ext cx="91440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 o instrumento básico da política de desenvolvimento e expansão urban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 abranger o território do município como um todo, incluindo as zonas urbanas e rura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 orientar os orçamentos públicos subsequentes definidos democraticament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 ser elaborado, implementado e revisto a partir de processos de participação soci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 ser instituído através de Lei Municipal aprovada na Câmara Municipal de veread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335320"/>
            <a:ext cx="91440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7840" indent="0" algn="just">
              <a:buNone/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 Black"/>
              </a:rPr>
              <a:t>Os conteúdos do Plano Diretor Participativo é fruto do processo de pactuação sócio-territorial realizado na esfera pública local.</a:t>
            </a:r>
            <a:endParaRPr b="0" lang="en-US" sz="32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44332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Black"/>
              </a:rPr>
              <a:t>O planejamento e a gestão territorial no Brasil ocorrem em contexto marcado por pobreza, profundas desigualdades sócio-territoriais e grande concentração de riqueza e poder.</a:t>
            </a:r>
            <a:endParaRPr b="0" lang="en-US" sz="2600" spc="-1" strike="noStrike">
              <a:solidFill>
                <a:srgbClr val="333399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 algn="ctr">
              <a:buNone/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Padrão de urbanização excludente e predatóri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dadania ambígua e incompleta dos moradores de assentamentos urbanos informais, irregulares e ileg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ão e adensamento das periferias urbanas distantes produzindo assentamentos infra-equipados para os mais pob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ação de novos eixos de expansão urbana para a classe média e alta com geração de vazios urbanos e áreas sub-utili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doxo entre a escassez de terras e infra-estrutura para os mais pobres e a existência de terras e imóveis ociosos em áreas consolid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12480"/>
            <a:ext cx="9144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76040" indent="0" algn="ctr">
              <a:buNone/>
              <a:tabLst>
                <a:tab algn="l" pos="0"/>
                <a:tab algn="l" pos="176040"/>
                <a:tab algn="l" pos="623880"/>
                <a:tab algn="l" pos="1073160"/>
                <a:tab algn="l" pos="1522440"/>
                <a:tab algn="l" pos="1971720"/>
                <a:tab algn="l" pos="2421000"/>
                <a:tab algn="l" pos="2870280"/>
                <a:tab algn="l" pos="3319560"/>
                <a:tab algn="l" pos="3768840"/>
                <a:tab algn="l" pos="4218120"/>
                <a:tab algn="l" pos="4667400"/>
                <a:tab algn="l" pos="5116680"/>
                <a:tab algn="l" pos="5565600"/>
                <a:tab algn="l" pos="6014880"/>
                <a:tab algn="l" pos="6464160"/>
                <a:tab algn="l" pos="6913440"/>
                <a:tab algn="l" pos="7362720"/>
                <a:tab algn="l" pos="7812000"/>
                <a:tab algn="l" pos="8261280"/>
                <a:tab algn="l" pos="8710560"/>
                <a:tab algn="l" pos="9159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Insustentabilidade da urbanização excludente e predatória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redação dos recursos natur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co de enchentes, deslizamentos e eros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os deslocamentos dentro das c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ão sobre atividades agrícolas próximas das c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735120"/>
                <a:tab algn="l" pos="1184400"/>
                <a:tab algn="l" pos="1633680"/>
                <a:tab algn="l" pos="2082960"/>
                <a:tab algn="l" pos="2532240"/>
                <a:tab algn="l" pos="2981160"/>
                <a:tab algn="l" pos="3430440"/>
                <a:tab algn="l" pos="3879720"/>
                <a:tab algn="l" pos="4329000"/>
                <a:tab algn="l" pos="4778280"/>
                <a:tab algn="l" pos="5227560"/>
                <a:tab algn="l" pos="5676840"/>
                <a:tab algn="l" pos="6126120"/>
                <a:tab algn="l" pos="6576840"/>
                <a:tab algn="l" pos="7024680"/>
                <a:tab algn="l" pos="7473960"/>
                <a:tab algn="l" pos="7923240"/>
                <a:tab algn="l" pos="8372520"/>
                <a:tab algn="l" pos="8821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erdício de infra-estrutura, equipamentos e serviços urb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76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algn="ctr">
              <a:lnSpc>
                <a:spcPct val="100000"/>
              </a:lnSpc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Efeitos políticos da urbanização excludente e predat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17680"/>
            <a:ext cx="914400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serção ambígua dos territórios populares na cidade (indefinição patrimonial, urbanística e administrativ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iscricionariedade nos investimentos para a consolidação dos assentamentos (não é um direito líquido e certo mas uma opção do governan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sta é a base do clientelismo e da “cultura do favor” nas relações políticas: a obtenção de infra-estrutura, equipamentos e serviços urbanos é paga pelo vo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viabilidade na construção de uma esfera pública democrática e includ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31112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 Black"/>
              </a:rPr>
              <a:t>Planejamento e controle do uso e ocupação do solo tradicionais 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3000" indent="-333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ejamento, regulação e controle do uso e ocupação do solo dialoga somente com os mercados da “cidade formal”, cartografa esses mercados e portanto exclui o mercado popular (exemplo: zoneamento exclusivamente residencial unifamilia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apacidade para romper os ciclos de expansão periférica e ocupação das áreas ambientalmente frág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 no sentido de concentrar renda e oportunidades na mão de quem já 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255680"/>
            <a:ext cx="9144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Black"/>
              </a:rPr>
              <a:t>Interlocutores tradicionais nos processos de planejamento e regulação do solo até final dos anos 1980 </a:t>
            </a:r>
            <a:endParaRPr b="0" lang="en-US" sz="22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91440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ea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des proprietários de ter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orporadores imobiliá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resários da construção civ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issionais de arquitetura, urbanismo, direito, geografia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écnicos da administração públ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lamentares e assessores parlamentares – vereadores, deputados estaduais, deputados feder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74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tre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83760"/>
            <a:ext cx="91440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strução do novo marco jurídico urbanístic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599920"/>
            <a:ext cx="914400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écada de 198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mocrat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ítica aos modelos de política e planejamento urbano como objeto estritamente técnico e autoritá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esentação da Emenda Popular da Reforma Urbana para a Constituição Federal (baseada em 200.000 assinaturas) – Forum Nacional pela Reforma Urb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41040" bIns="41040" anchor="t">
            <a:noAutofit/>
          </a:bodyPr>
          <a:p>
            <a:pPr marL="177840" indent="-177840" algn="just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écada de 1990 e 2000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entralização e fortalecimento do município como ente da federa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rofundamento de experiências democráticas no planejamento e gestão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rovação do Estatuto da Cidade (Lei Federal 10.257, de 10 de julho de 200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resentação do Projeto de Lei de Iniciativa Popular para criação do Fundo e Sistema Nacional de Habitação de Interesse Social (baseado em 1.000.000 de assinsturas) – movimentos sociais de luta pela mora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625320"/>
                <a:tab algn="l" pos="1074600"/>
                <a:tab algn="l" pos="1523880"/>
                <a:tab algn="l" pos="1973160"/>
                <a:tab algn="l" pos="2422440"/>
                <a:tab algn="l" pos="2871720"/>
                <a:tab algn="l" pos="3321000"/>
                <a:tab algn="l" pos="3770280"/>
                <a:tab algn="l" pos="4219560"/>
                <a:tab algn="l" pos="4668840"/>
                <a:tab algn="l" pos="5118120"/>
                <a:tab algn="l" pos="5567400"/>
                <a:tab algn="l" pos="6016680"/>
                <a:tab algn="l" pos="6465960"/>
                <a:tab algn="l" pos="6915240"/>
                <a:tab algn="l" pos="7364520"/>
                <a:tab algn="l" pos="7813800"/>
                <a:tab algn="l" pos="8263080"/>
                <a:tab algn="l" pos="8712360"/>
                <a:tab algn="l" pos="9161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tituição Federal de 1988 – Capítulo de Política Urbana – Artigos 182 e 18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118548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lIns="78840" rIns="78840" tIns="41040" bIns="410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Construção do novo marco jurídico urbanístico</a:t>
            </a:r>
            <a:endParaRPr b="0" lang="en-US" sz="2800" spc="-1" strike="noStrike">
              <a:solidFill>
                <a:srgbClr val="333399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920" y="2209680"/>
            <a:ext cx="7799400" cy="3016440"/>
            <a:chOff x="304920" y="2209680"/>
            <a:chExt cx="7799400" cy="3016440"/>
          </a:xfrm>
        </p:grpSpPr>
        <p:sp>
          <p:nvSpPr>
            <p:cNvPr id="58" name=""/>
            <p:cNvSpPr/>
            <p:nvPr/>
          </p:nvSpPr>
          <p:spPr>
            <a:xfrm>
              <a:off x="304920" y="2209680"/>
              <a:ext cx="7799400" cy="3016440"/>
            </a:xfrm>
            <a:prstGeom prst="roundRect">
              <a:avLst>
                <a:gd name="adj" fmla="val 5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304920" y="2209680"/>
              <a:ext cx="7791480" cy="3007080"/>
              <a:chOff x="304920" y="2209680"/>
              <a:chExt cx="7791480" cy="3007080"/>
            </a:xfrm>
          </p:grpSpPr>
          <p:sp>
            <p:nvSpPr>
              <p:cNvPr id="60" name=""/>
              <p:cNvSpPr/>
              <p:nvPr/>
            </p:nvSpPr>
            <p:spPr>
              <a:xfrm>
                <a:off x="304920" y="2209680"/>
                <a:ext cx="7791480" cy="3007080"/>
              </a:xfrm>
              <a:prstGeom prst="roundRect">
                <a:avLst>
                  <a:gd name="adj" fmla="val 5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04920" y="2211120"/>
                <a:ext cx="7782120" cy="2999160"/>
                <a:chOff x="304920" y="2211120"/>
                <a:chExt cx="7782120" cy="29991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04920" y="2211120"/>
                  <a:ext cx="7782120" cy="2999160"/>
                </a:xfrm>
                <a:prstGeom prst="roundRect">
                  <a:avLst>
                    <a:gd name="adj" fmla="val 5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" name=""/>
                <p:cNvGrpSpPr/>
                <p:nvPr/>
              </p:nvGrpSpPr>
              <p:grpSpPr>
                <a:xfrm>
                  <a:off x="304920" y="2211120"/>
                  <a:ext cx="7776000" cy="2992680"/>
                  <a:chOff x="304920" y="2211120"/>
                  <a:chExt cx="7776000" cy="2992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304920" y="2211120"/>
                    <a:ext cx="7776000" cy="2992680"/>
                  </a:xfrm>
                  <a:prstGeom prst="roundRect">
                    <a:avLst>
                      <a:gd name="adj" fmla="val 5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306000" y="2211120"/>
                    <a:ext cx="720" cy="1731600"/>
                    <a:chOff x="306000" y="2211120"/>
                    <a:chExt cx="720" cy="173160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06000" y="2211120"/>
                      <a:ext cx="360" cy="156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46818000">
                          <a:moveTo>
                            <a:pt x="10800" y="0"/>
                          </a:moveTo>
                          <a:arcTo wR="10800" hR="10800" stAng="16200000" swAng="-5400000"/>
                          <a:lnTo>
                            <a:pt x="0" y="46807200"/>
                          </a:lnTo>
                          <a:arcTo wR="10800" hR="10800" stAng="10800000" swAng="-5400000"/>
                          <a:lnTo>
                            <a:pt x="10800" y="46818000"/>
                          </a:lnTo>
                          <a:arcTo wR="10800" hR="10800" stAng="5400000" swAng="-5400000"/>
                          <a:lnTo>
                            <a:pt x="21600" y="10800"/>
                          </a:lnTo>
                          <a:arcTo wR="10800" hR="10800" stAng="0" swAng="-5400000"/>
                          <a:close/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7" name=""/>
                    <p:cNvGrpSpPr/>
                    <p:nvPr/>
                  </p:nvGrpSpPr>
                  <p:grpSpPr>
                    <a:xfrm>
                      <a:off x="306000" y="2211120"/>
                      <a:ext cx="720" cy="1731600"/>
                      <a:chOff x="306000" y="2211120"/>
                      <a:chExt cx="720" cy="1731600"/>
                    </a:xfrm>
                  </p:grpSpPr>
                  <p:sp>
                    <p:nvSpPr>
                      <p:cNvPr id="68" name=""/>
                      <p:cNvSpPr/>
                      <p:nvPr/>
                    </p:nvSpPr>
                    <p:spPr>
                      <a:xfrm>
                        <a:off x="306000" y="2211120"/>
                        <a:ext cx="360" cy="155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600" h="46677600">
                            <a:moveTo>
                              <a:pt x="10800" y="0"/>
                            </a:moveTo>
                            <a:arcTo wR="10800" hR="10800" stAng="16200000" swAng="-5400000"/>
                            <a:lnTo>
                              <a:pt x="0" y="46666800"/>
                            </a:lnTo>
                            <a:arcTo wR="10800" hR="10800" stAng="10800000" swAng="-5400000"/>
                            <a:lnTo>
                              <a:pt x="10800" y="46677600"/>
                            </a:lnTo>
                            <a:arcTo wR="10800" hR="10800" stAng="5400000" swAng="-5400000"/>
                            <a:lnTo>
                              <a:pt x="21600" y="10800"/>
                            </a:lnTo>
                            <a:arcTo wR="10800" hR="10800" stAng="0" swAng="-5400000"/>
                            <a:close/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306000" y="2211120"/>
                        <a:ext cx="720" cy="1731600"/>
                        <a:chOff x="306000" y="2211120"/>
                        <a:chExt cx="720" cy="173160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306000" y="2211120"/>
                          <a:ext cx="360" cy="155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600" h="46580400">
                              <a:moveTo>
                                <a:pt x="10800" y="0"/>
                              </a:moveTo>
                              <a:arcTo wR="10800" hR="10800" stAng="16200000" swAng="-5400000"/>
                              <a:lnTo>
                                <a:pt x="0" y="46569600"/>
                              </a:lnTo>
                              <a:arcTo wR="10800" hR="10800" stAng="10800000" swAng="-5400000"/>
                              <a:lnTo>
                                <a:pt x="10800" y="46580400"/>
                              </a:lnTo>
                              <a:arcTo wR="10800" hR="10800" stAng="5400000" swAng="-5400000"/>
                              <a:lnTo>
                                <a:pt x="21600" y="10800"/>
                              </a:lnTo>
                              <a:arcTo wR="10800" hR="10800" stAng="0" swAng="-5400000"/>
                              <a:close/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1" name=""/>
                        <p:cNvGrpSpPr/>
                        <p:nvPr/>
                      </p:nvGrpSpPr>
                      <p:grpSpPr>
                        <a:xfrm>
                          <a:off x="306000" y="2211120"/>
                          <a:ext cx="720" cy="1731600"/>
                          <a:chOff x="306000" y="2211120"/>
                          <a:chExt cx="720" cy="1731600"/>
                        </a:xfrm>
                      </p:grpSpPr>
                      <p:sp>
                        <p:nvSpPr>
                          <p:cNvPr id="72" name=""/>
                          <p:cNvSpPr/>
                          <p:nvPr/>
                        </p:nvSpPr>
                        <p:spPr>
                          <a:xfrm>
                            <a:off x="306000" y="2211120"/>
                            <a:ext cx="360" cy="1550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00" h="46526400">
                                <a:moveTo>
                                  <a:pt x="10800" y="0"/>
                                </a:moveTo>
                                <a:arcTo wR="10800" hR="10800" stAng="16200000" swAng="-5400000"/>
                                <a:lnTo>
                                  <a:pt x="0" y="46515600"/>
                                </a:lnTo>
                                <a:arcTo wR="10800" hR="10800" stAng="10800000" swAng="-5400000"/>
                                <a:lnTo>
                                  <a:pt x="10800" y="46526400"/>
                                </a:lnTo>
                                <a:arcTo wR="10800" hR="10800" stAng="5400000" swAng="-5400000"/>
                                <a:lnTo>
                                  <a:pt x="21600" y="10800"/>
                                </a:lnTo>
                                <a:arcTo wR="10800" hR="10800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" name=""/>
                          <p:cNvSpPr/>
                          <p:nvPr/>
                        </p:nvSpPr>
                        <p:spPr>
                          <a:xfrm>
                            <a:off x="306000" y="2211120"/>
                            <a:ext cx="720" cy="1731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600" h="34639200">
                                <a:moveTo>
                                  <a:pt x="10800" y="0"/>
                                </a:moveTo>
                                <a:arcTo wR="10800" hR="10800" stAng="16200000" swAng="-5400000"/>
                                <a:lnTo>
                                  <a:pt x="0" y="34628400"/>
                                </a:lnTo>
                                <a:arcTo wR="10800" hR="10800" stAng="10800000" swAng="-5400000"/>
                                <a:lnTo>
                                  <a:pt x="10800" y="34639200"/>
                                </a:lnTo>
                                <a:arcTo wR="10800" hR="10800" stAng="5400000" swAng="-5400000"/>
                                <a:lnTo>
                                  <a:pt x="21600" y="10800"/>
                                </a:lnTo>
                                <a:arcTo wR="10800" hR="10800" stAng="0" swAng="-5400000"/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0" rIns="0" tIns="0" bIns="0" anchor="t">
                            <a:spAutoFit/>
                          </a:bodyPr>
                          <a:p>
                            <a:pPr>
                              <a:lnSpc>
                                <a:spcPct val="93000"/>
                              </a:lnSpc>
                              <a:tabLst>
                                <a:tab algn="l" pos="0"/>
                                <a:tab algn="l" pos="447840"/>
                                <a:tab algn="l" pos="896760"/>
                                <a:tab algn="l" pos="1346040"/>
                                <a:tab algn="l" pos="1795320"/>
                                <a:tab algn="l" pos="2244600"/>
                                <a:tab algn="l" pos="2693880"/>
                                <a:tab algn="l" pos="3143160"/>
                                <a:tab algn="l" pos="3592440"/>
                                <a:tab algn="l" pos="4041720"/>
                                <a:tab algn="l" pos="4491000"/>
                                <a:tab algn="l" pos="4940280"/>
                                <a:tab algn="l" pos="5389560"/>
                                <a:tab algn="l" pos="5838840"/>
                                <a:tab algn="l" pos="6288120"/>
                                <a:tab algn="l" pos="6737400"/>
                                <a:tab algn="l" pos="7186680"/>
                                <a:tab algn="l" pos="7635960"/>
                                <a:tab algn="l" pos="8085240"/>
                                <a:tab algn="l" pos="8534520"/>
                                <a:tab algn="l" pos="89838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2000"/>
                              </a:lnSpc>
                              <a:tabLst>
                                <a:tab algn="l" pos="0"/>
                                <a:tab algn="l" pos="447840"/>
                                <a:tab algn="l" pos="896760"/>
                                <a:tab algn="l" pos="1346040"/>
                                <a:tab algn="l" pos="1795320"/>
                                <a:tab algn="l" pos="2244600"/>
                                <a:tab algn="l" pos="2693880"/>
                                <a:tab algn="l" pos="3143160"/>
                                <a:tab algn="l" pos="3592440"/>
                                <a:tab algn="l" pos="4041720"/>
                                <a:tab algn="l" pos="4491000"/>
                                <a:tab algn="l" pos="4940280"/>
                                <a:tab algn="l" pos="5389560"/>
                                <a:tab algn="l" pos="5838840"/>
                                <a:tab algn="l" pos="6288120"/>
                                <a:tab algn="l" pos="6737400"/>
                                <a:tab algn="l" pos="7186680"/>
                                <a:tab algn="l" pos="7635960"/>
                                <a:tab algn="l" pos="8085240"/>
                                <a:tab algn="l" pos="8534520"/>
                                <a:tab algn="l" pos="89838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2000"/>
                              </a:lnSpc>
                              <a:tabLst>
                                <a:tab algn="l" pos="0"/>
                                <a:tab algn="l" pos="447840"/>
                                <a:tab algn="l" pos="896760"/>
                                <a:tab algn="l" pos="1346040"/>
                                <a:tab algn="l" pos="1795320"/>
                                <a:tab algn="l" pos="2244600"/>
                                <a:tab algn="l" pos="2693880"/>
                                <a:tab algn="l" pos="3143160"/>
                                <a:tab algn="l" pos="3592440"/>
                                <a:tab algn="l" pos="4041720"/>
                                <a:tab algn="l" pos="4491000"/>
                                <a:tab algn="l" pos="4940280"/>
                                <a:tab algn="l" pos="5389560"/>
                                <a:tab algn="l" pos="5838840"/>
                                <a:tab algn="l" pos="6288120"/>
                                <a:tab algn="l" pos="6737400"/>
                                <a:tab algn="l" pos="7186680"/>
                                <a:tab algn="l" pos="7635960"/>
                                <a:tab algn="l" pos="8085240"/>
                                <a:tab algn="l" pos="8534520"/>
                                <a:tab algn="l" pos="89838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2000"/>
                              </a:lnSpc>
                              <a:tabLst>
                                <a:tab algn="l" pos="0"/>
                                <a:tab algn="l" pos="447840"/>
                                <a:tab algn="l" pos="896760"/>
                                <a:tab algn="l" pos="1346040"/>
                                <a:tab algn="l" pos="1795320"/>
                                <a:tab algn="l" pos="2244600"/>
                                <a:tab algn="l" pos="2693880"/>
                                <a:tab algn="l" pos="3143160"/>
                                <a:tab algn="l" pos="3592440"/>
                                <a:tab algn="l" pos="4041720"/>
                                <a:tab algn="l" pos="4491000"/>
                                <a:tab algn="l" pos="4940280"/>
                                <a:tab algn="l" pos="5389560"/>
                                <a:tab algn="l" pos="5838840"/>
                                <a:tab algn="l" pos="6288120"/>
                                <a:tab algn="l" pos="6737400"/>
                                <a:tab algn="l" pos="7186680"/>
                                <a:tab algn="l" pos="7635960"/>
                                <a:tab algn="l" pos="8085240"/>
                                <a:tab algn="l" pos="8534520"/>
                                <a:tab algn="l" pos="89838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  <a:p>
                            <a:pPr>
                              <a:lnSpc>
                                <a:spcPct val="102000"/>
                              </a:lnSpc>
                              <a:tabLst>
                                <a:tab algn="l" pos="0"/>
                                <a:tab algn="l" pos="447840"/>
                                <a:tab algn="l" pos="896760"/>
                                <a:tab algn="l" pos="1346040"/>
                                <a:tab algn="l" pos="1795320"/>
                                <a:tab algn="l" pos="2244600"/>
                                <a:tab algn="l" pos="2693880"/>
                                <a:tab algn="l" pos="3143160"/>
                                <a:tab algn="l" pos="3592440"/>
                                <a:tab algn="l" pos="4041720"/>
                                <a:tab algn="l" pos="4491000"/>
                                <a:tab algn="l" pos="4940280"/>
                                <a:tab algn="l" pos="5389560"/>
                                <a:tab algn="l" pos="5838840"/>
                                <a:tab algn="l" pos="6288120"/>
                                <a:tab algn="l" pos="6737400"/>
                                <a:tab algn="l" pos="7186680"/>
                                <a:tab algn="l" pos="7635960"/>
                                <a:tab algn="l" pos="8085240"/>
                                <a:tab algn="l" pos="8534520"/>
                                <a:tab algn="l" pos="89838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1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borah.silva</cp:lastModifiedBy>
  <dcterms:modified xsi:type="dcterms:W3CDTF">2005-08-31T20:27:39Z</dcterms:modified>
  <cp:revision>18</cp:revision>
  <dc:subject/>
  <dc:title>Módulo I – UM NOVO CONCEITO E UMA NOVA METODOLOGIA DE  PLANO DIRETOR</dc:title>
</cp:coreProperties>
</file>